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125F-9EE7-4FAA-92D6-5E2A5D29F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C4C6-39E5-459D-88B5-74164455A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7B7C-2CA6-47D2-B4C8-653C13964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7885-30BA-476F-9401-0365F2811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11316-BC39-46CE-880C-70B118134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01316-F870-45AB-9805-AEA4FC10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B7913-CB17-44CE-99C4-885E7D935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87DB4-155C-49E0-80DD-B5710A9C4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2D0A9-15CA-4540-AE26-D047B9C1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CF84B-478D-405B-8654-9EC707721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4DB7B-448A-4C64-9A6A-0D9A70C4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E888F-A893-4992-B37C-6AEFB235E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9234D-E00B-41EE-9DB8-319449FD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E33F-3453-471D-A105-23817BB76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EC551-2D79-4464-B08A-D79DAABD2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0E99D-7DA8-4D73-B06A-2020C7B9C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2039-7645-4B56-86FD-46C8444187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Systems, Complexity, and Emergen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143000" y="2742840"/>
            <a:ext cx="7238880" cy="3048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 D. Palm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ER 200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80404</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palmer.nam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archonic.net http://holonomic.ne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System Partitions</a:t>
            </a:r>
            <a:endParaRPr b="0" lang="en-US" sz="4400" spc="-1" strike="noStrike">
              <a:solidFill>
                <a:srgbClr val="000000"/>
              </a:solidFill>
              <a:latin typeface="Arial"/>
            </a:endParaRPr>
          </a:p>
        </p:txBody>
      </p:sp>
      <p:sp>
        <p:nvSpPr>
          <p:cNvPr id="102" name=""/>
          <p:cNvSpPr/>
          <p:nvPr/>
        </p:nvSpPr>
        <p:spPr>
          <a:xfrm>
            <a:off x="685800" y="2057400"/>
            <a:ext cx="7162920" cy="2133720"/>
          </a:xfrm>
          <a:prstGeom prst="ellipse">
            <a:avLst/>
          </a:prstGeom>
          <a:noFill/>
          <a:ln w="7632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981080" y="304812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781680" y="3048120"/>
            <a:ext cx="15264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114800" y="5410080"/>
            <a:ext cx="60948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4191120" y="5410080"/>
            <a:ext cx="45720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114440" y="5562720"/>
            <a:ext cx="685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19720" y="5410080"/>
            <a:ext cx="7596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087640" y="3335400"/>
            <a:ext cx="1798560" cy="2303280"/>
          </a:xfrm>
          <a:custGeom>
            <a:avLst/>
            <a:gdLst/>
            <a:ahLst/>
            <a:rect l="l" t="t" r="r" b="b"/>
            <a:pathLst>
              <a:path w="1133" h="1451">
                <a:moveTo>
                  <a:pt x="1133" y="1451"/>
                </a:moveTo>
                <a:cubicBezTo>
                  <a:pt x="1014" y="1389"/>
                  <a:pt x="609" y="1319"/>
                  <a:pt x="420" y="1077"/>
                </a:cubicBezTo>
                <a:cubicBezTo>
                  <a:pt x="231" y="835"/>
                  <a:pt x="87" y="224"/>
                  <a:pt x="0" y="0"/>
                </a:cubicBezTo>
              </a:path>
            </a:pathLst>
          </a:custGeom>
          <a:noFill/>
          <a:ln w="381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876920" y="3367080"/>
            <a:ext cx="1965240" cy="2271600"/>
          </a:xfrm>
          <a:custGeom>
            <a:avLst/>
            <a:gdLst/>
            <a:ahLst/>
            <a:rect l="l" t="t" r="r" b="b"/>
            <a:pathLst>
              <a:path w="1238" h="1431">
                <a:moveTo>
                  <a:pt x="0" y="1431"/>
                </a:moveTo>
                <a:cubicBezTo>
                  <a:pt x="128" y="1361"/>
                  <a:pt x="564" y="1249"/>
                  <a:pt x="770" y="1010"/>
                </a:cubicBezTo>
                <a:cubicBezTo>
                  <a:pt x="976" y="771"/>
                  <a:pt x="1140" y="211"/>
                  <a:pt x="1238" y="0"/>
                </a:cubicBezTo>
              </a:path>
            </a:pathLst>
          </a:custGeom>
          <a:noFill/>
          <a:ln w="381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871800" y="232236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112" name=""/>
          <p:cNvSpPr/>
          <p:nvPr/>
        </p:nvSpPr>
        <p:spPr>
          <a:xfrm>
            <a:off x="3735720" y="3581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System</a:t>
            </a:r>
            <a:endParaRPr b="0" lang="en-US" sz="1800" spc="-1" strike="noStrike">
              <a:solidFill>
                <a:srgbClr val="000000"/>
              </a:solidFill>
              <a:latin typeface="Arial"/>
            </a:endParaRPr>
          </a:p>
        </p:txBody>
      </p:sp>
      <p:sp>
        <p:nvSpPr>
          <p:cNvPr id="113" name=""/>
          <p:cNvSpPr/>
          <p:nvPr/>
        </p:nvSpPr>
        <p:spPr>
          <a:xfrm>
            <a:off x="2054160" y="2514600"/>
            <a:ext cx="1755720" cy="604800"/>
          </a:xfrm>
          <a:custGeom>
            <a:avLst/>
            <a:gdLst/>
            <a:ahLst/>
            <a:rect l="l" t="t" r="r" b="b"/>
            <a:pathLst>
              <a:path w="1106" h="381">
                <a:moveTo>
                  <a:pt x="0" y="381"/>
                </a:moveTo>
                <a:cubicBezTo>
                  <a:pt x="17" y="366"/>
                  <a:pt x="34" y="335"/>
                  <a:pt x="98" y="288"/>
                </a:cubicBezTo>
                <a:cubicBezTo>
                  <a:pt x="162" y="241"/>
                  <a:pt x="218" y="144"/>
                  <a:pt x="386" y="96"/>
                </a:cubicBezTo>
                <a:cubicBezTo>
                  <a:pt x="554" y="48"/>
                  <a:pt x="830" y="24"/>
                  <a:pt x="1106" y="0"/>
                </a:cubicBezTo>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2057400" y="3124080"/>
            <a:ext cx="1755720" cy="604800"/>
          </a:xfrm>
          <a:custGeom>
            <a:avLst/>
            <a:gdLst/>
            <a:ahLst/>
            <a:rect l="l" t="t" r="r" b="b"/>
            <a:pathLst>
              <a:path w="1106" h="381">
                <a:moveTo>
                  <a:pt x="0" y="381"/>
                </a:moveTo>
                <a:cubicBezTo>
                  <a:pt x="17" y="366"/>
                  <a:pt x="34" y="335"/>
                  <a:pt x="98" y="288"/>
                </a:cubicBezTo>
                <a:cubicBezTo>
                  <a:pt x="162" y="241"/>
                  <a:pt x="218" y="144"/>
                  <a:pt x="386" y="96"/>
                </a:cubicBezTo>
                <a:cubicBezTo>
                  <a:pt x="554" y="48"/>
                  <a:pt x="830" y="24"/>
                  <a:pt x="1106" y="0"/>
                </a:cubicBezTo>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876920" y="2476440"/>
            <a:ext cx="1828800" cy="495360"/>
          </a:xfrm>
          <a:custGeom>
            <a:avLst/>
            <a:gdLst/>
            <a:ahLst/>
            <a:rect l="l" t="t" r="r" b="b"/>
            <a:pathLst>
              <a:path w="1248" h="408">
                <a:moveTo>
                  <a:pt x="0" y="24"/>
                </a:moveTo>
                <a:cubicBezTo>
                  <a:pt x="156" y="12"/>
                  <a:pt x="312" y="0"/>
                  <a:pt x="480" y="24"/>
                </a:cubicBezTo>
                <a:cubicBezTo>
                  <a:pt x="648" y="48"/>
                  <a:pt x="880" y="104"/>
                  <a:pt x="1008" y="168"/>
                </a:cubicBezTo>
                <a:cubicBezTo>
                  <a:pt x="1136" y="232"/>
                  <a:pt x="1192" y="320"/>
                  <a:pt x="1248" y="408"/>
                </a:cubicBezTo>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5105520" y="3199680"/>
            <a:ext cx="1600200" cy="609480"/>
          </a:xfrm>
          <a:custGeom>
            <a:avLst/>
            <a:gdLst/>
            <a:ahLst/>
            <a:rect l="l" t="t" r="r" b="b"/>
            <a:pathLst>
              <a:path w="1248" h="408">
                <a:moveTo>
                  <a:pt x="0" y="24"/>
                </a:moveTo>
                <a:cubicBezTo>
                  <a:pt x="156" y="12"/>
                  <a:pt x="312" y="0"/>
                  <a:pt x="480" y="24"/>
                </a:cubicBezTo>
                <a:cubicBezTo>
                  <a:pt x="648" y="48"/>
                  <a:pt x="880" y="104"/>
                  <a:pt x="1008" y="168"/>
                </a:cubicBezTo>
                <a:cubicBezTo>
                  <a:pt x="1136" y="232"/>
                  <a:pt x="1192" y="320"/>
                  <a:pt x="1248" y="408"/>
                </a:cubicBezTo>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96360" y="29322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t>
            </a:r>
            <a:endParaRPr b="0" lang="en-US" sz="1800" spc="-1" strike="noStrike">
              <a:solidFill>
                <a:srgbClr val="000000"/>
              </a:solidFill>
              <a:latin typeface="Arial"/>
            </a:endParaRPr>
          </a:p>
        </p:txBody>
      </p:sp>
      <p:sp>
        <p:nvSpPr>
          <p:cNvPr id="118" name=""/>
          <p:cNvSpPr/>
          <p:nvPr/>
        </p:nvSpPr>
        <p:spPr>
          <a:xfrm>
            <a:off x="6920640" y="29322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k</a:t>
            </a:r>
            <a:endParaRPr b="0" lang="en-US" sz="1800" spc="-1" strike="noStrike">
              <a:solidFill>
                <a:srgbClr val="000000"/>
              </a:solidFill>
              <a:latin typeface="Arial"/>
            </a:endParaRPr>
          </a:p>
        </p:txBody>
      </p:sp>
      <p:sp>
        <p:nvSpPr>
          <p:cNvPr id="119" name=""/>
          <p:cNvSpPr/>
          <p:nvPr/>
        </p:nvSpPr>
        <p:spPr>
          <a:xfrm>
            <a:off x="5091840" y="55990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sp>
        <p:nvSpPr>
          <p:cNvPr id="120" name=""/>
          <p:cNvSpPr/>
          <p:nvPr/>
        </p:nvSpPr>
        <p:spPr>
          <a:xfrm>
            <a:off x="7391520" y="1486080"/>
            <a:ext cx="1295280" cy="60948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a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a:t>
            </a:r>
            <a:endParaRPr b="0" lang="en-US" sz="1800" spc="-1" strike="noStrike">
              <a:solidFill>
                <a:srgbClr val="000000"/>
              </a:solidFill>
              <a:latin typeface="Arial"/>
            </a:endParaRPr>
          </a:p>
        </p:txBody>
      </p:sp>
      <p:sp>
        <p:nvSpPr>
          <p:cNvPr id="121" name=""/>
          <p:cNvSpPr/>
          <p:nvPr/>
        </p:nvSpPr>
        <p:spPr>
          <a:xfrm>
            <a:off x="764280" y="28954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ual / Conceptual</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al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2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gestal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flow</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Scape</a:t>
            </a:r>
            <a:endParaRPr b="0" lang="en-US" sz="4400" spc="-1" strike="noStrike">
              <a:solidFill>
                <a:srgbClr val="000000"/>
              </a:solidFill>
              <a:latin typeface="Arial"/>
            </a:endParaRPr>
          </a:p>
        </p:txBody>
      </p:sp>
      <p:sp>
        <p:nvSpPr>
          <p:cNvPr id="126" name=""/>
          <p:cNvSpPr/>
          <p:nvPr/>
        </p:nvSpPr>
        <p:spPr>
          <a:xfrm>
            <a:off x="533520" y="4381560"/>
            <a:ext cx="8305560" cy="1574640"/>
          </a:xfrm>
          <a:custGeom>
            <a:avLst/>
            <a:gdLst/>
            <a:ahLst/>
            <a:rect l="l" t="t" r="r" b="b"/>
            <a:pathLst>
              <a:path w="5232" h="992">
                <a:moveTo>
                  <a:pt x="0" y="840"/>
                </a:moveTo>
                <a:cubicBezTo>
                  <a:pt x="164" y="844"/>
                  <a:pt x="328" y="848"/>
                  <a:pt x="432" y="840"/>
                </a:cubicBezTo>
                <a:cubicBezTo>
                  <a:pt x="536" y="832"/>
                  <a:pt x="488" y="840"/>
                  <a:pt x="624" y="792"/>
                </a:cubicBezTo>
                <a:cubicBezTo>
                  <a:pt x="760" y="744"/>
                  <a:pt x="1024" y="672"/>
                  <a:pt x="1248" y="552"/>
                </a:cubicBezTo>
                <a:cubicBezTo>
                  <a:pt x="1472" y="432"/>
                  <a:pt x="1704" y="144"/>
                  <a:pt x="1968" y="72"/>
                </a:cubicBezTo>
                <a:cubicBezTo>
                  <a:pt x="2232" y="0"/>
                  <a:pt x="2560" y="24"/>
                  <a:pt x="2832" y="120"/>
                </a:cubicBezTo>
                <a:cubicBezTo>
                  <a:pt x="3104" y="216"/>
                  <a:pt x="3272" y="512"/>
                  <a:pt x="3600" y="648"/>
                </a:cubicBezTo>
                <a:cubicBezTo>
                  <a:pt x="3928" y="784"/>
                  <a:pt x="4528" y="880"/>
                  <a:pt x="4800" y="936"/>
                </a:cubicBezTo>
                <a:cubicBezTo>
                  <a:pt x="5072" y="992"/>
                  <a:pt x="5160" y="976"/>
                  <a:pt x="5232" y="984"/>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191120" y="3048120"/>
            <a:ext cx="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14800" y="29718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920" y="1716120"/>
            <a:ext cx="8534160" cy="2932200"/>
          </a:xfrm>
          <a:custGeom>
            <a:avLst/>
            <a:gdLst/>
            <a:ahLst/>
            <a:rect l="l" t="t" r="r" b="b"/>
            <a:pathLst>
              <a:path w="5376" h="1847">
                <a:moveTo>
                  <a:pt x="0" y="1367"/>
                </a:moveTo>
                <a:cubicBezTo>
                  <a:pt x="28" y="1291"/>
                  <a:pt x="56" y="1215"/>
                  <a:pt x="144" y="1127"/>
                </a:cubicBezTo>
                <a:cubicBezTo>
                  <a:pt x="232" y="1039"/>
                  <a:pt x="384" y="935"/>
                  <a:pt x="528" y="839"/>
                </a:cubicBezTo>
                <a:cubicBezTo>
                  <a:pt x="672" y="743"/>
                  <a:pt x="840" y="647"/>
                  <a:pt x="1008" y="551"/>
                </a:cubicBezTo>
                <a:cubicBezTo>
                  <a:pt x="1176" y="455"/>
                  <a:pt x="1257" y="353"/>
                  <a:pt x="1536" y="263"/>
                </a:cubicBezTo>
                <a:cubicBezTo>
                  <a:pt x="1815" y="173"/>
                  <a:pt x="2346" y="20"/>
                  <a:pt x="2681" y="10"/>
                </a:cubicBezTo>
                <a:cubicBezTo>
                  <a:pt x="3016" y="0"/>
                  <a:pt x="3260" y="102"/>
                  <a:pt x="3549" y="200"/>
                </a:cubicBezTo>
                <a:cubicBezTo>
                  <a:pt x="3838" y="298"/>
                  <a:pt x="4168" y="437"/>
                  <a:pt x="4416" y="599"/>
                </a:cubicBezTo>
                <a:cubicBezTo>
                  <a:pt x="4664" y="761"/>
                  <a:pt x="4880" y="967"/>
                  <a:pt x="5040" y="1175"/>
                </a:cubicBezTo>
                <a:cubicBezTo>
                  <a:pt x="5200" y="1383"/>
                  <a:pt x="5320" y="1735"/>
                  <a:pt x="5376" y="1847"/>
                </a:cubicBezTo>
              </a:path>
            </a:pathLst>
          </a:custGeom>
          <a:noFill/>
          <a:ln w="572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478560" y="1828800"/>
            <a:ext cx="123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a:t>
            </a:r>
            <a:endParaRPr b="0" lang="en-US" sz="1800" spc="-1" strike="noStrike">
              <a:solidFill>
                <a:srgbClr val="000000"/>
              </a:solidFill>
              <a:latin typeface="Arial"/>
            </a:endParaRPr>
          </a:p>
        </p:txBody>
      </p:sp>
      <p:sp>
        <p:nvSpPr>
          <p:cNvPr id="131" name=""/>
          <p:cNvSpPr/>
          <p:nvPr/>
        </p:nvSpPr>
        <p:spPr>
          <a:xfrm flipV="1">
            <a:off x="4267080" y="2438280"/>
            <a:ext cx="2286000" cy="990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153880" y="262728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33" name=""/>
          <p:cNvSpPr/>
          <p:nvPr/>
        </p:nvSpPr>
        <p:spPr>
          <a:xfrm>
            <a:off x="1296360" y="46483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34" name=""/>
          <p:cNvSpPr/>
          <p:nvPr/>
        </p:nvSpPr>
        <p:spPr>
          <a:xfrm>
            <a:off x="1524960" y="32004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35" name=""/>
          <p:cNvSpPr/>
          <p:nvPr/>
        </p:nvSpPr>
        <p:spPr>
          <a:xfrm>
            <a:off x="2210760" y="37339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36" name=""/>
          <p:cNvSpPr/>
          <p:nvPr/>
        </p:nvSpPr>
        <p:spPr>
          <a:xfrm flipH="1">
            <a:off x="1828800" y="2971800"/>
            <a:ext cx="3808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05120" y="358128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1599840" y="4038480"/>
            <a:ext cx="685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2514240" y="2971800"/>
            <a:ext cx="16002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1980720" y="3429000"/>
            <a:ext cx="21337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2590560" y="3429000"/>
            <a:ext cx="16002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752480" y="3429000"/>
            <a:ext cx="243864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txBox="1"/>
          <p:nvPr/>
        </p:nvSpPr>
        <p:spPr>
          <a:xfrm rot="20244000">
            <a:off x="4723920" y="2971440"/>
            <a:ext cx="1704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CAPE</a:t>
            </a:r>
            <a:endParaRPr b="0" lang="en-US" sz="1800" spc="1" strike="noStrike">
              <a:ln w="9360">
                <a:solidFill>
                  <a:srgbClr val="000000"/>
                </a:solidFill>
                <a:miter/>
              </a:ln>
              <a:solidFill>
                <a:srgbClr val="ffffff"/>
              </a:solidFill>
              <a:latin typeface="Arial Black"/>
              <a:ea typeface="Arial Black"/>
            </a:endParaRPr>
          </a:p>
        </p:txBody>
      </p:sp>
      <p:sp>
        <p:nvSpPr>
          <p:cNvPr id="144" name=""/>
          <p:cNvSpPr/>
          <p:nvPr/>
        </p:nvSpPr>
        <p:spPr>
          <a:xfrm>
            <a:off x="3202920" y="4648320"/>
            <a:ext cx="1944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ov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oint of view</a:t>
            </a:r>
            <a:endParaRPr b="0" lang="en-US" sz="1800" spc="-1" strike="noStrike">
              <a:solidFill>
                <a:srgbClr val="000000"/>
              </a:solidFill>
              <a:latin typeface="Arial"/>
            </a:endParaRPr>
          </a:p>
        </p:txBody>
      </p:sp>
      <p:sp>
        <p:nvSpPr>
          <p:cNvPr id="145" name=""/>
          <p:cNvSpPr/>
          <p:nvPr/>
        </p:nvSpPr>
        <p:spPr>
          <a:xfrm>
            <a:off x="3022560" y="2819520"/>
            <a:ext cx="406440" cy="1447560"/>
          </a:xfrm>
          <a:custGeom>
            <a:avLst/>
            <a:gdLst/>
            <a:ahLst/>
            <a:rect l="l" t="t" r="r" b="b"/>
            <a:pathLst>
              <a:path w="256" h="912">
                <a:moveTo>
                  <a:pt x="208" y="0"/>
                </a:moveTo>
                <a:cubicBezTo>
                  <a:pt x="176" y="24"/>
                  <a:pt x="144" y="48"/>
                  <a:pt x="112" y="96"/>
                </a:cubicBezTo>
                <a:cubicBezTo>
                  <a:pt x="80" y="144"/>
                  <a:pt x="32" y="224"/>
                  <a:pt x="16" y="288"/>
                </a:cubicBezTo>
                <a:cubicBezTo>
                  <a:pt x="0" y="352"/>
                  <a:pt x="8" y="424"/>
                  <a:pt x="16" y="480"/>
                </a:cubicBezTo>
                <a:cubicBezTo>
                  <a:pt x="24" y="536"/>
                  <a:pt x="48" y="576"/>
                  <a:pt x="64" y="624"/>
                </a:cubicBezTo>
                <a:cubicBezTo>
                  <a:pt x="80" y="672"/>
                  <a:pt x="80" y="720"/>
                  <a:pt x="112" y="768"/>
                </a:cubicBezTo>
                <a:cubicBezTo>
                  <a:pt x="144" y="816"/>
                  <a:pt x="232" y="888"/>
                  <a:pt x="256" y="912"/>
                </a:cubicBezTo>
              </a:path>
            </a:pathLst>
          </a:custGeom>
          <a:noFill/>
          <a:ln w="57240">
            <a:solidFill>
              <a:srgbClr val="000000"/>
            </a:solidFill>
            <a:prstDash val="sysDot"/>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
          <p:cNvSpPr/>
          <p:nvPr/>
        </p:nvSpPr>
        <p:spPr>
          <a:xfrm>
            <a:off x="3173040" y="255096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000000"/>
              </a:solidFill>
              <a:latin typeface="Arial"/>
            </a:endParaRPr>
          </a:p>
        </p:txBody>
      </p:sp>
      <p:sp>
        <p:nvSpPr>
          <p:cNvPr id="147" name=""/>
          <p:cNvSpPr/>
          <p:nvPr/>
        </p:nvSpPr>
        <p:spPr>
          <a:xfrm>
            <a:off x="6936120" y="6095880"/>
            <a:ext cx="193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Proto-gesta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Gesta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alt vs Flow</a:t>
            </a:r>
            <a:endParaRPr b="0" lang="en-US" sz="4400" spc="-1" strike="noStrike">
              <a:solidFill>
                <a:srgbClr val="000000"/>
              </a:solidFill>
              <a:latin typeface="Arial"/>
            </a:endParaRPr>
          </a:p>
        </p:txBody>
      </p:sp>
      <p:sp>
        <p:nvSpPr>
          <p:cNvPr id="149" name=""/>
          <p:cNvSpPr/>
          <p:nvPr/>
        </p:nvSpPr>
        <p:spPr>
          <a:xfrm>
            <a:off x="990720" y="2514600"/>
            <a:ext cx="2743200" cy="2666880"/>
          </a:xfrm>
          <a:custGeom>
            <a:avLst/>
            <a:gdLst/>
            <a:ahLst/>
            <a:rect l="l" t="t" r="r" b="b"/>
            <a:pathLst>
              <a:path w="4066" h="3319">
                <a:moveTo>
                  <a:pt x="224" y="724"/>
                </a:moveTo>
                <a:cubicBezTo>
                  <a:pt x="226" y="644"/>
                  <a:pt x="207" y="559"/>
                  <a:pt x="235" y="484"/>
                </a:cubicBezTo>
                <a:cubicBezTo>
                  <a:pt x="258" y="422"/>
                  <a:pt x="330" y="380"/>
                  <a:pt x="389" y="359"/>
                </a:cubicBezTo>
                <a:cubicBezTo>
                  <a:pt x="451" y="364"/>
                  <a:pt x="506" y="371"/>
                  <a:pt x="566" y="382"/>
                </a:cubicBezTo>
                <a:cubicBezTo>
                  <a:pt x="618" y="407"/>
                  <a:pt x="615" y="398"/>
                  <a:pt x="692" y="393"/>
                </a:cubicBezTo>
                <a:cubicBezTo>
                  <a:pt x="733" y="382"/>
                  <a:pt x="770" y="358"/>
                  <a:pt x="811" y="347"/>
                </a:cubicBezTo>
                <a:cubicBezTo>
                  <a:pt x="824" y="343"/>
                  <a:pt x="851" y="336"/>
                  <a:pt x="851" y="336"/>
                </a:cubicBezTo>
                <a:cubicBezTo>
                  <a:pt x="881" y="316"/>
                  <a:pt x="889" y="313"/>
                  <a:pt x="920" y="302"/>
                </a:cubicBezTo>
                <a:cubicBezTo>
                  <a:pt x="965" y="270"/>
                  <a:pt x="944" y="278"/>
                  <a:pt x="977" y="268"/>
                </a:cubicBezTo>
                <a:cubicBezTo>
                  <a:pt x="992" y="252"/>
                  <a:pt x="1008" y="246"/>
                  <a:pt x="1028" y="239"/>
                </a:cubicBezTo>
                <a:cubicBezTo>
                  <a:pt x="1086" y="196"/>
                  <a:pt x="1152" y="184"/>
                  <a:pt x="1222" y="171"/>
                </a:cubicBezTo>
                <a:cubicBezTo>
                  <a:pt x="1355" y="174"/>
                  <a:pt x="1473" y="184"/>
                  <a:pt x="1604" y="171"/>
                </a:cubicBezTo>
                <a:cubicBezTo>
                  <a:pt x="1646" y="160"/>
                  <a:pt x="1687" y="149"/>
                  <a:pt x="1730" y="142"/>
                </a:cubicBezTo>
                <a:cubicBezTo>
                  <a:pt x="1781" y="124"/>
                  <a:pt x="1836" y="109"/>
                  <a:pt x="1884" y="85"/>
                </a:cubicBezTo>
                <a:cubicBezTo>
                  <a:pt x="1932" y="61"/>
                  <a:pt x="1972" y="41"/>
                  <a:pt x="2026" y="34"/>
                </a:cubicBezTo>
                <a:cubicBezTo>
                  <a:pt x="2065" y="20"/>
                  <a:pt x="2105" y="9"/>
                  <a:pt x="2146" y="0"/>
                </a:cubicBezTo>
                <a:cubicBezTo>
                  <a:pt x="2199" y="2"/>
                  <a:pt x="2253" y="1"/>
                  <a:pt x="2306" y="5"/>
                </a:cubicBezTo>
                <a:cubicBezTo>
                  <a:pt x="2342" y="8"/>
                  <a:pt x="2379" y="29"/>
                  <a:pt x="2414" y="39"/>
                </a:cubicBezTo>
                <a:cubicBezTo>
                  <a:pt x="2445" y="48"/>
                  <a:pt x="2469" y="66"/>
                  <a:pt x="2500" y="74"/>
                </a:cubicBezTo>
                <a:cubicBezTo>
                  <a:pt x="2513" y="78"/>
                  <a:pt x="2539" y="85"/>
                  <a:pt x="2539" y="85"/>
                </a:cubicBezTo>
                <a:cubicBezTo>
                  <a:pt x="2547" y="91"/>
                  <a:pt x="2553" y="98"/>
                  <a:pt x="2562" y="102"/>
                </a:cubicBezTo>
                <a:cubicBezTo>
                  <a:pt x="2569" y="106"/>
                  <a:pt x="2579" y="103"/>
                  <a:pt x="2585" y="108"/>
                </a:cubicBezTo>
                <a:cubicBezTo>
                  <a:pt x="2590" y="112"/>
                  <a:pt x="2587" y="120"/>
                  <a:pt x="2591" y="125"/>
                </a:cubicBezTo>
                <a:cubicBezTo>
                  <a:pt x="2599" y="136"/>
                  <a:pt x="2619" y="154"/>
                  <a:pt x="2619" y="154"/>
                </a:cubicBezTo>
                <a:cubicBezTo>
                  <a:pt x="2947" y="138"/>
                  <a:pt x="3314" y="61"/>
                  <a:pt x="3623" y="182"/>
                </a:cubicBezTo>
                <a:cubicBezTo>
                  <a:pt x="3680" y="259"/>
                  <a:pt x="3593" y="147"/>
                  <a:pt x="3669" y="222"/>
                </a:cubicBezTo>
                <a:cubicBezTo>
                  <a:pt x="3693" y="245"/>
                  <a:pt x="3683" y="257"/>
                  <a:pt x="3714" y="268"/>
                </a:cubicBezTo>
                <a:cubicBezTo>
                  <a:pt x="3731" y="284"/>
                  <a:pt x="3743" y="303"/>
                  <a:pt x="3760" y="319"/>
                </a:cubicBezTo>
                <a:cubicBezTo>
                  <a:pt x="3766" y="335"/>
                  <a:pt x="3769" y="356"/>
                  <a:pt x="3777" y="370"/>
                </a:cubicBezTo>
                <a:cubicBezTo>
                  <a:pt x="3787" y="387"/>
                  <a:pt x="3789" y="378"/>
                  <a:pt x="3800" y="393"/>
                </a:cubicBezTo>
                <a:cubicBezTo>
                  <a:pt x="3816" y="416"/>
                  <a:pt x="3822" y="435"/>
                  <a:pt x="3828" y="461"/>
                </a:cubicBezTo>
                <a:cubicBezTo>
                  <a:pt x="3819" y="554"/>
                  <a:pt x="3789" y="607"/>
                  <a:pt x="3754" y="690"/>
                </a:cubicBezTo>
                <a:cubicBezTo>
                  <a:pt x="3761" y="801"/>
                  <a:pt x="3749" y="914"/>
                  <a:pt x="3851" y="980"/>
                </a:cubicBezTo>
                <a:cubicBezTo>
                  <a:pt x="3872" y="993"/>
                  <a:pt x="3884" y="1013"/>
                  <a:pt x="3908" y="1020"/>
                </a:cubicBezTo>
                <a:cubicBezTo>
                  <a:pt x="3917" y="1029"/>
                  <a:pt x="3921" y="1041"/>
                  <a:pt x="3931" y="1049"/>
                </a:cubicBezTo>
                <a:cubicBezTo>
                  <a:pt x="3938" y="1054"/>
                  <a:pt x="3947" y="1056"/>
                  <a:pt x="3954" y="1060"/>
                </a:cubicBezTo>
                <a:cubicBezTo>
                  <a:pt x="3960" y="1063"/>
                  <a:pt x="3966" y="1067"/>
                  <a:pt x="3971" y="1072"/>
                </a:cubicBezTo>
                <a:cubicBezTo>
                  <a:pt x="3989" y="1087"/>
                  <a:pt x="4000" y="1107"/>
                  <a:pt x="4017" y="1123"/>
                </a:cubicBezTo>
                <a:cubicBezTo>
                  <a:pt x="4066" y="1347"/>
                  <a:pt x="4027" y="1161"/>
                  <a:pt x="4017" y="1767"/>
                </a:cubicBezTo>
                <a:cubicBezTo>
                  <a:pt x="4016" y="1847"/>
                  <a:pt x="3986" y="1971"/>
                  <a:pt x="3959" y="2047"/>
                </a:cubicBezTo>
                <a:cubicBezTo>
                  <a:pt x="3916" y="2169"/>
                  <a:pt x="3950" y="2310"/>
                  <a:pt x="3845" y="2406"/>
                </a:cubicBezTo>
                <a:cubicBezTo>
                  <a:pt x="3839" y="2427"/>
                  <a:pt x="3804" y="2450"/>
                  <a:pt x="3783" y="2463"/>
                </a:cubicBezTo>
                <a:cubicBezTo>
                  <a:pt x="3766" y="2487"/>
                  <a:pt x="3749" y="2491"/>
                  <a:pt x="3726" y="2509"/>
                </a:cubicBezTo>
                <a:cubicBezTo>
                  <a:pt x="3691" y="2536"/>
                  <a:pt x="3660" y="2581"/>
                  <a:pt x="3617" y="2594"/>
                </a:cubicBezTo>
                <a:cubicBezTo>
                  <a:pt x="3602" y="2618"/>
                  <a:pt x="3590" y="2614"/>
                  <a:pt x="3566" y="2629"/>
                </a:cubicBezTo>
                <a:cubicBezTo>
                  <a:pt x="3545" y="2642"/>
                  <a:pt x="3526" y="2661"/>
                  <a:pt x="3503" y="2669"/>
                </a:cubicBezTo>
                <a:cubicBezTo>
                  <a:pt x="3495" y="2676"/>
                  <a:pt x="3488" y="2683"/>
                  <a:pt x="3480" y="2691"/>
                </a:cubicBezTo>
                <a:cubicBezTo>
                  <a:pt x="3470" y="2701"/>
                  <a:pt x="3452" y="2720"/>
                  <a:pt x="3452" y="2720"/>
                </a:cubicBezTo>
                <a:cubicBezTo>
                  <a:pt x="3429" y="2695"/>
                  <a:pt x="3407" y="2725"/>
                  <a:pt x="3383" y="2737"/>
                </a:cubicBezTo>
                <a:cubicBezTo>
                  <a:pt x="3355" y="2781"/>
                  <a:pt x="3337" y="2839"/>
                  <a:pt x="3292" y="2868"/>
                </a:cubicBezTo>
                <a:cubicBezTo>
                  <a:pt x="3277" y="2892"/>
                  <a:pt x="3260" y="2892"/>
                  <a:pt x="3235" y="2908"/>
                </a:cubicBezTo>
                <a:cubicBezTo>
                  <a:pt x="3215" y="2921"/>
                  <a:pt x="3207" y="2935"/>
                  <a:pt x="3184" y="2942"/>
                </a:cubicBezTo>
                <a:cubicBezTo>
                  <a:pt x="3150" y="2976"/>
                  <a:pt x="3105" y="2992"/>
                  <a:pt x="3064" y="3016"/>
                </a:cubicBezTo>
                <a:cubicBezTo>
                  <a:pt x="3052" y="3023"/>
                  <a:pt x="3043" y="3036"/>
                  <a:pt x="3030" y="3039"/>
                </a:cubicBezTo>
                <a:cubicBezTo>
                  <a:pt x="2986" y="3048"/>
                  <a:pt x="3011" y="3044"/>
                  <a:pt x="2956" y="3051"/>
                </a:cubicBezTo>
                <a:cubicBezTo>
                  <a:pt x="2846" y="3093"/>
                  <a:pt x="2949" y="3072"/>
                  <a:pt x="2705" y="3079"/>
                </a:cubicBezTo>
                <a:cubicBezTo>
                  <a:pt x="2701" y="3083"/>
                  <a:pt x="2696" y="3086"/>
                  <a:pt x="2693" y="3091"/>
                </a:cubicBezTo>
                <a:cubicBezTo>
                  <a:pt x="2690" y="3096"/>
                  <a:pt x="2692" y="3103"/>
                  <a:pt x="2688" y="3108"/>
                </a:cubicBezTo>
                <a:cubicBezTo>
                  <a:pt x="2679" y="3119"/>
                  <a:pt x="2654" y="3134"/>
                  <a:pt x="2642" y="3142"/>
                </a:cubicBezTo>
                <a:cubicBezTo>
                  <a:pt x="2625" y="3177"/>
                  <a:pt x="2595" y="3243"/>
                  <a:pt x="2557" y="3256"/>
                </a:cubicBezTo>
                <a:cubicBezTo>
                  <a:pt x="2553" y="3260"/>
                  <a:pt x="2550" y="3268"/>
                  <a:pt x="2545" y="3267"/>
                </a:cubicBezTo>
                <a:cubicBezTo>
                  <a:pt x="2519" y="3262"/>
                  <a:pt x="2497" y="3244"/>
                  <a:pt x="2471" y="3239"/>
                </a:cubicBezTo>
                <a:cubicBezTo>
                  <a:pt x="2412" y="3210"/>
                  <a:pt x="2449" y="3226"/>
                  <a:pt x="2357" y="3199"/>
                </a:cubicBezTo>
                <a:cubicBezTo>
                  <a:pt x="2340" y="3194"/>
                  <a:pt x="2323" y="3188"/>
                  <a:pt x="2306" y="3182"/>
                </a:cubicBezTo>
                <a:cubicBezTo>
                  <a:pt x="2294" y="3178"/>
                  <a:pt x="2271" y="3170"/>
                  <a:pt x="2271" y="3170"/>
                </a:cubicBezTo>
                <a:cubicBezTo>
                  <a:pt x="2255" y="3117"/>
                  <a:pt x="2190" y="3121"/>
                  <a:pt x="2146" y="3108"/>
                </a:cubicBezTo>
                <a:cubicBezTo>
                  <a:pt x="2148" y="3096"/>
                  <a:pt x="2158" y="3083"/>
                  <a:pt x="2152" y="3073"/>
                </a:cubicBezTo>
                <a:cubicBezTo>
                  <a:pt x="2148" y="3066"/>
                  <a:pt x="2137" y="3079"/>
                  <a:pt x="2129" y="3079"/>
                </a:cubicBezTo>
                <a:cubicBezTo>
                  <a:pt x="2101" y="3079"/>
                  <a:pt x="2099" y="3068"/>
                  <a:pt x="2072" y="3062"/>
                </a:cubicBezTo>
                <a:cubicBezTo>
                  <a:pt x="2051" y="3057"/>
                  <a:pt x="2009" y="3051"/>
                  <a:pt x="2009" y="3051"/>
                </a:cubicBezTo>
                <a:cubicBezTo>
                  <a:pt x="1984" y="3056"/>
                  <a:pt x="1957" y="3055"/>
                  <a:pt x="1935" y="3068"/>
                </a:cubicBezTo>
                <a:cubicBezTo>
                  <a:pt x="1909" y="3083"/>
                  <a:pt x="1885" y="3117"/>
                  <a:pt x="1861" y="3130"/>
                </a:cubicBezTo>
                <a:cubicBezTo>
                  <a:pt x="1827" y="3148"/>
                  <a:pt x="1789" y="3166"/>
                  <a:pt x="1752" y="3176"/>
                </a:cubicBezTo>
                <a:cubicBezTo>
                  <a:pt x="1731" y="3188"/>
                  <a:pt x="1714" y="3193"/>
                  <a:pt x="1690" y="3199"/>
                </a:cubicBezTo>
                <a:cubicBezTo>
                  <a:pt x="1675" y="3208"/>
                  <a:pt x="1661" y="3221"/>
                  <a:pt x="1644" y="3227"/>
                </a:cubicBezTo>
                <a:cubicBezTo>
                  <a:pt x="1638" y="3229"/>
                  <a:pt x="1632" y="3230"/>
                  <a:pt x="1627" y="3233"/>
                </a:cubicBezTo>
                <a:cubicBezTo>
                  <a:pt x="1610" y="3242"/>
                  <a:pt x="1598" y="3258"/>
                  <a:pt x="1581" y="3267"/>
                </a:cubicBezTo>
                <a:cubicBezTo>
                  <a:pt x="1548" y="3283"/>
                  <a:pt x="1553" y="3275"/>
                  <a:pt x="1524" y="3284"/>
                </a:cubicBezTo>
                <a:cubicBezTo>
                  <a:pt x="1484" y="3296"/>
                  <a:pt x="1446" y="3310"/>
                  <a:pt x="1405" y="3319"/>
                </a:cubicBezTo>
                <a:cubicBezTo>
                  <a:pt x="1304" y="3317"/>
                  <a:pt x="1203" y="3317"/>
                  <a:pt x="1102" y="3313"/>
                </a:cubicBezTo>
                <a:cubicBezTo>
                  <a:pt x="1031" y="3310"/>
                  <a:pt x="962" y="3286"/>
                  <a:pt x="891" y="3279"/>
                </a:cubicBezTo>
                <a:cubicBezTo>
                  <a:pt x="811" y="3251"/>
                  <a:pt x="911" y="3283"/>
                  <a:pt x="806" y="3262"/>
                </a:cubicBezTo>
                <a:cubicBezTo>
                  <a:pt x="787" y="3258"/>
                  <a:pt x="768" y="3249"/>
                  <a:pt x="749" y="3245"/>
                </a:cubicBezTo>
                <a:cubicBezTo>
                  <a:pt x="723" y="3232"/>
                  <a:pt x="697" y="3217"/>
                  <a:pt x="669" y="3210"/>
                </a:cubicBezTo>
                <a:cubicBezTo>
                  <a:pt x="645" y="3188"/>
                  <a:pt x="610" y="3173"/>
                  <a:pt x="583" y="3153"/>
                </a:cubicBezTo>
                <a:cubicBezTo>
                  <a:pt x="553" y="3131"/>
                  <a:pt x="539" y="3104"/>
                  <a:pt x="509" y="3085"/>
                </a:cubicBezTo>
                <a:cubicBezTo>
                  <a:pt x="490" y="3054"/>
                  <a:pt x="471" y="3025"/>
                  <a:pt x="452" y="2994"/>
                </a:cubicBezTo>
                <a:cubicBezTo>
                  <a:pt x="435" y="2914"/>
                  <a:pt x="448" y="2819"/>
                  <a:pt x="481" y="2743"/>
                </a:cubicBezTo>
                <a:cubicBezTo>
                  <a:pt x="496" y="2626"/>
                  <a:pt x="508" y="2509"/>
                  <a:pt x="538" y="2395"/>
                </a:cubicBezTo>
                <a:cubicBezTo>
                  <a:pt x="542" y="2341"/>
                  <a:pt x="569" y="2276"/>
                  <a:pt x="509" y="2247"/>
                </a:cubicBezTo>
                <a:cubicBezTo>
                  <a:pt x="472" y="2207"/>
                  <a:pt x="414" y="2179"/>
                  <a:pt x="361" y="2167"/>
                </a:cubicBezTo>
                <a:cubicBezTo>
                  <a:pt x="301" y="2125"/>
                  <a:pt x="392" y="2185"/>
                  <a:pt x="321" y="2150"/>
                </a:cubicBezTo>
                <a:cubicBezTo>
                  <a:pt x="297" y="2138"/>
                  <a:pt x="276" y="2118"/>
                  <a:pt x="253" y="2104"/>
                </a:cubicBezTo>
                <a:cubicBezTo>
                  <a:pt x="209" y="2077"/>
                  <a:pt x="185" y="2027"/>
                  <a:pt x="144" y="1996"/>
                </a:cubicBezTo>
                <a:cubicBezTo>
                  <a:pt x="119" y="1956"/>
                  <a:pt x="150" y="2001"/>
                  <a:pt x="110" y="1961"/>
                </a:cubicBezTo>
                <a:cubicBezTo>
                  <a:pt x="87" y="1938"/>
                  <a:pt x="72" y="1905"/>
                  <a:pt x="47" y="1882"/>
                </a:cubicBezTo>
                <a:cubicBezTo>
                  <a:pt x="32" y="1843"/>
                  <a:pt x="11" y="1816"/>
                  <a:pt x="2" y="1773"/>
                </a:cubicBezTo>
                <a:cubicBezTo>
                  <a:pt x="5" y="1718"/>
                  <a:pt x="0" y="1669"/>
                  <a:pt x="42" y="1631"/>
                </a:cubicBezTo>
                <a:cubicBezTo>
                  <a:pt x="53" y="1593"/>
                  <a:pt x="75" y="1574"/>
                  <a:pt x="99" y="1545"/>
                </a:cubicBezTo>
                <a:cubicBezTo>
                  <a:pt x="115" y="1526"/>
                  <a:pt x="126" y="1506"/>
                  <a:pt x="144" y="1488"/>
                </a:cubicBezTo>
                <a:cubicBezTo>
                  <a:pt x="165" y="1439"/>
                  <a:pt x="146" y="1476"/>
                  <a:pt x="167" y="1448"/>
                </a:cubicBezTo>
                <a:cubicBezTo>
                  <a:pt x="177" y="1435"/>
                  <a:pt x="196" y="1408"/>
                  <a:pt x="196" y="1408"/>
                </a:cubicBezTo>
                <a:cubicBezTo>
                  <a:pt x="202" y="1373"/>
                  <a:pt x="218" y="1344"/>
                  <a:pt x="230" y="1311"/>
                </a:cubicBezTo>
                <a:cubicBezTo>
                  <a:pt x="250" y="1255"/>
                  <a:pt x="261" y="1199"/>
                  <a:pt x="270" y="1140"/>
                </a:cubicBezTo>
                <a:cubicBezTo>
                  <a:pt x="275" y="1029"/>
                  <a:pt x="323" y="857"/>
                  <a:pt x="235" y="769"/>
                </a:cubicBezTo>
                <a:cubicBezTo>
                  <a:pt x="227" y="741"/>
                  <a:pt x="214" y="752"/>
                  <a:pt x="224" y="724"/>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456840" y="3581280"/>
            <a:ext cx="106668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57200" y="3581280"/>
            <a:ext cx="0" cy="6098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57200" y="4191120"/>
            <a:ext cx="68580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4648320" y="3124080"/>
            <a:ext cx="3965040" cy="1187640"/>
            <a:chOff x="4648320" y="3124080"/>
            <a:chExt cx="3965040" cy="1187640"/>
          </a:xfrm>
        </p:grpSpPr>
        <p:sp>
          <p:nvSpPr>
            <p:cNvPr id="154" name=""/>
            <p:cNvSpPr/>
            <p:nvPr/>
          </p:nvSpPr>
          <p:spPr>
            <a:xfrm>
              <a:off x="4648320" y="3124080"/>
              <a:ext cx="3608640" cy="730440"/>
            </a:xfrm>
            <a:custGeom>
              <a:avLst/>
              <a:gdLst/>
              <a:ahLst/>
              <a:rect l="l" t="t" r="r" b="b"/>
              <a:pathLst>
                <a:path w="2914" h="460">
                  <a:moveTo>
                    <a:pt x="0" y="253"/>
                  </a:moveTo>
                  <a:cubicBezTo>
                    <a:pt x="30" y="225"/>
                    <a:pt x="124" y="124"/>
                    <a:pt x="177" y="84"/>
                  </a:cubicBezTo>
                  <a:cubicBezTo>
                    <a:pt x="230" y="44"/>
                    <a:pt x="264" y="24"/>
                    <a:pt x="320" y="12"/>
                  </a:cubicBezTo>
                  <a:cubicBezTo>
                    <a:pt x="376" y="0"/>
                    <a:pt x="452" y="4"/>
                    <a:pt x="512" y="12"/>
                  </a:cubicBezTo>
                  <a:cubicBezTo>
                    <a:pt x="572" y="20"/>
                    <a:pt x="629" y="32"/>
                    <a:pt x="678" y="57"/>
                  </a:cubicBezTo>
                  <a:cubicBezTo>
                    <a:pt x="727" y="82"/>
                    <a:pt x="763" y="124"/>
                    <a:pt x="807" y="165"/>
                  </a:cubicBezTo>
                  <a:cubicBezTo>
                    <a:pt x="851" y="206"/>
                    <a:pt x="897" y="262"/>
                    <a:pt x="944" y="300"/>
                  </a:cubicBezTo>
                  <a:cubicBezTo>
                    <a:pt x="991" y="338"/>
                    <a:pt x="1040" y="372"/>
                    <a:pt x="1088" y="396"/>
                  </a:cubicBezTo>
                  <a:cubicBezTo>
                    <a:pt x="1136" y="420"/>
                    <a:pt x="1184" y="436"/>
                    <a:pt x="1232" y="444"/>
                  </a:cubicBezTo>
                  <a:cubicBezTo>
                    <a:pt x="1280" y="452"/>
                    <a:pt x="1304" y="444"/>
                    <a:pt x="1376" y="444"/>
                  </a:cubicBezTo>
                  <a:cubicBezTo>
                    <a:pt x="1448" y="444"/>
                    <a:pt x="1584" y="460"/>
                    <a:pt x="1664" y="444"/>
                  </a:cubicBezTo>
                  <a:cubicBezTo>
                    <a:pt x="1744" y="428"/>
                    <a:pt x="1805" y="387"/>
                    <a:pt x="1856" y="348"/>
                  </a:cubicBezTo>
                  <a:cubicBezTo>
                    <a:pt x="1907" y="309"/>
                    <a:pt x="1941" y="247"/>
                    <a:pt x="1972" y="212"/>
                  </a:cubicBezTo>
                  <a:cubicBezTo>
                    <a:pt x="2003" y="177"/>
                    <a:pt x="2003" y="163"/>
                    <a:pt x="2040" y="138"/>
                  </a:cubicBezTo>
                  <a:cubicBezTo>
                    <a:pt x="2077" y="113"/>
                    <a:pt x="2139" y="79"/>
                    <a:pt x="2192" y="60"/>
                  </a:cubicBezTo>
                  <a:cubicBezTo>
                    <a:pt x="2245" y="41"/>
                    <a:pt x="2303" y="23"/>
                    <a:pt x="2359" y="23"/>
                  </a:cubicBezTo>
                  <a:cubicBezTo>
                    <a:pt x="2415" y="23"/>
                    <a:pt x="2465" y="32"/>
                    <a:pt x="2528" y="60"/>
                  </a:cubicBezTo>
                  <a:cubicBezTo>
                    <a:pt x="2591" y="88"/>
                    <a:pt x="2674" y="140"/>
                    <a:pt x="2738" y="192"/>
                  </a:cubicBezTo>
                  <a:cubicBezTo>
                    <a:pt x="2802" y="244"/>
                    <a:pt x="2877" y="337"/>
                    <a:pt x="2914" y="375"/>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 name=""/>
            <p:cNvSpPr/>
            <p:nvPr/>
          </p:nvSpPr>
          <p:spPr>
            <a:xfrm>
              <a:off x="4767120" y="3276720"/>
              <a:ext cx="3608280" cy="730080"/>
            </a:xfrm>
            <a:custGeom>
              <a:avLst/>
              <a:gdLst/>
              <a:ahLst/>
              <a:rect l="l" t="t" r="r" b="b"/>
              <a:pathLst>
                <a:path w="2914" h="460">
                  <a:moveTo>
                    <a:pt x="0" y="253"/>
                  </a:moveTo>
                  <a:cubicBezTo>
                    <a:pt x="30" y="225"/>
                    <a:pt x="124" y="124"/>
                    <a:pt x="177" y="84"/>
                  </a:cubicBezTo>
                  <a:cubicBezTo>
                    <a:pt x="230" y="44"/>
                    <a:pt x="264" y="24"/>
                    <a:pt x="320" y="12"/>
                  </a:cubicBezTo>
                  <a:cubicBezTo>
                    <a:pt x="376" y="0"/>
                    <a:pt x="452" y="4"/>
                    <a:pt x="512" y="12"/>
                  </a:cubicBezTo>
                  <a:cubicBezTo>
                    <a:pt x="572" y="20"/>
                    <a:pt x="629" y="32"/>
                    <a:pt x="678" y="57"/>
                  </a:cubicBezTo>
                  <a:cubicBezTo>
                    <a:pt x="727" y="82"/>
                    <a:pt x="763" y="124"/>
                    <a:pt x="807" y="165"/>
                  </a:cubicBezTo>
                  <a:cubicBezTo>
                    <a:pt x="851" y="206"/>
                    <a:pt x="897" y="262"/>
                    <a:pt x="944" y="300"/>
                  </a:cubicBezTo>
                  <a:cubicBezTo>
                    <a:pt x="991" y="338"/>
                    <a:pt x="1040" y="372"/>
                    <a:pt x="1088" y="396"/>
                  </a:cubicBezTo>
                  <a:cubicBezTo>
                    <a:pt x="1136" y="420"/>
                    <a:pt x="1184" y="436"/>
                    <a:pt x="1232" y="444"/>
                  </a:cubicBezTo>
                  <a:cubicBezTo>
                    <a:pt x="1280" y="452"/>
                    <a:pt x="1304" y="444"/>
                    <a:pt x="1376" y="444"/>
                  </a:cubicBezTo>
                  <a:cubicBezTo>
                    <a:pt x="1448" y="444"/>
                    <a:pt x="1584" y="460"/>
                    <a:pt x="1664" y="444"/>
                  </a:cubicBezTo>
                  <a:cubicBezTo>
                    <a:pt x="1744" y="428"/>
                    <a:pt x="1805" y="387"/>
                    <a:pt x="1856" y="348"/>
                  </a:cubicBezTo>
                  <a:cubicBezTo>
                    <a:pt x="1907" y="309"/>
                    <a:pt x="1941" y="247"/>
                    <a:pt x="1972" y="212"/>
                  </a:cubicBezTo>
                  <a:cubicBezTo>
                    <a:pt x="2003" y="177"/>
                    <a:pt x="2003" y="163"/>
                    <a:pt x="2040" y="138"/>
                  </a:cubicBezTo>
                  <a:cubicBezTo>
                    <a:pt x="2077" y="113"/>
                    <a:pt x="2139" y="79"/>
                    <a:pt x="2192" y="60"/>
                  </a:cubicBezTo>
                  <a:cubicBezTo>
                    <a:pt x="2245" y="41"/>
                    <a:pt x="2303" y="23"/>
                    <a:pt x="2359" y="23"/>
                  </a:cubicBezTo>
                  <a:cubicBezTo>
                    <a:pt x="2415" y="23"/>
                    <a:pt x="2465" y="32"/>
                    <a:pt x="2528" y="60"/>
                  </a:cubicBezTo>
                  <a:cubicBezTo>
                    <a:pt x="2591" y="88"/>
                    <a:pt x="2674" y="140"/>
                    <a:pt x="2738" y="192"/>
                  </a:cubicBezTo>
                  <a:cubicBezTo>
                    <a:pt x="2802" y="244"/>
                    <a:pt x="2877" y="337"/>
                    <a:pt x="2914" y="375"/>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
            <p:cNvSpPr/>
            <p:nvPr/>
          </p:nvSpPr>
          <p:spPr>
            <a:xfrm>
              <a:off x="4885920" y="3429000"/>
              <a:ext cx="3608640" cy="730440"/>
            </a:xfrm>
            <a:custGeom>
              <a:avLst/>
              <a:gdLst/>
              <a:ahLst/>
              <a:rect l="l" t="t" r="r" b="b"/>
              <a:pathLst>
                <a:path w="2914" h="460">
                  <a:moveTo>
                    <a:pt x="0" y="253"/>
                  </a:moveTo>
                  <a:cubicBezTo>
                    <a:pt x="30" y="225"/>
                    <a:pt x="124" y="124"/>
                    <a:pt x="177" y="84"/>
                  </a:cubicBezTo>
                  <a:cubicBezTo>
                    <a:pt x="230" y="44"/>
                    <a:pt x="264" y="24"/>
                    <a:pt x="320" y="12"/>
                  </a:cubicBezTo>
                  <a:cubicBezTo>
                    <a:pt x="376" y="0"/>
                    <a:pt x="452" y="4"/>
                    <a:pt x="512" y="12"/>
                  </a:cubicBezTo>
                  <a:cubicBezTo>
                    <a:pt x="572" y="20"/>
                    <a:pt x="629" y="32"/>
                    <a:pt x="678" y="57"/>
                  </a:cubicBezTo>
                  <a:cubicBezTo>
                    <a:pt x="727" y="82"/>
                    <a:pt x="763" y="124"/>
                    <a:pt x="807" y="165"/>
                  </a:cubicBezTo>
                  <a:cubicBezTo>
                    <a:pt x="851" y="206"/>
                    <a:pt x="897" y="262"/>
                    <a:pt x="944" y="300"/>
                  </a:cubicBezTo>
                  <a:cubicBezTo>
                    <a:pt x="991" y="338"/>
                    <a:pt x="1040" y="372"/>
                    <a:pt x="1088" y="396"/>
                  </a:cubicBezTo>
                  <a:cubicBezTo>
                    <a:pt x="1136" y="420"/>
                    <a:pt x="1184" y="436"/>
                    <a:pt x="1232" y="444"/>
                  </a:cubicBezTo>
                  <a:cubicBezTo>
                    <a:pt x="1280" y="452"/>
                    <a:pt x="1304" y="444"/>
                    <a:pt x="1376" y="444"/>
                  </a:cubicBezTo>
                  <a:cubicBezTo>
                    <a:pt x="1448" y="444"/>
                    <a:pt x="1584" y="460"/>
                    <a:pt x="1664" y="444"/>
                  </a:cubicBezTo>
                  <a:cubicBezTo>
                    <a:pt x="1744" y="428"/>
                    <a:pt x="1805" y="387"/>
                    <a:pt x="1856" y="348"/>
                  </a:cubicBezTo>
                  <a:cubicBezTo>
                    <a:pt x="1907" y="309"/>
                    <a:pt x="1941" y="247"/>
                    <a:pt x="1972" y="212"/>
                  </a:cubicBezTo>
                  <a:cubicBezTo>
                    <a:pt x="2003" y="177"/>
                    <a:pt x="2003" y="163"/>
                    <a:pt x="2040" y="138"/>
                  </a:cubicBezTo>
                  <a:cubicBezTo>
                    <a:pt x="2077" y="113"/>
                    <a:pt x="2139" y="79"/>
                    <a:pt x="2192" y="60"/>
                  </a:cubicBezTo>
                  <a:cubicBezTo>
                    <a:pt x="2245" y="41"/>
                    <a:pt x="2303" y="23"/>
                    <a:pt x="2359" y="23"/>
                  </a:cubicBezTo>
                  <a:cubicBezTo>
                    <a:pt x="2415" y="23"/>
                    <a:pt x="2465" y="32"/>
                    <a:pt x="2528" y="60"/>
                  </a:cubicBezTo>
                  <a:cubicBezTo>
                    <a:pt x="2591" y="88"/>
                    <a:pt x="2674" y="140"/>
                    <a:pt x="2738" y="192"/>
                  </a:cubicBezTo>
                  <a:cubicBezTo>
                    <a:pt x="2802" y="244"/>
                    <a:pt x="2877" y="337"/>
                    <a:pt x="2914" y="375"/>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
            <p:cNvSpPr/>
            <p:nvPr/>
          </p:nvSpPr>
          <p:spPr>
            <a:xfrm>
              <a:off x="5004720" y="3581280"/>
              <a:ext cx="3608640" cy="730440"/>
            </a:xfrm>
            <a:custGeom>
              <a:avLst/>
              <a:gdLst/>
              <a:ahLst/>
              <a:rect l="l" t="t" r="r" b="b"/>
              <a:pathLst>
                <a:path w="2914" h="460">
                  <a:moveTo>
                    <a:pt x="0" y="253"/>
                  </a:moveTo>
                  <a:cubicBezTo>
                    <a:pt x="30" y="225"/>
                    <a:pt x="124" y="124"/>
                    <a:pt x="177" y="84"/>
                  </a:cubicBezTo>
                  <a:cubicBezTo>
                    <a:pt x="230" y="44"/>
                    <a:pt x="264" y="24"/>
                    <a:pt x="320" y="12"/>
                  </a:cubicBezTo>
                  <a:cubicBezTo>
                    <a:pt x="376" y="0"/>
                    <a:pt x="452" y="4"/>
                    <a:pt x="512" y="12"/>
                  </a:cubicBezTo>
                  <a:cubicBezTo>
                    <a:pt x="572" y="20"/>
                    <a:pt x="629" y="32"/>
                    <a:pt x="678" y="57"/>
                  </a:cubicBezTo>
                  <a:cubicBezTo>
                    <a:pt x="727" y="82"/>
                    <a:pt x="763" y="124"/>
                    <a:pt x="807" y="165"/>
                  </a:cubicBezTo>
                  <a:cubicBezTo>
                    <a:pt x="851" y="206"/>
                    <a:pt x="897" y="262"/>
                    <a:pt x="944" y="300"/>
                  </a:cubicBezTo>
                  <a:cubicBezTo>
                    <a:pt x="991" y="338"/>
                    <a:pt x="1040" y="372"/>
                    <a:pt x="1088" y="396"/>
                  </a:cubicBezTo>
                  <a:cubicBezTo>
                    <a:pt x="1136" y="420"/>
                    <a:pt x="1184" y="436"/>
                    <a:pt x="1232" y="444"/>
                  </a:cubicBezTo>
                  <a:cubicBezTo>
                    <a:pt x="1280" y="452"/>
                    <a:pt x="1304" y="444"/>
                    <a:pt x="1376" y="444"/>
                  </a:cubicBezTo>
                  <a:cubicBezTo>
                    <a:pt x="1448" y="444"/>
                    <a:pt x="1584" y="460"/>
                    <a:pt x="1664" y="444"/>
                  </a:cubicBezTo>
                  <a:cubicBezTo>
                    <a:pt x="1744" y="428"/>
                    <a:pt x="1805" y="387"/>
                    <a:pt x="1856" y="348"/>
                  </a:cubicBezTo>
                  <a:cubicBezTo>
                    <a:pt x="1907" y="309"/>
                    <a:pt x="1941" y="247"/>
                    <a:pt x="1972" y="212"/>
                  </a:cubicBezTo>
                  <a:cubicBezTo>
                    <a:pt x="2003" y="177"/>
                    <a:pt x="2003" y="163"/>
                    <a:pt x="2040" y="138"/>
                  </a:cubicBezTo>
                  <a:cubicBezTo>
                    <a:pt x="2077" y="113"/>
                    <a:pt x="2139" y="79"/>
                    <a:pt x="2192" y="60"/>
                  </a:cubicBezTo>
                  <a:cubicBezTo>
                    <a:pt x="2245" y="41"/>
                    <a:pt x="2303" y="23"/>
                    <a:pt x="2359" y="23"/>
                  </a:cubicBezTo>
                  <a:cubicBezTo>
                    <a:pt x="2415" y="23"/>
                    <a:pt x="2465" y="32"/>
                    <a:pt x="2528" y="60"/>
                  </a:cubicBezTo>
                  <a:cubicBezTo>
                    <a:pt x="2591" y="88"/>
                    <a:pt x="2674" y="140"/>
                    <a:pt x="2738" y="192"/>
                  </a:cubicBezTo>
                  <a:cubicBezTo>
                    <a:pt x="2802" y="244"/>
                    <a:pt x="2877" y="337"/>
                    <a:pt x="2914" y="375"/>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8" name=""/>
          <p:cNvSpPr/>
          <p:nvPr/>
        </p:nvSpPr>
        <p:spPr>
          <a:xfrm>
            <a:off x="6629400" y="2133720"/>
            <a:ext cx="0" cy="1600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629400" y="4419720"/>
            <a:ext cx="0" cy="1600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633000" y="220968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ckground</a:t>
            </a:r>
            <a:endParaRPr b="0" lang="en-US" sz="1800" spc="-1" strike="noStrike">
              <a:solidFill>
                <a:srgbClr val="000000"/>
              </a:solidFill>
              <a:latin typeface="Arial"/>
            </a:endParaRPr>
          </a:p>
        </p:txBody>
      </p:sp>
      <p:sp>
        <p:nvSpPr>
          <p:cNvPr id="161" name=""/>
          <p:cNvSpPr/>
          <p:nvPr/>
        </p:nvSpPr>
        <p:spPr>
          <a:xfrm>
            <a:off x="7089480" y="3962520"/>
            <a:ext cx="161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oreground</a:t>
            </a:r>
            <a:endParaRPr b="0" lang="en-US" sz="1800" spc="-1" strike="noStrike">
              <a:solidFill>
                <a:srgbClr val="000000"/>
              </a:solidFill>
              <a:latin typeface="Arial"/>
            </a:endParaRPr>
          </a:p>
        </p:txBody>
      </p:sp>
      <p:sp>
        <p:nvSpPr>
          <p:cNvPr id="162" name=""/>
          <p:cNvSpPr/>
          <p:nvPr/>
        </p:nvSpPr>
        <p:spPr>
          <a:xfrm>
            <a:off x="3200400" y="1638360"/>
            <a:ext cx="1523880" cy="342720"/>
          </a:xfr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p:txBody>
      </p:sp>
      <p:sp>
        <p:nvSpPr>
          <p:cNvPr id="163" name=""/>
          <p:cNvSpPr/>
          <p:nvPr/>
        </p:nvSpPr>
        <p:spPr>
          <a:xfrm>
            <a:off x="1523880" y="3200400"/>
            <a:ext cx="19051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txBox="1"/>
          <p:nvPr/>
        </p:nvSpPr>
        <p:spPr>
          <a:xfrm>
            <a:off x="1600200" y="3276720"/>
            <a:ext cx="15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igure</a:t>
            </a:r>
            <a:endParaRPr b="0" lang="en-US" sz="1800" spc="1" strike="noStrike">
              <a:ln w="9360">
                <a:solidFill>
                  <a:srgbClr val="000000"/>
                </a:solidFill>
                <a:miter/>
              </a:ln>
              <a:solidFill>
                <a:srgbClr val="ffffff"/>
              </a:solidFill>
              <a:latin typeface="Arial Black"/>
              <a:ea typeface="Arial Black"/>
            </a:endParaRPr>
          </a:p>
        </p:txBody>
      </p:sp>
      <p:sp>
        <p:nvSpPr>
          <p:cNvPr id="165" name=""/>
          <p:cNvSpPr/>
          <p:nvPr/>
        </p:nvSpPr>
        <p:spPr>
          <a:xfrm>
            <a:off x="1984320" y="3124080"/>
            <a:ext cx="128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924680" y="1447920"/>
            <a:ext cx="0" cy="510516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219320" y="4572000"/>
            <a:ext cx="609480" cy="685800"/>
          </a:xfrm>
          <a:custGeom>
            <a:avLst/>
            <a:gdLst/>
            <a:ahLst/>
            <a:rect l="l" t="t" r="r" b="b"/>
            <a:pathLst>
              <a:path w="4066" h="3319">
                <a:moveTo>
                  <a:pt x="224" y="724"/>
                </a:moveTo>
                <a:cubicBezTo>
                  <a:pt x="226" y="644"/>
                  <a:pt x="207" y="559"/>
                  <a:pt x="235" y="484"/>
                </a:cubicBezTo>
                <a:cubicBezTo>
                  <a:pt x="258" y="422"/>
                  <a:pt x="330" y="380"/>
                  <a:pt x="389" y="359"/>
                </a:cubicBezTo>
                <a:cubicBezTo>
                  <a:pt x="451" y="364"/>
                  <a:pt x="506" y="371"/>
                  <a:pt x="566" y="382"/>
                </a:cubicBezTo>
                <a:cubicBezTo>
                  <a:pt x="618" y="407"/>
                  <a:pt x="615" y="398"/>
                  <a:pt x="692" y="393"/>
                </a:cubicBezTo>
                <a:cubicBezTo>
                  <a:pt x="733" y="382"/>
                  <a:pt x="770" y="358"/>
                  <a:pt x="811" y="347"/>
                </a:cubicBezTo>
                <a:cubicBezTo>
                  <a:pt x="824" y="343"/>
                  <a:pt x="851" y="336"/>
                  <a:pt x="851" y="336"/>
                </a:cubicBezTo>
                <a:cubicBezTo>
                  <a:pt x="881" y="316"/>
                  <a:pt x="889" y="313"/>
                  <a:pt x="920" y="302"/>
                </a:cubicBezTo>
                <a:cubicBezTo>
                  <a:pt x="965" y="270"/>
                  <a:pt x="944" y="278"/>
                  <a:pt x="977" y="268"/>
                </a:cubicBezTo>
                <a:cubicBezTo>
                  <a:pt x="992" y="252"/>
                  <a:pt x="1008" y="246"/>
                  <a:pt x="1028" y="239"/>
                </a:cubicBezTo>
                <a:cubicBezTo>
                  <a:pt x="1086" y="196"/>
                  <a:pt x="1152" y="184"/>
                  <a:pt x="1222" y="171"/>
                </a:cubicBezTo>
                <a:cubicBezTo>
                  <a:pt x="1355" y="174"/>
                  <a:pt x="1473" y="184"/>
                  <a:pt x="1604" y="171"/>
                </a:cubicBezTo>
                <a:cubicBezTo>
                  <a:pt x="1646" y="160"/>
                  <a:pt x="1687" y="149"/>
                  <a:pt x="1730" y="142"/>
                </a:cubicBezTo>
                <a:cubicBezTo>
                  <a:pt x="1781" y="124"/>
                  <a:pt x="1836" y="109"/>
                  <a:pt x="1884" y="85"/>
                </a:cubicBezTo>
                <a:cubicBezTo>
                  <a:pt x="1932" y="61"/>
                  <a:pt x="1972" y="41"/>
                  <a:pt x="2026" y="34"/>
                </a:cubicBezTo>
                <a:cubicBezTo>
                  <a:pt x="2065" y="20"/>
                  <a:pt x="2105" y="9"/>
                  <a:pt x="2146" y="0"/>
                </a:cubicBezTo>
                <a:cubicBezTo>
                  <a:pt x="2199" y="2"/>
                  <a:pt x="2253" y="1"/>
                  <a:pt x="2306" y="5"/>
                </a:cubicBezTo>
                <a:cubicBezTo>
                  <a:pt x="2342" y="8"/>
                  <a:pt x="2379" y="29"/>
                  <a:pt x="2414" y="39"/>
                </a:cubicBezTo>
                <a:cubicBezTo>
                  <a:pt x="2445" y="48"/>
                  <a:pt x="2469" y="66"/>
                  <a:pt x="2500" y="74"/>
                </a:cubicBezTo>
                <a:cubicBezTo>
                  <a:pt x="2513" y="78"/>
                  <a:pt x="2539" y="85"/>
                  <a:pt x="2539" y="85"/>
                </a:cubicBezTo>
                <a:cubicBezTo>
                  <a:pt x="2547" y="91"/>
                  <a:pt x="2553" y="98"/>
                  <a:pt x="2562" y="102"/>
                </a:cubicBezTo>
                <a:cubicBezTo>
                  <a:pt x="2569" y="106"/>
                  <a:pt x="2579" y="103"/>
                  <a:pt x="2585" y="108"/>
                </a:cubicBezTo>
                <a:cubicBezTo>
                  <a:pt x="2590" y="112"/>
                  <a:pt x="2587" y="120"/>
                  <a:pt x="2591" y="125"/>
                </a:cubicBezTo>
                <a:cubicBezTo>
                  <a:pt x="2599" y="136"/>
                  <a:pt x="2619" y="154"/>
                  <a:pt x="2619" y="154"/>
                </a:cubicBezTo>
                <a:cubicBezTo>
                  <a:pt x="2947" y="138"/>
                  <a:pt x="3314" y="61"/>
                  <a:pt x="3623" y="182"/>
                </a:cubicBezTo>
                <a:cubicBezTo>
                  <a:pt x="3680" y="259"/>
                  <a:pt x="3593" y="147"/>
                  <a:pt x="3669" y="222"/>
                </a:cubicBezTo>
                <a:cubicBezTo>
                  <a:pt x="3693" y="245"/>
                  <a:pt x="3683" y="257"/>
                  <a:pt x="3714" y="268"/>
                </a:cubicBezTo>
                <a:cubicBezTo>
                  <a:pt x="3731" y="284"/>
                  <a:pt x="3743" y="303"/>
                  <a:pt x="3760" y="319"/>
                </a:cubicBezTo>
                <a:cubicBezTo>
                  <a:pt x="3766" y="335"/>
                  <a:pt x="3769" y="356"/>
                  <a:pt x="3777" y="370"/>
                </a:cubicBezTo>
                <a:cubicBezTo>
                  <a:pt x="3787" y="387"/>
                  <a:pt x="3789" y="378"/>
                  <a:pt x="3800" y="393"/>
                </a:cubicBezTo>
                <a:cubicBezTo>
                  <a:pt x="3816" y="416"/>
                  <a:pt x="3822" y="435"/>
                  <a:pt x="3828" y="461"/>
                </a:cubicBezTo>
                <a:cubicBezTo>
                  <a:pt x="3819" y="554"/>
                  <a:pt x="3789" y="607"/>
                  <a:pt x="3754" y="690"/>
                </a:cubicBezTo>
                <a:cubicBezTo>
                  <a:pt x="3761" y="801"/>
                  <a:pt x="3749" y="914"/>
                  <a:pt x="3851" y="980"/>
                </a:cubicBezTo>
                <a:cubicBezTo>
                  <a:pt x="3872" y="993"/>
                  <a:pt x="3884" y="1013"/>
                  <a:pt x="3908" y="1020"/>
                </a:cubicBezTo>
                <a:cubicBezTo>
                  <a:pt x="3917" y="1029"/>
                  <a:pt x="3921" y="1041"/>
                  <a:pt x="3931" y="1049"/>
                </a:cubicBezTo>
                <a:cubicBezTo>
                  <a:pt x="3938" y="1054"/>
                  <a:pt x="3947" y="1056"/>
                  <a:pt x="3954" y="1060"/>
                </a:cubicBezTo>
                <a:cubicBezTo>
                  <a:pt x="3960" y="1063"/>
                  <a:pt x="3966" y="1067"/>
                  <a:pt x="3971" y="1072"/>
                </a:cubicBezTo>
                <a:cubicBezTo>
                  <a:pt x="3989" y="1087"/>
                  <a:pt x="4000" y="1107"/>
                  <a:pt x="4017" y="1123"/>
                </a:cubicBezTo>
                <a:cubicBezTo>
                  <a:pt x="4066" y="1347"/>
                  <a:pt x="4027" y="1161"/>
                  <a:pt x="4017" y="1767"/>
                </a:cubicBezTo>
                <a:cubicBezTo>
                  <a:pt x="4016" y="1847"/>
                  <a:pt x="3986" y="1971"/>
                  <a:pt x="3959" y="2047"/>
                </a:cubicBezTo>
                <a:cubicBezTo>
                  <a:pt x="3916" y="2169"/>
                  <a:pt x="3950" y="2310"/>
                  <a:pt x="3845" y="2406"/>
                </a:cubicBezTo>
                <a:cubicBezTo>
                  <a:pt x="3839" y="2427"/>
                  <a:pt x="3804" y="2450"/>
                  <a:pt x="3783" y="2463"/>
                </a:cubicBezTo>
                <a:cubicBezTo>
                  <a:pt x="3766" y="2487"/>
                  <a:pt x="3749" y="2491"/>
                  <a:pt x="3726" y="2509"/>
                </a:cubicBezTo>
                <a:cubicBezTo>
                  <a:pt x="3691" y="2536"/>
                  <a:pt x="3660" y="2581"/>
                  <a:pt x="3617" y="2594"/>
                </a:cubicBezTo>
                <a:cubicBezTo>
                  <a:pt x="3602" y="2618"/>
                  <a:pt x="3590" y="2614"/>
                  <a:pt x="3566" y="2629"/>
                </a:cubicBezTo>
                <a:cubicBezTo>
                  <a:pt x="3545" y="2642"/>
                  <a:pt x="3526" y="2661"/>
                  <a:pt x="3503" y="2669"/>
                </a:cubicBezTo>
                <a:cubicBezTo>
                  <a:pt x="3495" y="2676"/>
                  <a:pt x="3488" y="2683"/>
                  <a:pt x="3480" y="2691"/>
                </a:cubicBezTo>
                <a:cubicBezTo>
                  <a:pt x="3470" y="2701"/>
                  <a:pt x="3452" y="2720"/>
                  <a:pt x="3452" y="2720"/>
                </a:cubicBezTo>
                <a:cubicBezTo>
                  <a:pt x="3429" y="2695"/>
                  <a:pt x="3407" y="2725"/>
                  <a:pt x="3383" y="2737"/>
                </a:cubicBezTo>
                <a:cubicBezTo>
                  <a:pt x="3355" y="2781"/>
                  <a:pt x="3337" y="2839"/>
                  <a:pt x="3292" y="2868"/>
                </a:cubicBezTo>
                <a:cubicBezTo>
                  <a:pt x="3277" y="2892"/>
                  <a:pt x="3260" y="2892"/>
                  <a:pt x="3235" y="2908"/>
                </a:cubicBezTo>
                <a:cubicBezTo>
                  <a:pt x="3215" y="2921"/>
                  <a:pt x="3207" y="2935"/>
                  <a:pt x="3184" y="2942"/>
                </a:cubicBezTo>
                <a:cubicBezTo>
                  <a:pt x="3150" y="2976"/>
                  <a:pt x="3105" y="2992"/>
                  <a:pt x="3064" y="3016"/>
                </a:cubicBezTo>
                <a:cubicBezTo>
                  <a:pt x="3052" y="3023"/>
                  <a:pt x="3043" y="3036"/>
                  <a:pt x="3030" y="3039"/>
                </a:cubicBezTo>
                <a:cubicBezTo>
                  <a:pt x="2986" y="3048"/>
                  <a:pt x="3011" y="3044"/>
                  <a:pt x="2956" y="3051"/>
                </a:cubicBezTo>
                <a:cubicBezTo>
                  <a:pt x="2846" y="3093"/>
                  <a:pt x="2949" y="3072"/>
                  <a:pt x="2705" y="3079"/>
                </a:cubicBezTo>
                <a:cubicBezTo>
                  <a:pt x="2701" y="3083"/>
                  <a:pt x="2696" y="3086"/>
                  <a:pt x="2693" y="3091"/>
                </a:cubicBezTo>
                <a:cubicBezTo>
                  <a:pt x="2690" y="3096"/>
                  <a:pt x="2692" y="3103"/>
                  <a:pt x="2688" y="3108"/>
                </a:cubicBezTo>
                <a:cubicBezTo>
                  <a:pt x="2679" y="3119"/>
                  <a:pt x="2654" y="3134"/>
                  <a:pt x="2642" y="3142"/>
                </a:cubicBezTo>
                <a:cubicBezTo>
                  <a:pt x="2625" y="3177"/>
                  <a:pt x="2595" y="3243"/>
                  <a:pt x="2557" y="3256"/>
                </a:cubicBezTo>
                <a:cubicBezTo>
                  <a:pt x="2553" y="3260"/>
                  <a:pt x="2550" y="3268"/>
                  <a:pt x="2545" y="3267"/>
                </a:cubicBezTo>
                <a:cubicBezTo>
                  <a:pt x="2519" y="3262"/>
                  <a:pt x="2497" y="3244"/>
                  <a:pt x="2471" y="3239"/>
                </a:cubicBezTo>
                <a:cubicBezTo>
                  <a:pt x="2412" y="3210"/>
                  <a:pt x="2449" y="3226"/>
                  <a:pt x="2357" y="3199"/>
                </a:cubicBezTo>
                <a:cubicBezTo>
                  <a:pt x="2340" y="3194"/>
                  <a:pt x="2323" y="3188"/>
                  <a:pt x="2306" y="3182"/>
                </a:cubicBezTo>
                <a:cubicBezTo>
                  <a:pt x="2294" y="3178"/>
                  <a:pt x="2271" y="3170"/>
                  <a:pt x="2271" y="3170"/>
                </a:cubicBezTo>
                <a:cubicBezTo>
                  <a:pt x="2255" y="3117"/>
                  <a:pt x="2190" y="3121"/>
                  <a:pt x="2146" y="3108"/>
                </a:cubicBezTo>
                <a:cubicBezTo>
                  <a:pt x="2148" y="3096"/>
                  <a:pt x="2158" y="3083"/>
                  <a:pt x="2152" y="3073"/>
                </a:cubicBezTo>
                <a:cubicBezTo>
                  <a:pt x="2148" y="3066"/>
                  <a:pt x="2137" y="3079"/>
                  <a:pt x="2129" y="3079"/>
                </a:cubicBezTo>
                <a:cubicBezTo>
                  <a:pt x="2101" y="3079"/>
                  <a:pt x="2099" y="3068"/>
                  <a:pt x="2072" y="3062"/>
                </a:cubicBezTo>
                <a:cubicBezTo>
                  <a:pt x="2051" y="3057"/>
                  <a:pt x="2009" y="3051"/>
                  <a:pt x="2009" y="3051"/>
                </a:cubicBezTo>
                <a:cubicBezTo>
                  <a:pt x="1984" y="3056"/>
                  <a:pt x="1957" y="3055"/>
                  <a:pt x="1935" y="3068"/>
                </a:cubicBezTo>
                <a:cubicBezTo>
                  <a:pt x="1909" y="3083"/>
                  <a:pt x="1885" y="3117"/>
                  <a:pt x="1861" y="3130"/>
                </a:cubicBezTo>
                <a:cubicBezTo>
                  <a:pt x="1827" y="3148"/>
                  <a:pt x="1789" y="3166"/>
                  <a:pt x="1752" y="3176"/>
                </a:cubicBezTo>
                <a:cubicBezTo>
                  <a:pt x="1731" y="3188"/>
                  <a:pt x="1714" y="3193"/>
                  <a:pt x="1690" y="3199"/>
                </a:cubicBezTo>
                <a:cubicBezTo>
                  <a:pt x="1675" y="3208"/>
                  <a:pt x="1661" y="3221"/>
                  <a:pt x="1644" y="3227"/>
                </a:cubicBezTo>
                <a:cubicBezTo>
                  <a:pt x="1638" y="3229"/>
                  <a:pt x="1632" y="3230"/>
                  <a:pt x="1627" y="3233"/>
                </a:cubicBezTo>
                <a:cubicBezTo>
                  <a:pt x="1610" y="3242"/>
                  <a:pt x="1598" y="3258"/>
                  <a:pt x="1581" y="3267"/>
                </a:cubicBezTo>
                <a:cubicBezTo>
                  <a:pt x="1548" y="3283"/>
                  <a:pt x="1553" y="3275"/>
                  <a:pt x="1524" y="3284"/>
                </a:cubicBezTo>
                <a:cubicBezTo>
                  <a:pt x="1484" y="3296"/>
                  <a:pt x="1446" y="3310"/>
                  <a:pt x="1405" y="3319"/>
                </a:cubicBezTo>
                <a:cubicBezTo>
                  <a:pt x="1304" y="3317"/>
                  <a:pt x="1203" y="3317"/>
                  <a:pt x="1102" y="3313"/>
                </a:cubicBezTo>
                <a:cubicBezTo>
                  <a:pt x="1031" y="3310"/>
                  <a:pt x="962" y="3286"/>
                  <a:pt x="891" y="3279"/>
                </a:cubicBezTo>
                <a:cubicBezTo>
                  <a:pt x="811" y="3251"/>
                  <a:pt x="911" y="3283"/>
                  <a:pt x="806" y="3262"/>
                </a:cubicBezTo>
                <a:cubicBezTo>
                  <a:pt x="787" y="3258"/>
                  <a:pt x="768" y="3249"/>
                  <a:pt x="749" y="3245"/>
                </a:cubicBezTo>
                <a:cubicBezTo>
                  <a:pt x="723" y="3232"/>
                  <a:pt x="697" y="3217"/>
                  <a:pt x="669" y="3210"/>
                </a:cubicBezTo>
                <a:cubicBezTo>
                  <a:pt x="645" y="3188"/>
                  <a:pt x="610" y="3173"/>
                  <a:pt x="583" y="3153"/>
                </a:cubicBezTo>
                <a:cubicBezTo>
                  <a:pt x="553" y="3131"/>
                  <a:pt x="539" y="3104"/>
                  <a:pt x="509" y="3085"/>
                </a:cubicBezTo>
                <a:cubicBezTo>
                  <a:pt x="490" y="3054"/>
                  <a:pt x="471" y="3025"/>
                  <a:pt x="452" y="2994"/>
                </a:cubicBezTo>
                <a:cubicBezTo>
                  <a:pt x="435" y="2914"/>
                  <a:pt x="448" y="2819"/>
                  <a:pt x="481" y="2743"/>
                </a:cubicBezTo>
                <a:cubicBezTo>
                  <a:pt x="496" y="2626"/>
                  <a:pt x="508" y="2509"/>
                  <a:pt x="538" y="2395"/>
                </a:cubicBezTo>
                <a:cubicBezTo>
                  <a:pt x="542" y="2341"/>
                  <a:pt x="569" y="2276"/>
                  <a:pt x="509" y="2247"/>
                </a:cubicBezTo>
                <a:cubicBezTo>
                  <a:pt x="472" y="2207"/>
                  <a:pt x="414" y="2179"/>
                  <a:pt x="361" y="2167"/>
                </a:cubicBezTo>
                <a:cubicBezTo>
                  <a:pt x="301" y="2125"/>
                  <a:pt x="392" y="2185"/>
                  <a:pt x="321" y="2150"/>
                </a:cubicBezTo>
                <a:cubicBezTo>
                  <a:pt x="297" y="2138"/>
                  <a:pt x="276" y="2118"/>
                  <a:pt x="253" y="2104"/>
                </a:cubicBezTo>
                <a:cubicBezTo>
                  <a:pt x="209" y="2077"/>
                  <a:pt x="185" y="2027"/>
                  <a:pt x="144" y="1996"/>
                </a:cubicBezTo>
                <a:cubicBezTo>
                  <a:pt x="119" y="1956"/>
                  <a:pt x="150" y="2001"/>
                  <a:pt x="110" y="1961"/>
                </a:cubicBezTo>
                <a:cubicBezTo>
                  <a:pt x="87" y="1938"/>
                  <a:pt x="72" y="1905"/>
                  <a:pt x="47" y="1882"/>
                </a:cubicBezTo>
                <a:cubicBezTo>
                  <a:pt x="32" y="1843"/>
                  <a:pt x="11" y="1816"/>
                  <a:pt x="2" y="1773"/>
                </a:cubicBezTo>
                <a:cubicBezTo>
                  <a:pt x="5" y="1718"/>
                  <a:pt x="0" y="1669"/>
                  <a:pt x="42" y="1631"/>
                </a:cubicBezTo>
                <a:cubicBezTo>
                  <a:pt x="53" y="1593"/>
                  <a:pt x="75" y="1574"/>
                  <a:pt x="99" y="1545"/>
                </a:cubicBezTo>
                <a:cubicBezTo>
                  <a:pt x="115" y="1526"/>
                  <a:pt x="126" y="1506"/>
                  <a:pt x="144" y="1488"/>
                </a:cubicBezTo>
                <a:cubicBezTo>
                  <a:pt x="165" y="1439"/>
                  <a:pt x="146" y="1476"/>
                  <a:pt x="167" y="1448"/>
                </a:cubicBezTo>
                <a:cubicBezTo>
                  <a:pt x="177" y="1435"/>
                  <a:pt x="196" y="1408"/>
                  <a:pt x="196" y="1408"/>
                </a:cubicBezTo>
                <a:cubicBezTo>
                  <a:pt x="202" y="1373"/>
                  <a:pt x="218" y="1344"/>
                  <a:pt x="230" y="1311"/>
                </a:cubicBezTo>
                <a:cubicBezTo>
                  <a:pt x="250" y="1255"/>
                  <a:pt x="261" y="1199"/>
                  <a:pt x="270" y="1140"/>
                </a:cubicBezTo>
                <a:cubicBezTo>
                  <a:pt x="275" y="1029"/>
                  <a:pt x="323" y="857"/>
                  <a:pt x="235" y="769"/>
                </a:cubicBezTo>
                <a:cubicBezTo>
                  <a:pt x="227" y="741"/>
                  <a:pt x="214" y="752"/>
                  <a:pt x="224" y="724"/>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133720" y="3657600"/>
            <a:ext cx="609480" cy="685800"/>
          </a:xfrm>
          <a:custGeom>
            <a:avLst/>
            <a:gdLst/>
            <a:ahLst/>
            <a:rect l="l" t="t" r="r" b="b"/>
            <a:pathLst>
              <a:path w="4066" h="3319">
                <a:moveTo>
                  <a:pt x="224" y="724"/>
                </a:moveTo>
                <a:cubicBezTo>
                  <a:pt x="226" y="644"/>
                  <a:pt x="207" y="559"/>
                  <a:pt x="235" y="484"/>
                </a:cubicBezTo>
                <a:cubicBezTo>
                  <a:pt x="258" y="422"/>
                  <a:pt x="330" y="380"/>
                  <a:pt x="389" y="359"/>
                </a:cubicBezTo>
                <a:cubicBezTo>
                  <a:pt x="451" y="364"/>
                  <a:pt x="506" y="371"/>
                  <a:pt x="566" y="382"/>
                </a:cubicBezTo>
                <a:cubicBezTo>
                  <a:pt x="618" y="407"/>
                  <a:pt x="615" y="398"/>
                  <a:pt x="692" y="393"/>
                </a:cubicBezTo>
                <a:cubicBezTo>
                  <a:pt x="733" y="382"/>
                  <a:pt x="770" y="358"/>
                  <a:pt x="811" y="347"/>
                </a:cubicBezTo>
                <a:cubicBezTo>
                  <a:pt x="824" y="343"/>
                  <a:pt x="851" y="336"/>
                  <a:pt x="851" y="336"/>
                </a:cubicBezTo>
                <a:cubicBezTo>
                  <a:pt x="881" y="316"/>
                  <a:pt x="889" y="313"/>
                  <a:pt x="920" y="302"/>
                </a:cubicBezTo>
                <a:cubicBezTo>
                  <a:pt x="965" y="270"/>
                  <a:pt x="944" y="278"/>
                  <a:pt x="977" y="268"/>
                </a:cubicBezTo>
                <a:cubicBezTo>
                  <a:pt x="992" y="252"/>
                  <a:pt x="1008" y="246"/>
                  <a:pt x="1028" y="239"/>
                </a:cubicBezTo>
                <a:cubicBezTo>
                  <a:pt x="1086" y="196"/>
                  <a:pt x="1152" y="184"/>
                  <a:pt x="1222" y="171"/>
                </a:cubicBezTo>
                <a:cubicBezTo>
                  <a:pt x="1355" y="174"/>
                  <a:pt x="1473" y="184"/>
                  <a:pt x="1604" y="171"/>
                </a:cubicBezTo>
                <a:cubicBezTo>
                  <a:pt x="1646" y="160"/>
                  <a:pt x="1687" y="149"/>
                  <a:pt x="1730" y="142"/>
                </a:cubicBezTo>
                <a:cubicBezTo>
                  <a:pt x="1781" y="124"/>
                  <a:pt x="1836" y="109"/>
                  <a:pt x="1884" y="85"/>
                </a:cubicBezTo>
                <a:cubicBezTo>
                  <a:pt x="1932" y="61"/>
                  <a:pt x="1972" y="41"/>
                  <a:pt x="2026" y="34"/>
                </a:cubicBezTo>
                <a:cubicBezTo>
                  <a:pt x="2065" y="20"/>
                  <a:pt x="2105" y="9"/>
                  <a:pt x="2146" y="0"/>
                </a:cubicBezTo>
                <a:cubicBezTo>
                  <a:pt x="2199" y="2"/>
                  <a:pt x="2253" y="1"/>
                  <a:pt x="2306" y="5"/>
                </a:cubicBezTo>
                <a:cubicBezTo>
                  <a:pt x="2342" y="8"/>
                  <a:pt x="2379" y="29"/>
                  <a:pt x="2414" y="39"/>
                </a:cubicBezTo>
                <a:cubicBezTo>
                  <a:pt x="2445" y="48"/>
                  <a:pt x="2469" y="66"/>
                  <a:pt x="2500" y="74"/>
                </a:cubicBezTo>
                <a:cubicBezTo>
                  <a:pt x="2513" y="78"/>
                  <a:pt x="2539" y="85"/>
                  <a:pt x="2539" y="85"/>
                </a:cubicBezTo>
                <a:cubicBezTo>
                  <a:pt x="2547" y="91"/>
                  <a:pt x="2553" y="98"/>
                  <a:pt x="2562" y="102"/>
                </a:cubicBezTo>
                <a:cubicBezTo>
                  <a:pt x="2569" y="106"/>
                  <a:pt x="2579" y="103"/>
                  <a:pt x="2585" y="108"/>
                </a:cubicBezTo>
                <a:cubicBezTo>
                  <a:pt x="2590" y="112"/>
                  <a:pt x="2587" y="120"/>
                  <a:pt x="2591" y="125"/>
                </a:cubicBezTo>
                <a:cubicBezTo>
                  <a:pt x="2599" y="136"/>
                  <a:pt x="2619" y="154"/>
                  <a:pt x="2619" y="154"/>
                </a:cubicBezTo>
                <a:cubicBezTo>
                  <a:pt x="2947" y="138"/>
                  <a:pt x="3314" y="61"/>
                  <a:pt x="3623" y="182"/>
                </a:cubicBezTo>
                <a:cubicBezTo>
                  <a:pt x="3680" y="259"/>
                  <a:pt x="3593" y="147"/>
                  <a:pt x="3669" y="222"/>
                </a:cubicBezTo>
                <a:cubicBezTo>
                  <a:pt x="3693" y="245"/>
                  <a:pt x="3683" y="257"/>
                  <a:pt x="3714" y="268"/>
                </a:cubicBezTo>
                <a:cubicBezTo>
                  <a:pt x="3731" y="284"/>
                  <a:pt x="3743" y="303"/>
                  <a:pt x="3760" y="319"/>
                </a:cubicBezTo>
                <a:cubicBezTo>
                  <a:pt x="3766" y="335"/>
                  <a:pt x="3769" y="356"/>
                  <a:pt x="3777" y="370"/>
                </a:cubicBezTo>
                <a:cubicBezTo>
                  <a:pt x="3787" y="387"/>
                  <a:pt x="3789" y="378"/>
                  <a:pt x="3800" y="393"/>
                </a:cubicBezTo>
                <a:cubicBezTo>
                  <a:pt x="3816" y="416"/>
                  <a:pt x="3822" y="435"/>
                  <a:pt x="3828" y="461"/>
                </a:cubicBezTo>
                <a:cubicBezTo>
                  <a:pt x="3819" y="554"/>
                  <a:pt x="3789" y="607"/>
                  <a:pt x="3754" y="690"/>
                </a:cubicBezTo>
                <a:cubicBezTo>
                  <a:pt x="3761" y="801"/>
                  <a:pt x="3749" y="914"/>
                  <a:pt x="3851" y="980"/>
                </a:cubicBezTo>
                <a:cubicBezTo>
                  <a:pt x="3872" y="993"/>
                  <a:pt x="3884" y="1013"/>
                  <a:pt x="3908" y="1020"/>
                </a:cubicBezTo>
                <a:cubicBezTo>
                  <a:pt x="3917" y="1029"/>
                  <a:pt x="3921" y="1041"/>
                  <a:pt x="3931" y="1049"/>
                </a:cubicBezTo>
                <a:cubicBezTo>
                  <a:pt x="3938" y="1054"/>
                  <a:pt x="3947" y="1056"/>
                  <a:pt x="3954" y="1060"/>
                </a:cubicBezTo>
                <a:cubicBezTo>
                  <a:pt x="3960" y="1063"/>
                  <a:pt x="3966" y="1067"/>
                  <a:pt x="3971" y="1072"/>
                </a:cubicBezTo>
                <a:cubicBezTo>
                  <a:pt x="3989" y="1087"/>
                  <a:pt x="4000" y="1107"/>
                  <a:pt x="4017" y="1123"/>
                </a:cubicBezTo>
                <a:cubicBezTo>
                  <a:pt x="4066" y="1347"/>
                  <a:pt x="4027" y="1161"/>
                  <a:pt x="4017" y="1767"/>
                </a:cubicBezTo>
                <a:cubicBezTo>
                  <a:pt x="4016" y="1847"/>
                  <a:pt x="3986" y="1971"/>
                  <a:pt x="3959" y="2047"/>
                </a:cubicBezTo>
                <a:cubicBezTo>
                  <a:pt x="3916" y="2169"/>
                  <a:pt x="3950" y="2310"/>
                  <a:pt x="3845" y="2406"/>
                </a:cubicBezTo>
                <a:cubicBezTo>
                  <a:pt x="3839" y="2427"/>
                  <a:pt x="3804" y="2450"/>
                  <a:pt x="3783" y="2463"/>
                </a:cubicBezTo>
                <a:cubicBezTo>
                  <a:pt x="3766" y="2487"/>
                  <a:pt x="3749" y="2491"/>
                  <a:pt x="3726" y="2509"/>
                </a:cubicBezTo>
                <a:cubicBezTo>
                  <a:pt x="3691" y="2536"/>
                  <a:pt x="3660" y="2581"/>
                  <a:pt x="3617" y="2594"/>
                </a:cubicBezTo>
                <a:cubicBezTo>
                  <a:pt x="3602" y="2618"/>
                  <a:pt x="3590" y="2614"/>
                  <a:pt x="3566" y="2629"/>
                </a:cubicBezTo>
                <a:cubicBezTo>
                  <a:pt x="3545" y="2642"/>
                  <a:pt x="3526" y="2661"/>
                  <a:pt x="3503" y="2669"/>
                </a:cubicBezTo>
                <a:cubicBezTo>
                  <a:pt x="3495" y="2676"/>
                  <a:pt x="3488" y="2683"/>
                  <a:pt x="3480" y="2691"/>
                </a:cubicBezTo>
                <a:cubicBezTo>
                  <a:pt x="3470" y="2701"/>
                  <a:pt x="3452" y="2720"/>
                  <a:pt x="3452" y="2720"/>
                </a:cubicBezTo>
                <a:cubicBezTo>
                  <a:pt x="3429" y="2695"/>
                  <a:pt x="3407" y="2725"/>
                  <a:pt x="3383" y="2737"/>
                </a:cubicBezTo>
                <a:cubicBezTo>
                  <a:pt x="3355" y="2781"/>
                  <a:pt x="3337" y="2839"/>
                  <a:pt x="3292" y="2868"/>
                </a:cubicBezTo>
                <a:cubicBezTo>
                  <a:pt x="3277" y="2892"/>
                  <a:pt x="3260" y="2892"/>
                  <a:pt x="3235" y="2908"/>
                </a:cubicBezTo>
                <a:cubicBezTo>
                  <a:pt x="3215" y="2921"/>
                  <a:pt x="3207" y="2935"/>
                  <a:pt x="3184" y="2942"/>
                </a:cubicBezTo>
                <a:cubicBezTo>
                  <a:pt x="3150" y="2976"/>
                  <a:pt x="3105" y="2992"/>
                  <a:pt x="3064" y="3016"/>
                </a:cubicBezTo>
                <a:cubicBezTo>
                  <a:pt x="3052" y="3023"/>
                  <a:pt x="3043" y="3036"/>
                  <a:pt x="3030" y="3039"/>
                </a:cubicBezTo>
                <a:cubicBezTo>
                  <a:pt x="2986" y="3048"/>
                  <a:pt x="3011" y="3044"/>
                  <a:pt x="2956" y="3051"/>
                </a:cubicBezTo>
                <a:cubicBezTo>
                  <a:pt x="2846" y="3093"/>
                  <a:pt x="2949" y="3072"/>
                  <a:pt x="2705" y="3079"/>
                </a:cubicBezTo>
                <a:cubicBezTo>
                  <a:pt x="2701" y="3083"/>
                  <a:pt x="2696" y="3086"/>
                  <a:pt x="2693" y="3091"/>
                </a:cubicBezTo>
                <a:cubicBezTo>
                  <a:pt x="2690" y="3096"/>
                  <a:pt x="2692" y="3103"/>
                  <a:pt x="2688" y="3108"/>
                </a:cubicBezTo>
                <a:cubicBezTo>
                  <a:pt x="2679" y="3119"/>
                  <a:pt x="2654" y="3134"/>
                  <a:pt x="2642" y="3142"/>
                </a:cubicBezTo>
                <a:cubicBezTo>
                  <a:pt x="2625" y="3177"/>
                  <a:pt x="2595" y="3243"/>
                  <a:pt x="2557" y="3256"/>
                </a:cubicBezTo>
                <a:cubicBezTo>
                  <a:pt x="2553" y="3260"/>
                  <a:pt x="2550" y="3268"/>
                  <a:pt x="2545" y="3267"/>
                </a:cubicBezTo>
                <a:cubicBezTo>
                  <a:pt x="2519" y="3262"/>
                  <a:pt x="2497" y="3244"/>
                  <a:pt x="2471" y="3239"/>
                </a:cubicBezTo>
                <a:cubicBezTo>
                  <a:pt x="2412" y="3210"/>
                  <a:pt x="2449" y="3226"/>
                  <a:pt x="2357" y="3199"/>
                </a:cubicBezTo>
                <a:cubicBezTo>
                  <a:pt x="2340" y="3194"/>
                  <a:pt x="2323" y="3188"/>
                  <a:pt x="2306" y="3182"/>
                </a:cubicBezTo>
                <a:cubicBezTo>
                  <a:pt x="2294" y="3178"/>
                  <a:pt x="2271" y="3170"/>
                  <a:pt x="2271" y="3170"/>
                </a:cubicBezTo>
                <a:cubicBezTo>
                  <a:pt x="2255" y="3117"/>
                  <a:pt x="2190" y="3121"/>
                  <a:pt x="2146" y="3108"/>
                </a:cubicBezTo>
                <a:cubicBezTo>
                  <a:pt x="2148" y="3096"/>
                  <a:pt x="2158" y="3083"/>
                  <a:pt x="2152" y="3073"/>
                </a:cubicBezTo>
                <a:cubicBezTo>
                  <a:pt x="2148" y="3066"/>
                  <a:pt x="2137" y="3079"/>
                  <a:pt x="2129" y="3079"/>
                </a:cubicBezTo>
                <a:cubicBezTo>
                  <a:pt x="2101" y="3079"/>
                  <a:pt x="2099" y="3068"/>
                  <a:pt x="2072" y="3062"/>
                </a:cubicBezTo>
                <a:cubicBezTo>
                  <a:pt x="2051" y="3057"/>
                  <a:pt x="2009" y="3051"/>
                  <a:pt x="2009" y="3051"/>
                </a:cubicBezTo>
                <a:cubicBezTo>
                  <a:pt x="1984" y="3056"/>
                  <a:pt x="1957" y="3055"/>
                  <a:pt x="1935" y="3068"/>
                </a:cubicBezTo>
                <a:cubicBezTo>
                  <a:pt x="1909" y="3083"/>
                  <a:pt x="1885" y="3117"/>
                  <a:pt x="1861" y="3130"/>
                </a:cubicBezTo>
                <a:cubicBezTo>
                  <a:pt x="1827" y="3148"/>
                  <a:pt x="1789" y="3166"/>
                  <a:pt x="1752" y="3176"/>
                </a:cubicBezTo>
                <a:cubicBezTo>
                  <a:pt x="1731" y="3188"/>
                  <a:pt x="1714" y="3193"/>
                  <a:pt x="1690" y="3199"/>
                </a:cubicBezTo>
                <a:cubicBezTo>
                  <a:pt x="1675" y="3208"/>
                  <a:pt x="1661" y="3221"/>
                  <a:pt x="1644" y="3227"/>
                </a:cubicBezTo>
                <a:cubicBezTo>
                  <a:pt x="1638" y="3229"/>
                  <a:pt x="1632" y="3230"/>
                  <a:pt x="1627" y="3233"/>
                </a:cubicBezTo>
                <a:cubicBezTo>
                  <a:pt x="1610" y="3242"/>
                  <a:pt x="1598" y="3258"/>
                  <a:pt x="1581" y="3267"/>
                </a:cubicBezTo>
                <a:cubicBezTo>
                  <a:pt x="1548" y="3283"/>
                  <a:pt x="1553" y="3275"/>
                  <a:pt x="1524" y="3284"/>
                </a:cubicBezTo>
                <a:cubicBezTo>
                  <a:pt x="1484" y="3296"/>
                  <a:pt x="1446" y="3310"/>
                  <a:pt x="1405" y="3319"/>
                </a:cubicBezTo>
                <a:cubicBezTo>
                  <a:pt x="1304" y="3317"/>
                  <a:pt x="1203" y="3317"/>
                  <a:pt x="1102" y="3313"/>
                </a:cubicBezTo>
                <a:cubicBezTo>
                  <a:pt x="1031" y="3310"/>
                  <a:pt x="962" y="3286"/>
                  <a:pt x="891" y="3279"/>
                </a:cubicBezTo>
                <a:cubicBezTo>
                  <a:pt x="811" y="3251"/>
                  <a:pt x="911" y="3283"/>
                  <a:pt x="806" y="3262"/>
                </a:cubicBezTo>
                <a:cubicBezTo>
                  <a:pt x="787" y="3258"/>
                  <a:pt x="768" y="3249"/>
                  <a:pt x="749" y="3245"/>
                </a:cubicBezTo>
                <a:cubicBezTo>
                  <a:pt x="723" y="3232"/>
                  <a:pt x="697" y="3217"/>
                  <a:pt x="669" y="3210"/>
                </a:cubicBezTo>
                <a:cubicBezTo>
                  <a:pt x="645" y="3188"/>
                  <a:pt x="610" y="3173"/>
                  <a:pt x="583" y="3153"/>
                </a:cubicBezTo>
                <a:cubicBezTo>
                  <a:pt x="553" y="3131"/>
                  <a:pt x="539" y="3104"/>
                  <a:pt x="509" y="3085"/>
                </a:cubicBezTo>
                <a:cubicBezTo>
                  <a:pt x="490" y="3054"/>
                  <a:pt x="471" y="3025"/>
                  <a:pt x="452" y="2994"/>
                </a:cubicBezTo>
                <a:cubicBezTo>
                  <a:pt x="435" y="2914"/>
                  <a:pt x="448" y="2819"/>
                  <a:pt x="481" y="2743"/>
                </a:cubicBezTo>
                <a:cubicBezTo>
                  <a:pt x="496" y="2626"/>
                  <a:pt x="508" y="2509"/>
                  <a:pt x="538" y="2395"/>
                </a:cubicBezTo>
                <a:cubicBezTo>
                  <a:pt x="542" y="2341"/>
                  <a:pt x="569" y="2276"/>
                  <a:pt x="509" y="2247"/>
                </a:cubicBezTo>
                <a:cubicBezTo>
                  <a:pt x="472" y="2207"/>
                  <a:pt x="414" y="2179"/>
                  <a:pt x="361" y="2167"/>
                </a:cubicBezTo>
                <a:cubicBezTo>
                  <a:pt x="301" y="2125"/>
                  <a:pt x="392" y="2185"/>
                  <a:pt x="321" y="2150"/>
                </a:cubicBezTo>
                <a:cubicBezTo>
                  <a:pt x="297" y="2138"/>
                  <a:pt x="276" y="2118"/>
                  <a:pt x="253" y="2104"/>
                </a:cubicBezTo>
                <a:cubicBezTo>
                  <a:pt x="209" y="2077"/>
                  <a:pt x="185" y="2027"/>
                  <a:pt x="144" y="1996"/>
                </a:cubicBezTo>
                <a:cubicBezTo>
                  <a:pt x="119" y="1956"/>
                  <a:pt x="150" y="2001"/>
                  <a:pt x="110" y="1961"/>
                </a:cubicBezTo>
                <a:cubicBezTo>
                  <a:pt x="87" y="1938"/>
                  <a:pt x="72" y="1905"/>
                  <a:pt x="47" y="1882"/>
                </a:cubicBezTo>
                <a:cubicBezTo>
                  <a:pt x="32" y="1843"/>
                  <a:pt x="11" y="1816"/>
                  <a:pt x="2" y="1773"/>
                </a:cubicBezTo>
                <a:cubicBezTo>
                  <a:pt x="5" y="1718"/>
                  <a:pt x="0" y="1669"/>
                  <a:pt x="42" y="1631"/>
                </a:cubicBezTo>
                <a:cubicBezTo>
                  <a:pt x="53" y="1593"/>
                  <a:pt x="75" y="1574"/>
                  <a:pt x="99" y="1545"/>
                </a:cubicBezTo>
                <a:cubicBezTo>
                  <a:pt x="115" y="1526"/>
                  <a:pt x="126" y="1506"/>
                  <a:pt x="144" y="1488"/>
                </a:cubicBezTo>
                <a:cubicBezTo>
                  <a:pt x="165" y="1439"/>
                  <a:pt x="146" y="1476"/>
                  <a:pt x="167" y="1448"/>
                </a:cubicBezTo>
                <a:cubicBezTo>
                  <a:pt x="177" y="1435"/>
                  <a:pt x="196" y="1408"/>
                  <a:pt x="196" y="1408"/>
                </a:cubicBezTo>
                <a:cubicBezTo>
                  <a:pt x="202" y="1373"/>
                  <a:pt x="218" y="1344"/>
                  <a:pt x="230" y="1311"/>
                </a:cubicBezTo>
                <a:cubicBezTo>
                  <a:pt x="250" y="1255"/>
                  <a:pt x="261" y="1199"/>
                  <a:pt x="270" y="1140"/>
                </a:cubicBezTo>
                <a:cubicBezTo>
                  <a:pt x="275" y="1029"/>
                  <a:pt x="323" y="857"/>
                  <a:pt x="235" y="769"/>
                </a:cubicBezTo>
                <a:cubicBezTo>
                  <a:pt x="227" y="741"/>
                  <a:pt x="214" y="752"/>
                  <a:pt x="224" y="724"/>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47920" y="3124080"/>
            <a:ext cx="609480" cy="685800"/>
          </a:xfrm>
          <a:custGeom>
            <a:avLst/>
            <a:gdLst/>
            <a:ahLst/>
            <a:rect l="l" t="t" r="r" b="b"/>
            <a:pathLst>
              <a:path w="4066" h="3319">
                <a:moveTo>
                  <a:pt x="224" y="724"/>
                </a:moveTo>
                <a:cubicBezTo>
                  <a:pt x="226" y="644"/>
                  <a:pt x="207" y="559"/>
                  <a:pt x="235" y="484"/>
                </a:cubicBezTo>
                <a:cubicBezTo>
                  <a:pt x="258" y="422"/>
                  <a:pt x="330" y="380"/>
                  <a:pt x="389" y="359"/>
                </a:cubicBezTo>
                <a:cubicBezTo>
                  <a:pt x="451" y="364"/>
                  <a:pt x="506" y="371"/>
                  <a:pt x="566" y="382"/>
                </a:cubicBezTo>
                <a:cubicBezTo>
                  <a:pt x="618" y="407"/>
                  <a:pt x="615" y="398"/>
                  <a:pt x="692" y="393"/>
                </a:cubicBezTo>
                <a:cubicBezTo>
                  <a:pt x="733" y="382"/>
                  <a:pt x="770" y="358"/>
                  <a:pt x="811" y="347"/>
                </a:cubicBezTo>
                <a:cubicBezTo>
                  <a:pt x="824" y="343"/>
                  <a:pt x="851" y="336"/>
                  <a:pt x="851" y="336"/>
                </a:cubicBezTo>
                <a:cubicBezTo>
                  <a:pt x="881" y="316"/>
                  <a:pt x="889" y="313"/>
                  <a:pt x="920" y="302"/>
                </a:cubicBezTo>
                <a:cubicBezTo>
                  <a:pt x="965" y="270"/>
                  <a:pt x="944" y="278"/>
                  <a:pt x="977" y="268"/>
                </a:cubicBezTo>
                <a:cubicBezTo>
                  <a:pt x="992" y="252"/>
                  <a:pt x="1008" y="246"/>
                  <a:pt x="1028" y="239"/>
                </a:cubicBezTo>
                <a:cubicBezTo>
                  <a:pt x="1086" y="196"/>
                  <a:pt x="1152" y="184"/>
                  <a:pt x="1222" y="171"/>
                </a:cubicBezTo>
                <a:cubicBezTo>
                  <a:pt x="1355" y="174"/>
                  <a:pt x="1473" y="184"/>
                  <a:pt x="1604" y="171"/>
                </a:cubicBezTo>
                <a:cubicBezTo>
                  <a:pt x="1646" y="160"/>
                  <a:pt x="1687" y="149"/>
                  <a:pt x="1730" y="142"/>
                </a:cubicBezTo>
                <a:cubicBezTo>
                  <a:pt x="1781" y="124"/>
                  <a:pt x="1836" y="109"/>
                  <a:pt x="1884" y="85"/>
                </a:cubicBezTo>
                <a:cubicBezTo>
                  <a:pt x="1932" y="61"/>
                  <a:pt x="1972" y="41"/>
                  <a:pt x="2026" y="34"/>
                </a:cubicBezTo>
                <a:cubicBezTo>
                  <a:pt x="2065" y="20"/>
                  <a:pt x="2105" y="9"/>
                  <a:pt x="2146" y="0"/>
                </a:cubicBezTo>
                <a:cubicBezTo>
                  <a:pt x="2199" y="2"/>
                  <a:pt x="2253" y="1"/>
                  <a:pt x="2306" y="5"/>
                </a:cubicBezTo>
                <a:cubicBezTo>
                  <a:pt x="2342" y="8"/>
                  <a:pt x="2379" y="29"/>
                  <a:pt x="2414" y="39"/>
                </a:cubicBezTo>
                <a:cubicBezTo>
                  <a:pt x="2445" y="48"/>
                  <a:pt x="2469" y="66"/>
                  <a:pt x="2500" y="74"/>
                </a:cubicBezTo>
                <a:cubicBezTo>
                  <a:pt x="2513" y="78"/>
                  <a:pt x="2539" y="85"/>
                  <a:pt x="2539" y="85"/>
                </a:cubicBezTo>
                <a:cubicBezTo>
                  <a:pt x="2547" y="91"/>
                  <a:pt x="2553" y="98"/>
                  <a:pt x="2562" y="102"/>
                </a:cubicBezTo>
                <a:cubicBezTo>
                  <a:pt x="2569" y="106"/>
                  <a:pt x="2579" y="103"/>
                  <a:pt x="2585" y="108"/>
                </a:cubicBezTo>
                <a:cubicBezTo>
                  <a:pt x="2590" y="112"/>
                  <a:pt x="2587" y="120"/>
                  <a:pt x="2591" y="125"/>
                </a:cubicBezTo>
                <a:cubicBezTo>
                  <a:pt x="2599" y="136"/>
                  <a:pt x="2619" y="154"/>
                  <a:pt x="2619" y="154"/>
                </a:cubicBezTo>
                <a:cubicBezTo>
                  <a:pt x="2947" y="138"/>
                  <a:pt x="3314" y="61"/>
                  <a:pt x="3623" y="182"/>
                </a:cubicBezTo>
                <a:cubicBezTo>
                  <a:pt x="3680" y="259"/>
                  <a:pt x="3593" y="147"/>
                  <a:pt x="3669" y="222"/>
                </a:cubicBezTo>
                <a:cubicBezTo>
                  <a:pt x="3693" y="245"/>
                  <a:pt x="3683" y="257"/>
                  <a:pt x="3714" y="268"/>
                </a:cubicBezTo>
                <a:cubicBezTo>
                  <a:pt x="3731" y="284"/>
                  <a:pt x="3743" y="303"/>
                  <a:pt x="3760" y="319"/>
                </a:cubicBezTo>
                <a:cubicBezTo>
                  <a:pt x="3766" y="335"/>
                  <a:pt x="3769" y="356"/>
                  <a:pt x="3777" y="370"/>
                </a:cubicBezTo>
                <a:cubicBezTo>
                  <a:pt x="3787" y="387"/>
                  <a:pt x="3789" y="378"/>
                  <a:pt x="3800" y="393"/>
                </a:cubicBezTo>
                <a:cubicBezTo>
                  <a:pt x="3816" y="416"/>
                  <a:pt x="3822" y="435"/>
                  <a:pt x="3828" y="461"/>
                </a:cubicBezTo>
                <a:cubicBezTo>
                  <a:pt x="3819" y="554"/>
                  <a:pt x="3789" y="607"/>
                  <a:pt x="3754" y="690"/>
                </a:cubicBezTo>
                <a:cubicBezTo>
                  <a:pt x="3761" y="801"/>
                  <a:pt x="3749" y="914"/>
                  <a:pt x="3851" y="980"/>
                </a:cubicBezTo>
                <a:cubicBezTo>
                  <a:pt x="3872" y="993"/>
                  <a:pt x="3884" y="1013"/>
                  <a:pt x="3908" y="1020"/>
                </a:cubicBezTo>
                <a:cubicBezTo>
                  <a:pt x="3917" y="1029"/>
                  <a:pt x="3921" y="1041"/>
                  <a:pt x="3931" y="1049"/>
                </a:cubicBezTo>
                <a:cubicBezTo>
                  <a:pt x="3938" y="1054"/>
                  <a:pt x="3947" y="1056"/>
                  <a:pt x="3954" y="1060"/>
                </a:cubicBezTo>
                <a:cubicBezTo>
                  <a:pt x="3960" y="1063"/>
                  <a:pt x="3966" y="1067"/>
                  <a:pt x="3971" y="1072"/>
                </a:cubicBezTo>
                <a:cubicBezTo>
                  <a:pt x="3989" y="1087"/>
                  <a:pt x="4000" y="1107"/>
                  <a:pt x="4017" y="1123"/>
                </a:cubicBezTo>
                <a:cubicBezTo>
                  <a:pt x="4066" y="1347"/>
                  <a:pt x="4027" y="1161"/>
                  <a:pt x="4017" y="1767"/>
                </a:cubicBezTo>
                <a:cubicBezTo>
                  <a:pt x="4016" y="1847"/>
                  <a:pt x="3986" y="1971"/>
                  <a:pt x="3959" y="2047"/>
                </a:cubicBezTo>
                <a:cubicBezTo>
                  <a:pt x="3916" y="2169"/>
                  <a:pt x="3950" y="2310"/>
                  <a:pt x="3845" y="2406"/>
                </a:cubicBezTo>
                <a:cubicBezTo>
                  <a:pt x="3839" y="2427"/>
                  <a:pt x="3804" y="2450"/>
                  <a:pt x="3783" y="2463"/>
                </a:cubicBezTo>
                <a:cubicBezTo>
                  <a:pt x="3766" y="2487"/>
                  <a:pt x="3749" y="2491"/>
                  <a:pt x="3726" y="2509"/>
                </a:cubicBezTo>
                <a:cubicBezTo>
                  <a:pt x="3691" y="2536"/>
                  <a:pt x="3660" y="2581"/>
                  <a:pt x="3617" y="2594"/>
                </a:cubicBezTo>
                <a:cubicBezTo>
                  <a:pt x="3602" y="2618"/>
                  <a:pt x="3590" y="2614"/>
                  <a:pt x="3566" y="2629"/>
                </a:cubicBezTo>
                <a:cubicBezTo>
                  <a:pt x="3545" y="2642"/>
                  <a:pt x="3526" y="2661"/>
                  <a:pt x="3503" y="2669"/>
                </a:cubicBezTo>
                <a:cubicBezTo>
                  <a:pt x="3495" y="2676"/>
                  <a:pt x="3488" y="2683"/>
                  <a:pt x="3480" y="2691"/>
                </a:cubicBezTo>
                <a:cubicBezTo>
                  <a:pt x="3470" y="2701"/>
                  <a:pt x="3452" y="2720"/>
                  <a:pt x="3452" y="2720"/>
                </a:cubicBezTo>
                <a:cubicBezTo>
                  <a:pt x="3429" y="2695"/>
                  <a:pt x="3407" y="2725"/>
                  <a:pt x="3383" y="2737"/>
                </a:cubicBezTo>
                <a:cubicBezTo>
                  <a:pt x="3355" y="2781"/>
                  <a:pt x="3337" y="2839"/>
                  <a:pt x="3292" y="2868"/>
                </a:cubicBezTo>
                <a:cubicBezTo>
                  <a:pt x="3277" y="2892"/>
                  <a:pt x="3260" y="2892"/>
                  <a:pt x="3235" y="2908"/>
                </a:cubicBezTo>
                <a:cubicBezTo>
                  <a:pt x="3215" y="2921"/>
                  <a:pt x="3207" y="2935"/>
                  <a:pt x="3184" y="2942"/>
                </a:cubicBezTo>
                <a:cubicBezTo>
                  <a:pt x="3150" y="2976"/>
                  <a:pt x="3105" y="2992"/>
                  <a:pt x="3064" y="3016"/>
                </a:cubicBezTo>
                <a:cubicBezTo>
                  <a:pt x="3052" y="3023"/>
                  <a:pt x="3043" y="3036"/>
                  <a:pt x="3030" y="3039"/>
                </a:cubicBezTo>
                <a:cubicBezTo>
                  <a:pt x="2986" y="3048"/>
                  <a:pt x="3011" y="3044"/>
                  <a:pt x="2956" y="3051"/>
                </a:cubicBezTo>
                <a:cubicBezTo>
                  <a:pt x="2846" y="3093"/>
                  <a:pt x="2949" y="3072"/>
                  <a:pt x="2705" y="3079"/>
                </a:cubicBezTo>
                <a:cubicBezTo>
                  <a:pt x="2701" y="3083"/>
                  <a:pt x="2696" y="3086"/>
                  <a:pt x="2693" y="3091"/>
                </a:cubicBezTo>
                <a:cubicBezTo>
                  <a:pt x="2690" y="3096"/>
                  <a:pt x="2692" y="3103"/>
                  <a:pt x="2688" y="3108"/>
                </a:cubicBezTo>
                <a:cubicBezTo>
                  <a:pt x="2679" y="3119"/>
                  <a:pt x="2654" y="3134"/>
                  <a:pt x="2642" y="3142"/>
                </a:cubicBezTo>
                <a:cubicBezTo>
                  <a:pt x="2625" y="3177"/>
                  <a:pt x="2595" y="3243"/>
                  <a:pt x="2557" y="3256"/>
                </a:cubicBezTo>
                <a:cubicBezTo>
                  <a:pt x="2553" y="3260"/>
                  <a:pt x="2550" y="3268"/>
                  <a:pt x="2545" y="3267"/>
                </a:cubicBezTo>
                <a:cubicBezTo>
                  <a:pt x="2519" y="3262"/>
                  <a:pt x="2497" y="3244"/>
                  <a:pt x="2471" y="3239"/>
                </a:cubicBezTo>
                <a:cubicBezTo>
                  <a:pt x="2412" y="3210"/>
                  <a:pt x="2449" y="3226"/>
                  <a:pt x="2357" y="3199"/>
                </a:cubicBezTo>
                <a:cubicBezTo>
                  <a:pt x="2340" y="3194"/>
                  <a:pt x="2323" y="3188"/>
                  <a:pt x="2306" y="3182"/>
                </a:cubicBezTo>
                <a:cubicBezTo>
                  <a:pt x="2294" y="3178"/>
                  <a:pt x="2271" y="3170"/>
                  <a:pt x="2271" y="3170"/>
                </a:cubicBezTo>
                <a:cubicBezTo>
                  <a:pt x="2255" y="3117"/>
                  <a:pt x="2190" y="3121"/>
                  <a:pt x="2146" y="3108"/>
                </a:cubicBezTo>
                <a:cubicBezTo>
                  <a:pt x="2148" y="3096"/>
                  <a:pt x="2158" y="3083"/>
                  <a:pt x="2152" y="3073"/>
                </a:cubicBezTo>
                <a:cubicBezTo>
                  <a:pt x="2148" y="3066"/>
                  <a:pt x="2137" y="3079"/>
                  <a:pt x="2129" y="3079"/>
                </a:cubicBezTo>
                <a:cubicBezTo>
                  <a:pt x="2101" y="3079"/>
                  <a:pt x="2099" y="3068"/>
                  <a:pt x="2072" y="3062"/>
                </a:cubicBezTo>
                <a:cubicBezTo>
                  <a:pt x="2051" y="3057"/>
                  <a:pt x="2009" y="3051"/>
                  <a:pt x="2009" y="3051"/>
                </a:cubicBezTo>
                <a:cubicBezTo>
                  <a:pt x="1984" y="3056"/>
                  <a:pt x="1957" y="3055"/>
                  <a:pt x="1935" y="3068"/>
                </a:cubicBezTo>
                <a:cubicBezTo>
                  <a:pt x="1909" y="3083"/>
                  <a:pt x="1885" y="3117"/>
                  <a:pt x="1861" y="3130"/>
                </a:cubicBezTo>
                <a:cubicBezTo>
                  <a:pt x="1827" y="3148"/>
                  <a:pt x="1789" y="3166"/>
                  <a:pt x="1752" y="3176"/>
                </a:cubicBezTo>
                <a:cubicBezTo>
                  <a:pt x="1731" y="3188"/>
                  <a:pt x="1714" y="3193"/>
                  <a:pt x="1690" y="3199"/>
                </a:cubicBezTo>
                <a:cubicBezTo>
                  <a:pt x="1675" y="3208"/>
                  <a:pt x="1661" y="3221"/>
                  <a:pt x="1644" y="3227"/>
                </a:cubicBezTo>
                <a:cubicBezTo>
                  <a:pt x="1638" y="3229"/>
                  <a:pt x="1632" y="3230"/>
                  <a:pt x="1627" y="3233"/>
                </a:cubicBezTo>
                <a:cubicBezTo>
                  <a:pt x="1610" y="3242"/>
                  <a:pt x="1598" y="3258"/>
                  <a:pt x="1581" y="3267"/>
                </a:cubicBezTo>
                <a:cubicBezTo>
                  <a:pt x="1548" y="3283"/>
                  <a:pt x="1553" y="3275"/>
                  <a:pt x="1524" y="3284"/>
                </a:cubicBezTo>
                <a:cubicBezTo>
                  <a:pt x="1484" y="3296"/>
                  <a:pt x="1446" y="3310"/>
                  <a:pt x="1405" y="3319"/>
                </a:cubicBezTo>
                <a:cubicBezTo>
                  <a:pt x="1304" y="3317"/>
                  <a:pt x="1203" y="3317"/>
                  <a:pt x="1102" y="3313"/>
                </a:cubicBezTo>
                <a:cubicBezTo>
                  <a:pt x="1031" y="3310"/>
                  <a:pt x="962" y="3286"/>
                  <a:pt x="891" y="3279"/>
                </a:cubicBezTo>
                <a:cubicBezTo>
                  <a:pt x="811" y="3251"/>
                  <a:pt x="911" y="3283"/>
                  <a:pt x="806" y="3262"/>
                </a:cubicBezTo>
                <a:cubicBezTo>
                  <a:pt x="787" y="3258"/>
                  <a:pt x="768" y="3249"/>
                  <a:pt x="749" y="3245"/>
                </a:cubicBezTo>
                <a:cubicBezTo>
                  <a:pt x="723" y="3232"/>
                  <a:pt x="697" y="3217"/>
                  <a:pt x="669" y="3210"/>
                </a:cubicBezTo>
                <a:cubicBezTo>
                  <a:pt x="645" y="3188"/>
                  <a:pt x="610" y="3173"/>
                  <a:pt x="583" y="3153"/>
                </a:cubicBezTo>
                <a:cubicBezTo>
                  <a:pt x="553" y="3131"/>
                  <a:pt x="539" y="3104"/>
                  <a:pt x="509" y="3085"/>
                </a:cubicBezTo>
                <a:cubicBezTo>
                  <a:pt x="490" y="3054"/>
                  <a:pt x="471" y="3025"/>
                  <a:pt x="452" y="2994"/>
                </a:cubicBezTo>
                <a:cubicBezTo>
                  <a:pt x="435" y="2914"/>
                  <a:pt x="448" y="2819"/>
                  <a:pt x="481" y="2743"/>
                </a:cubicBezTo>
                <a:cubicBezTo>
                  <a:pt x="496" y="2626"/>
                  <a:pt x="508" y="2509"/>
                  <a:pt x="538" y="2395"/>
                </a:cubicBezTo>
                <a:cubicBezTo>
                  <a:pt x="542" y="2341"/>
                  <a:pt x="569" y="2276"/>
                  <a:pt x="509" y="2247"/>
                </a:cubicBezTo>
                <a:cubicBezTo>
                  <a:pt x="472" y="2207"/>
                  <a:pt x="414" y="2179"/>
                  <a:pt x="361" y="2167"/>
                </a:cubicBezTo>
                <a:cubicBezTo>
                  <a:pt x="301" y="2125"/>
                  <a:pt x="392" y="2185"/>
                  <a:pt x="321" y="2150"/>
                </a:cubicBezTo>
                <a:cubicBezTo>
                  <a:pt x="297" y="2138"/>
                  <a:pt x="276" y="2118"/>
                  <a:pt x="253" y="2104"/>
                </a:cubicBezTo>
                <a:cubicBezTo>
                  <a:pt x="209" y="2077"/>
                  <a:pt x="185" y="2027"/>
                  <a:pt x="144" y="1996"/>
                </a:cubicBezTo>
                <a:cubicBezTo>
                  <a:pt x="119" y="1956"/>
                  <a:pt x="150" y="2001"/>
                  <a:pt x="110" y="1961"/>
                </a:cubicBezTo>
                <a:cubicBezTo>
                  <a:pt x="87" y="1938"/>
                  <a:pt x="72" y="1905"/>
                  <a:pt x="47" y="1882"/>
                </a:cubicBezTo>
                <a:cubicBezTo>
                  <a:pt x="32" y="1843"/>
                  <a:pt x="11" y="1816"/>
                  <a:pt x="2" y="1773"/>
                </a:cubicBezTo>
                <a:cubicBezTo>
                  <a:pt x="5" y="1718"/>
                  <a:pt x="0" y="1669"/>
                  <a:pt x="42" y="1631"/>
                </a:cubicBezTo>
                <a:cubicBezTo>
                  <a:pt x="53" y="1593"/>
                  <a:pt x="75" y="1574"/>
                  <a:pt x="99" y="1545"/>
                </a:cubicBezTo>
                <a:cubicBezTo>
                  <a:pt x="115" y="1526"/>
                  <a:pt x="126" y="1506"/>
                  <a:pt x="144" y="1488"/>
                </a:cubicBezTo>
                <a:cubicBezTo>
                  <a:pt x="165" y="1439"/>
                  <a:pt x="146" y="1476"/>
                  <a:pt x="167" y="1448"/>
                </a:cubicBezTo>
                <a:cubicBezTo>
                  <a:pt x="177" y="1435"/>
                  <a:pt x="196" y="1408"/>
                  <a:pt x="196" y="1408"/>
                </a:cubicBezTo>
                <a:cubicBezTo>
                  <a:pt x="202" y="1373"/>
                  <a:pt x="218" y="1344"/>
                  <a:pt x="230" y="1311"/>
                </a:cubicBezTo>
                <a:cubicBezTo>
                  <a:pt x="250" y="1255"/>
                  <a:pt x="261" y="1199"/>
                  <a:pt x="270" y="1140"/>
                </a:cubicBezTo>
                <a:cubicBezTo>
                  <a:pt x="275" y="1029"/>
                  <a:pt x="323" y="857"/>
                  <a:pt x="235" y="769"/>
                </a:cubicBezTo>
                <a:cubicBezTo>
                  <a:pt x="227" y="741"/>
                  <a:pt x="214" y="752"/>
                  <a:pt x="224" y="724"/>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057400" y="2590920"/>
            <a:ext cx="609480" cy="685800"/>
          </a:xfrm>
          <a:custGeom>
            <a:avLst/>
            <a:gdLst/>
            <a:ahLst/>
            <a:rect l="l" t="t" r="r" b="b"/>
            <a:pathLst>
              <a:path w="4066" h="3319">
                <a:moveTo>
                  <a:pt x="224" y="724"/>
                </a:moveTo>
                <a:cubicBezTo>
                  <a:pt x="226" y="644"/>
                  <a:pt x="207" y="559"/>
                  <a:pt x="235" y="484"/>
                </a:cubicBezTo>
                <a:cubicBezTo>
                  <a:pt x="258" y="422"/>
                  <a:pt x="330" y="380"/>
                  <a:pt x="389" y="359"/>
                </a:cubicBezTo>
                <a:cubicBezTo>
                  <a:pt x="451" y="364"/>
                  <a:pt x="506" y="371"/>
                  <a:pt x="566" y="382"/>
                </a:cubicBezTo>
                <a:cubicBezTo>
                  <a:pt x="618" y="407"/>
                  <a:pt x="615" y="398"/>
                  <a:pt x="692" y="393"/>
                </a:cubicBezTo>
                <a:cubicBezTo>
                  <a:pt x="733" y="382"/>
                  <a:pt x="770" y="358"/>
                  <a:pt x="811" y="347"/>
                </a:cubicBezTo>
                <a:cubicBezTo>
                  <a:pt x="824" y="343"/>
                  <a:pt x="851" y="336"/>
                  <a:pt x="851" y="336"/>
                </a:cubicBezTo>
                <a:cubicBezTo>
                  <a:pt x="881" y="316"/>
                  <a:pt x="889" y="313"/>
                  <a:pt x="920" y="302"/>
                </a:cubicBezTo>
                <a:cubicBezTo>
                  <a:pt x="965" y="270"/>
                  <a:pt x="944" y="278"/>
                  <a:pt x="977" y="268"/>
                </a:cubicBezTo>
                <a:cubicBezTo>
                  <a:pt x="992" y="252"/>
                  <a:pt x="1008" y="246"/>
                  <a:pt x="1028" y="239"/>
                </a:cubicBezTo>
                <a:cubicBezTo>
                  <a:pt x="1086" y="196"/>
                  <a:pt x="1152" y="184"/>
                  <a:pt x="1222" y="171"/>
                </a:cubicBezTo>
                <a:cubicBezTo>
                  <a:pt x="1355" y="174"/>
                  <a:pt x="1473" y="184"/>
                  <a:pt x="1604" y="171"/>
                </a:cubicBezTo>
                <a:cubicBezTo>
                  <a:pt x="1646" y="160"/>
                  <a:pt x="1687" y="149"/>
                  <a:pt x="1730" y="142"/>
                </a:cubicBezTo>
                <a:cubicBezTo>
                  <a:pt x="1781" y="124"/>
                  <a:pt x="1836" y="109"/>
                  <a:pt x="1884" y="85"/>
                </a:cubicBezTo>
                <a:cubicBezTo>
                  <a:pt x="1932" y="61"/>
                  <a:pt x="1972" y="41"/>
                  <a:pt x="2026" y="34"/>
                </a:cubicBezTo>
                <a:cubicBezTo>
                  <a:pt x="2065" y="20"/>
                  <a:pt x="2105" y="9"/>
                  <a:pt x="2146" y="0"/>
                </a:cubicBezTo>
                <a:cubicBezTo>
                  <a:pt x="2199" y="2"/>
                  <a:pt x="2253" y="1"/>
                  <a:pt x="2306" y="5"/>
                </a:cubicBezTo>
                <a:cubicBezTo>
                  <a:pt x="2342" y="8"/>
                  <a:pt x="2379" y="29"/>
                  <a:pt x="2414" y="39"/>
                </a:cubicBezTo>
                <a:cubicBezTo>
                  <a:pt x="2445" y="48"/>
                  <a:pt x="2469" y="66"/>
                  <a:pt x="2500" y="74"/>
                </a:cubicBezTo>
                <a:cubicBezTo>
                  <a:pt x="2513" y="78"/>
                  <a:pt x="2539" y="85"/>
                  <a:pt x="2539" y="85"/>
                </a:cubicBezTo>
                <a:cubicBezTo>
                  <a:pt x="2547" y="91"/>
                  <a:pt x="2553" y="98"/>
                  <a:pt x="2562" y="102"/>
                </a:cubicBezTo>
                <a:cubicBezTo>
                  <a:pt x="2569" y="106"/>
                  <a:pt x="2579" y="103"/>
                  <a:pt x="2585" y="108"/>
                </a:cubicBezTo>
                <a:cubicBezTo>
                  <a:pt x="2590" y="112"/>
                  <a:pt x="2587" y="120"/>
                  <a:pt x="2591" y="125"/>
                </a:cubicBezTo>
                <a:cubicBezTo>
                  <a:pt x="2599" y="136"/>
                  <a:pt x="2619" y="154"/>
                  <a:pt x="2619" y="154"/>
                </a:cubicBezTo>
                <a:cubicBezTo>
                  <a:pt x="2947" y="138"/>
                  <a:pt x="3314" y="61"/>
                  <a:pt x="3623" y="182"/>
                </a:cubicBezTo>
                <a:cubicBezTo>
                  <a:pt x="3680" y="259"/>
                  <a:pt x="3593" y="147"/>
                  <a:pt x="3669" y="222"/>
                </a:cubicBezTo>
                <a:cubicBezTo>
                  <a:pt x="3693" y="245"/>
                  <a:pt x="3683" y="257"/>
                  <a:pt x="3714" y="268"/>
                </a:cubicBezTo>
                <a:cubicBezTo>
                  <a:pt x="3731" y="284"/>
                  <a:pt x="3743" y="303"/>
                  <a:pt x="3760" y="319"/>
                </a:cubicBezTo>
                <a:cubicBezTo>
                  <a:pt x="3766" y="335"/>
                  <a:pt x="3769" y="356"/>
                  <a:pt x="3777" y="370"/>
                </a:cubicBezTo>
                <a:cubicBezTo>
                  <a:pt x="3787" y="387"/>
                  <a:pt x="3789" y="378"/>
                  <a:pt x="3800" y="393"/>
                </a:cubicBezTo>
                <a:cubicBezTo>
                  <a:pt x="3816" y="416"/>
                  <a:pt x="3822" y="435"/>
                  <a:pt x="3828" y="461"/>
                </a:cubicBezTo>
                <a:cubicBezTo>
                  <a:pt x="3819" y="554"/>
                  <a:pt x="3789" y="607"/>
                  <a:pt x="3754" y="690"/>
                </a:cubicBezTo>
                <a:cubicBezTo>
                  <a:pt x="3761" y="801"/>
                  <a:pt x="3749" y="914"/>
                  <a:pt x="3851" y="980"/>
                </a:cubicBezTo>
                <a:cubicBezTo>
                  <a:pt x="3872" y="993"/>
                  <a:pt x="3884" y="1013"/>
                  <a:pt x="3908" y="1020"/>
                </a:cubicBezTo>
                <a:cubicBezTo>
                  <a:pt x="3917" y="1029"/>
                  <a:pt x="3921" y="1041"/>
                  <a:pt x="3931" y="1049"/>
                </a:cubicBezTo>
                <a:cubicBezTo>
                  <a:pt x="3938" y="1054"/>
                  <a:pt x="3947" y="1056"/>
                  <a:pt x="3954" y="1060"/>
                </a:cubicBezTo>
                <a:cubicBezTo>
                  <a:pt x="3960" y="1063"/>
                  <a:pt x="3966" y="1067"/>
                  <a:pt x="3971" y="1072"/>
                </a:cubicBezTo>
                <a:cubicBezTo>
                  <a:pt x="3989" y="1087"/>
                  <a:pt x="4000" y="1107"/>
                  <a:pt x="4017" y="1123"/>
                </a:cubicBezTo>
                <a:cubicBezTo>
                  <a:pt x="4066" y="1347"/>
                  <a:pt x="4027" y="1161"/>
                  <a:pt x="4017" y="1767"/>
                </a:cubicBezTo>
                <a:cubicBezTo>
                  <a:pt x="4016" y="1847"/>
                  <a:pt x="3986" y="1971"/>
                  <a:pt x="3959" y="2047"/>
                </a:cubicBezTo>
                <a:cubicBezTo>
                  <a:pt x="3916" y="2169"/>
                  <a:pt x="3950" y="2310"/>
                  <a:pt x="3845" y="2406"/>
                </a:cubicBezTo>
                <a:cubicBezTo>
                  <a:pt x="3839" y="2427"/>
                  <a:pt x="3804" y="2450"/>
                  <a:pt x="3783" y="2463"/>
                </a:cubicBezTo>
                <a:cubicBezTo>
                  <a:pt x="3766" y="2487"/>
                  <a:pt x="3749" y="2491"/>
                  <a:pt x="3726" y="2509"/>
                </a:cubicBezTo>
                <a:cubicBezTo>
                  <a:pt x="3691" y="2536"/>
                  <a:pt x="3660" y="2581"/>
                  <a:pt x="3617" y="2594"/>
                </a:cubicBezTo>
                <a:cubicBezTo>
                  <a:pt x="3602" y="2618"/>
                  <a:pt x="3590" y="2614"/>
                  <a:pt x="3566" y="2629"/>
                </a:cubicBezTo>
                <a:cubicBezTo>
                  <a:pt x="3545" y="2642"/>
                  <a:pt x="3526" y="2661"/>
                  <a:pt x="3503" y="2669"/>
                </a:cubicBezTo>
                <a:cubicBezTo>
                  <a:pt x="3495" y="2676"/>
                  <a:pt x="3488" y="2683"/>
                  <a:pt x="3480" y="2691"/>
                </a:cubicBezTo>
                <a:cubicBezTo>
                  <a:pt x="3470" y="2701"/>
                  <a:pt x="3452" y="2720"/>
                  <a:pt x="3452" y="2720"/>
                </a:cubicBezTo>
                <a:cubicBezTo>
                  <a:pt x="3429" y="2695"/>
                  <a:pt x="3407" y="2725"/>
                  <a:pt x="3383" y="2737"/>
                </a:cubicBezTo>
                <a:cubicBezTo>
                  <a:pt x="3355" y="2781"/>
                  <a:pt x="3337" y="2839"/>
                  <a:pt x="3292" y="2868"/>
                </a:cubicBezTo>
                <a:cubicBezTo>
                  <a:pt x="3277" y="2892"/>
                  <a:pt x="3260" y="2892"/>
                  <a:pt x="3235" y="2908"/>
                </a:cubicBezTo>
                <a:cubicBezTo>
                  <a:pt x="3215" y="2921"/>
                  <a:pt x="3207" y="2935"/>
                  <a:pt x="3184" y="2942"/>
                </a:cubicBezTo>
                <a:cubicBezTo>
                  <a:pt x="3150" y="2976"/>
                  <a:pt x="3105" y="2992"/>
                  <a:pt x="3064" y="3016"/>
                </a:cubicBezTo>
                <a:cubicBezTo>
                  <a:pt x="3052" y="3023"/>
                  <a:pt x="3043" y="3036"/>
                  <a:pt x="3030" y="3039"/>
                </a:cubicBezTo>
                <a:cubicBezTo>
                  <a:pt x="2986" y="3048"/>
                  <a:pt x="3011" y="3044"/>
                  <a:pt x="2956" y="3051"/>
                </a:cubicBezTo>
                <a:cubicBezTo>
                  <a:pt x="2846" y="3093"/>
                  <a:pt x="2949" y="3072"/>
                  <a:pt x="2705" y="3079"/>
                </a:cubicBezTo>
                <a:cubicBezTo>
                  <a:pt x="2701" y="3083"/>
                  <a:pt x="2696" y="3086"/>
                  <a:pt x="2693" y="3091"/>
                </a:cubicBezTo>
                <a:cubicBezTo>
                  <a:pt x="2690" y="3096"/>
                  <a:pt x="2692" y="3103"/>
                  <a:pt x="2688" y="3108"/>
                </a:cubicBezTo>
                <a:cubicBezTo>
                  <a:pt x="2679" y="3119"/>
                  <a:pt x="2654" y="3134"/>
                  <a:pt x="2642" y="3142"/>
                </a:cubicBezTo>
                <a:cubicBezTo>
                  <a:pt x="2625" y="3177"/>
                  <a:pt x="2595" y="3243"/>
                  <a:pt x="2557" y="3256"/>
                </a:cubicBezTo>
                <a:cubicBezTo>
                  <a:pt x="2553" y="3260"/>
                  <a:pt x="2550" y="3268"/>
                  <a:pt x="2545" y="3267"/>
                </a:cubicBezTo>
                <a:cubicBezTo>
                  <a:pt x="2519" y="3262"/>
                  <a:pt x="2497" y="3244"/>
                  <a:pt x="2471" y="3239"/>
                </a:cubicBezTo>
                <a:cubicBezTo>
                  <a:pt x="2412" y="3210"/>
                  <a:pt x="2449" y="3226"/>
                  <a:pt x="2357" y="3199"/>
                </a:cubicBezTo>
                <a:cubicBezTo>
                  <a:pt x="2340" y="3194"/>
                  <a:pt x="2323" y="3188"/>
                  <a:pt x="2306" y="3182"/>
                </a:cubicBezTo>
                <a:cubicBezTo>
                  <a:pt x="2294" y="3178"/>
                  <a:pt x="2271" y="3170"/>
                  <a:pt x="2271" y="3170"/>
                </a:cubicBezTo>
                <a:cubicBezTo>
                  <a:pt x="2255" y="3117"/>
                  <a:pt x="2190" y="3121"/>
                  <a:pt x="2146" y="3108"/>
                </a:cubicBezTo>
                <a:cubicBezTo>
                  <a:pt x="2148" y="3096"/>
                  <a:pt x="2158" y="3083"/>
                  <a:pt x="2152" y="3073"/>
                </a:cubicBezTo>
                <a:cubicBezTo>
                  <a:pt x="2148" y="3066"/>
                  <a:pt x="2137" y="3079"/>
                  <a:pt x="2129" y="3079"/>
                </a:cubicBezTo>
                <a:cubicBezTo>
                  <a:pt x="2101" y="3079"/>
                  <a:pt x="2099" y="3068"/>
                  <a:pt x="2072" y="3062"/>
                </a:cubicBezTo>
                <a:cubicBezTo>
                  <a:pt x="2051" y="3057"/>
                  <a:pt x="2009" y="3051"/>
                  <a:pt x="2009" y="3051"/>
                </a:cubicBezTo>
                <a:cubicBezTo>
                  <a:pt x="1984" y="3056"/>
                  <a:pt x="1957" y="3055"/>
                  <a:pt x="1935" y="3068"/>
                </a:cubicBezTo>
                <a:cubicBezTo>
                  <a:pt x="1909" y="3083"/>
                  <a:pt x="1885" y="3117"/>
                  <a:pt x="1861" y="3130"/>
                </a:cubicBezTo>
                <a:cubicBezTo>
                  <a:pt x="1827" y="3148"/>
                  <a:pt x="1789" y="3166"/>
                  <a:pt x="1752" y="3176"/>
                </a:cubicBezTo>
                <a:cubicBezTo>
                  <a:pt x="1731" y="3188"/>
                  <a:pt x="1714" y="3193"/>
                  <a:pt x="1690" y="3199"/>
                </a:cubicBezTo>
                <a:cubicBezTo>
                  <a:pt x="1675" y="3208"/>
                  <a:pt x="1661" y="3221"/>
                  <a:pt x="1644" y="3227"/>
                </a:cubicBezTo>
                <a:cubicBezTo>
                  <a:pt x="1638" y="3229"/>
                  <a:pt x="1632" y="3230"/>
                  <a:pt x="1627" y="3233"/>
                </a:cubicBezTo>
                <a:cubicBezTo>
                  <a:pt x="1610" y="3242"/>
                  <a:pt x="1598" y="3258"/>
                  <a:pt x="1581" y="3267"/>
                </a:cubicBezTo>
                <a:cubicBezTo>
                  <a:pt x="1548" y="3283"/>
                  <a:pt x="1553" y="3275"/>
                  <a:pt x="1524" y="3284"/>
                </a:cubicBezTo>
                <a:cubicBezTo>
                  <a:pt x="1484" y="3296"/>
                  <a:pt x="1446" y="3310"/>
                  <a:pt x="1405" y="3319"/>
                </a:cubicBezTo>
                <a:cubicBezTo>
                  <a:pt x="1304" y="3317"/>
                  <a:pt x="1203" y="3317"/>
                  <a:pt x="1102" y="3313"/>
                </a:cubicBezTo>
                <a:cubicBezTo>
                  <a:pt x="1031" y="3310"/>
                  <a:pt x="962" y="3286"/>
                  <a:pt x="891" y="3279"/>
                </a:cubicBezTo>
                <a:cubicBezTo>
                  <a:pt x="811" y="3251"/>
                  <a:pt x="911" y="3283"/>
                  <a:pt x="806" y="3262"/>
                </a:cubicBezTo>
                <a:cubicBezTo>
                  <a:pt x="787" y="3258"/>
                  <a:pt x="768" y="3249"/>
                  <a:pt x="749" y="3245"/>
                </a:cubicBezTo>
                <a:cubicBezTo>
                  <a:pt x="723" y="3232"/>
                  <a:pt x="697" y="3217"/>
                  <a:pt x="669" y="3210"/>
                </a:cubicBezTo>
                <a:cubicBezTo>
                  <a:pt x="645" y="3188"/>
                  <a:pt x="610" y="3173"/>
                  <a:pt x="583" y="3153"/>
                </a:cubicBezTo>
                <a:cubicBezTo>
                  <a:pt x="553" y="3131"/>
                  <a:pt x="539" y="3104"/>
                  <a:pt x="509" y="3085"/>
                </a:cubicBezTo>
                <a:cubicBezTo>
                  <a:pt x="490" y="3054"/>
                  <a:pt x="471" y="3025"/>
                  <a:pt x="452" y="2994"/>
                </a:cubicBezTo>
                <a:cubicBezTo>
                  <a:pt x="435" y="2914"/>
                  <a:pt x="448" y="2819"/>
                  <a:pt x="481" y="2743"/>
                </a:cubicBezTo>
                <a:cubicBezTo>
                  <a:pt x="496" y="2626"/>
                  <a:pt x="508" y="2509"/>
                  <a:pt x="538" y="2395"/>
                </a:cubicBezTo>
                <a:cubicBezTo>
                  <a:pt x="542" y="2341"/>
                  <a:pt x="569" y="2276"/>
                  <a:pt x="509" y="2247"/>
                </a:cubicBezTo>
                <a:cubicBezTo>
                  <a:pt x="472" y="2207"/>
                  <a:pt x="414" y="2179"/>
                  <a:pt x="361" y="2167"/>
                </a:cubicBezTo>
                <a:cubicBezTo>
                  <a:pt x="301" y="2125"/>
                  <a:pt x="392" y="2185"/>
                  <a:pt x="321" y="2150"/>
                </a:cubicBezTo>
                <a:cubicBezTo>
                  <a:pt x="297" y="2138"/>
                  <a:pt x="276" y="2118"/>
                  <a:pt x="253" y="2104"/>
                </a:cubicBezTo>
                <a:cubicBezTo>
                  <a:pt x="209" y="2077"/>
                  <a:pt x="185" y="2027"/>
                  <a:pt x="144" y="1996"/>
                </a:cubicBezTo>
                <a:cubicBezTo>
                  <a:pt x="119" y="1956"/>
                  <a:pt x="150" y="2001"/>
                  <a:pt x="110" y="1961"/>
                </a:cubicBezTo>
                <a:cubicBezTo>
                  <a:pt x="87" y="1938"/>
                  <a:pt x="72" y="1905"/>
                  <a:pt x="47" y="1882"/>
                </a:cubicBezTo>
                <a:cubicBezTo>
                  <a:pt x="32" y="1843"/>
                  <a:pt x="11" y="1816"/>
                  <a:pt x="2" y="1773"/>
                </a:cubicBezTo>
                <a:cubicBezTo>
                  <a:pt x="5" y="1718"/>
                  <a:pt x="0" y="1669"/>
                  <a:pt x="42" y="1631"/>
                </a:cubicBezTo>
                <a:cubicBezTo>
                  <a:pt x="53" y="1593"/>
                  <a:pt x="75" y="1574"/>
                  <a:pt x="99" y="1545"/>
                </a:cubicBezTo>
                <a:cubicBezTo>
                  <a:pt x="115" y="1526"/>
                  <a:pt x="126" y="1506"/>
                  <a:pt x="144" y="1488"/>
                </a:cubicBezTo>
                <a:cubicBezTo>
                  <a:pt x="165" y="1439"/>
                  <a:pt x="146" y="1476"/>
                  <a:pt x="167" y="1448"/>
                </a:cubicBezTo>
                <a:cubicBezTo>
                  <a:pt x="177" y="1435"/>
                  <a:pt x="196" y="1408"/>
                  <a:pt x="196" y="1408"/>
                </a:cubicBezTo>
                <a:cubicBezTo>
                  <a:pt x="202" y="1373"/>
                  <a:pt x="218" y="1344"/>
                  <a:pt x="230" y="1311"/>
                </a:cubicBezTo>
                <a:cubicBezTo>
                  <a:pt x="250" y="1255"/>
                  <a:pt x="261" y="1199"/>
                  <a:pt x="270" y="1140"/>
                </a:cubicBezTo>
                <a:cubicBezTo>
                  <a:pt x="275" y="1029"/>
                  <a:pt x="323" y="857"/>
                  <a:pt x="235" y="769"/>
                </a:cubicBezTo>
                <a:cubicBezTo>
                  <a:pt x="227" y="741"/>
                  <a:pt x="214" y="752"/>
                  <a:pt x="224" y="724"/>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72" name=""/>
          <p:cNvSpPr/>
          <p:nvPr/>
        </p:nvSpPr>
        <p:spPr>
          <a:xfrm>
            <a:off x="914400" y="45720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gestalt / Proto-flow</a:t>
            </a:r>
            <a:endParaRPr b="0" lang="en-US" sz="4400" spc="-1" strike="noStrike">
              <a:solidFill>
                <a:srgbClr val="000000"/>
              </a:solidFill>
              <a:latin typeface="Arial"/>
            </a:endParaRPr>
          </a:p>
        </p:txBody>
      </p:sp>
      <p:sp>
        <p:nvSpPr>
          <p:cNvPr id="173" name=""/>
          <p:cNvSpPr/>
          <p:nvPr/>
        </p:nvSpPr>
        <p:spPr>
          <a:xfrm flipV="1">
            <a:off x="4191120" y="3048120"/>
            <a:ext cx="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14800" y="297180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153880" y="262728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76" name=""/>
          <p:cNvSpPr/>
          <p:nvPr/>
        </p:nvSpPr>
        <p:spPr>
          <a:xfrm>
            <a:off x="1296360" y="46483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77" name=""/>
          <p:cNvSpPr/>
          <p:nvPr/>
        </p:nvSpPr>
        <p:spPr>
          <a:xfrm>
            <a:off x="1524960" y="32004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78" name=""/>
          <p:cNvSpPr/>
          <p:nvPr/>
        </p:nvSpPr>
        <p:spPr>
          <a:xfrm>
            <a:off x="2210760" y="37339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endParaRPr b="0" lang="en-US" sz="2400" spc="-1" strike="noStrike">
              <a:solidFill>
                <a:srgbClr val="000000"/>
              </a:solidFill>
              <a:latin typeface="Arial"/>
            </a:endParaRPr>
          </a:p>
        </p:txBody>
      </p:sp>
      <p:sp>
        <p:nvSpPr>
          <p:cNvPr id="179" name=""/>
          <p:cNvSpPr/>
          <p:nvPr/>
        </p:nvSpPr>
        <p:spPr>
          <a:xfrm flipH="1">
            <a:off x="1828800" y="2971800"/>
            <a:ext cx="3808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905120" y="358128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1599840" y="4038480"/>
            <a:ext cx="685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2514240" y="2971800"/>
            <a:ext cx="16002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1980720" y="3429000"/>
            <a:ext cx="21337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2590560" y="3429000"/>
            <a:ext cx="16002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1752480" y="3429000"/>
            <a:ext cx="243864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022560" y="2819520"/>
            <a:ext cx="406440" cy="1447560"/>
          </a:xfrm>
          <a:custGeom>
            <a:avLst/>
            <a:gdLst/>
            <a:ahLst/>
            <a:rect l="l" t="t" r="r" b="b"/>
            <a:pathLst>
              <a:path w="256" h="912">
                <a:moveTo>
                  <a:pt x="208" y="0"/>
                </a:moveTo>
                <a:cubicBezTo>
                  <a:pt x="176" y="24"/>
                  <a:pt x="144" y="48"/>
                  <a:pt x="112" y="96"/>
                </a:cubicBezTo>
                <a:cubicBezTo>
                  <a:pt x="80" y="144"/>
                  <a:pt x="32" y="224"/>
                  <a:pt x="16" y="288"/>
                </a:cubicBezTo>
                <a:cubicBezTo>
                  <a:pt x="0" y="352"/>
                  <a:pt x="8" y="424"/>
                  <a:pt x="16" y="480"/>
                </a:cubicBezTo>
                <a:cubicBezTo>
                  <a:pt x="24" y="536"/>
                  <a:pt x="48" y="576"/>
                  <a:pt x="64" y="624"/>
                </a:cubicBezTo>
                <a:cubicBezTo>
                  <a:pt x="80" y="672"/>
                  <a:pt x="80" y="720"/>
                  <a:pt x="112" y="768"/>
                </a:cubicBezTo>
                <a:cubicBezTo>
                  <a:pt x="144" y="816"/>
                  <a:pt x="232" y="888"/>
                  <a:pt x="256" y="912"/>
                </a:cubicBezTo>
              </a:path>
            </a:pathLst>
          </a:custGeom>
          <a:noFill/>
          <a:ln w="57240">
            <a:solidFill>
              <a:srgbClr val="000000"/>
            </a:solidFill>
            <a:prstDash val="sysDot"/>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7" name=""/>
          <p:cNvSpPr/>
          <p:nvPr/>
        </p:nvSpPr>
        <p:spPr>
          <a:xfrm>
            <a:off x="3173040" y="2550960"/>
            <a:ext cx="511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t>
            </a:r>
            <a:endParaRPr b="0" lang="en-US" sz="1800" spc="-1" strike="noStrike">
              <a:solidFill>
                <a:srgbClr val="000000"/>
              </a:solidFill>
              <a:latin typeface="Arial"/>
            </a:endParaRPr>
          </a:p>
        </p:txBody>
      </p:sp>
      <p:sp>
        <p:nvSpPr>
          <p:cNvPr id="188" name=""/>
          <p:cNvSpPr/>
          <p:nvPr/>
        </p:nvSpPr>
        <p:spPr>
          <a:xfrm flipV="1">
            <a:off x="4191120" y="3164040"/>
            <a:ext cx="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5869080" y="2743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190" name=""/>
          <p:cNvSpPr/>
          <p:nvPr/>
        </p:nvSpPr>
        <p:spPr>
          <a:xfrm flipH="1">
            <a:off x="6630480" y="48006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191" name=""/>
          <p:cNvSpPr/>
          <p:nvPr/>
        </p:nvSpPr>
        <p:spPr>
          <a:xfrm flipH="1">
            <a:off x="640188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192" name=""/>
          <p:cNvSpPr/>
          <p:nvPr/>
        </p:nvSpPr>
        <p:spPr>
          <a:xfrm flipH="1">
            <a:off x="5790600" y="3809880"/>
            <a:ext cx="369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193" name=""/>
          <p:cNvSpPr/>
          <p:nvPr/>
        </p:nvSpPr>
        <p:spPr>
          <a:xfrm>
            <a:off x="6172200" y="3087720"/>
            <a:ext cx="3808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6095520" y="3697200"/>
            <a:ext cx="38124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095880" y="4154400"/>
            <a:ext cx="6858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4267080" y="3124080"/>
            <a:ext cx="16002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267080" y="3544920"/>
            <a:ext cx="21337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191120" y="3544920"/>
            <a:ext cx="16002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1120" y="3544920"/>
            <a:ext cx="24382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6707880" y="2286000"/>
            <a:ext cx="205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s in a River</a:t>
            </a:r>
            <a:endParaRPr b="0" lang="en-US" sz="1800" spc="-1" strike="noStrike">
              <a:solidFill>
                <a:srgbClr val="000000"/>
              </a:solidFill>
              <a:latin typeface="Arial"/>
            </a:endParaRPr>
          </a:p>
        </p:txBody>
      </p:sp>
      <p:sp>
        <p:nvSpPr>
          <p:cNvPr id="201" name=""/>
          <p:cNvSpPr/>
          <p:nvPr/>
        </p:nvSpPr>
        <p:spPr>
          <a:xfrm>
            <a:off x="2212560" y="5181480"/>
            <a:ext cx="167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dynamic</a:t>
            </a:r>
            <a:endParaRPr b="0" lang="en-US" sz="1800" spc="-1" strike="noStrike">
              <a:solidFill>
                <a:srgbClr val="000000"/>
              </a:solidFill>
              <a:latin typeface="Arial"/>
            </a:endParaRPr>
          </a:p>
        </p:txBody>
      </p:sp>
      <p:sp>
        <p:nvSpPr>
          <p:cNvPr id="202" name=""/>
          <p:cNvSpPr/>
          <p:nvPr/>
        </p:nvSpPr>
        <p:spPr>
          <a:xfrm>
            <a:off x="4726800" y="5181480"/>
            <a:ext cx="171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Static</a:t>
            </a:r>
            <a:endParaRPr b="0" lang="en-US" sz="1800" spc="-1" strike="noStrike">
              <a:solidFill>
                <a:srgbClr val="000000"/>
              </a:solidFill>
              <a:latin typeface="Arial"/>
            </a:endParaRPr>
          </a:p>
        </p:txBody>
      </p:sp>
      <p:sp>
        <p:nvSpPr>
          <p:cNvPr id="203" name=""/>
          <p:cNvSpPr/>
          <p:nvPr/>
        </p:nvSpPr>
        <p:spPr>
          <a:xfrm>
            <a:off x="7238880" y="2133720"/>
            <a:ext cx="1447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2920" y="5410080"/>
            <a:ext cx="144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10280" y="3429000"/>
            <a:ext cx="1857600" cy="334800"/>
          </a:xfrm>
          <a:custGeom>
            <a:avLst/>
            <a:gdLst/>
            <a:ahLst/>
            <a:rect l="l" t="t" r="r" b="b"/>
            <a:pathLst>
              <a:path w="1170" h="211">
                <a:moveTo>
                  <a:pt x="0" y="96"/>
                </a:moveTo>
                <a:cubicBezTo>
                  <a:pt x="33" y="71"/>
                  <a:pt x="51" y="46"/>
                  <a:pt x="79" y="17"/>
                </a:cubicBezTo>
                <a:cubicBezTo>
                  <a:pt x="128" y="20"/>
                  <a:pt x="178" y="21"/>
                  <a:pt x="227" y="26"/>
                </a:cubicBezTo>
                <a:cubicBezTo>
                  <a:pt x="292" y="33"/>
                  <a:pt x="302" y="136"/>
                  <a:pt x="341" y="175"/>
                </a:cubicBezTo>
                <a:cubicBezTo>
                  <a:pt x="382" y="169"/>
                  <a:pt x="423" y="166"/>
                  <a:pt x="463" y="157"/>
                </a:cubicBezTo>
                <a:cubicBezTo>
                  <a:pt x="509" y="146"/>
                  <a:pt x="571" y="51"/>
                  <a:pt x="620" y="17"/>
                </a:cubicBezTo>
                <a:cubicBezTo>
                  <a:pt x="640" y="20"/>
                  <a:pt x="661" y="20"/>
                  <a:pt x="681" y="26"/>
                </a:cubicBezTo>
                <a:cubicBezTo>
                  <a:pt x="711" y="35"/>
                  <a:pt x="738" y="75"/>
                  <a:pt x="760" y="96"/>
                </a:cubicBezTo>
                <a:cubicBezTo>
                  <a:pt x="771" y="133"/>
                  <a:pt x="784" y="133"/>
                  <a:pt x="812" y="157"/>
                </a:cubicBezTo>
                <a:cubicBezTo>
                  <a:pt x="874" y="211"/>
                  <a:pt x="831" y="193"/>
                  <a:pt x="882" y="209"/>
                </a:cubicBezTo>
                <a:cubicBezTo>
                  <a:pt x="947" y="197"/>
                  <a:pt x="987" y="207"/>
                  <a:pt x="1022" y="157"/>
                </a:cubicBezTo>
                <a:cubicBezTo>
                  <a:pt x="1033" y="121"/>
                  <a:pt x="1042" y="100"/>
                  <a:pt x="1074" y="79"/>
                </a:cubicBezTo>
                <a:cubicBezTo>
                  <a:pt x="1086" y="42"/>
                  <a:pt x="1114" y="32"/>
                  <a:pt x="1135" y="0"/>
                </a:cubicBezTo>
                <a:cubicBezTo>
                  <a:pt x="1165" y="40"/>
                  <a:pt x="1154" y="22"/>
                  <a:pt x="1170" y="52"/>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6" name=""/>
          <p:cNvSpPr/>
          <p:nvPr/>
        </p:nvSpPr>
        <p:spPr>
          <a:xfrm>
            <a:off x="6858000" y="3962520"/>
            <a:ext cx="1981080" cy="326880"/>
          </a:xfrm>
          <a:custGeom>
            <a:avLst/>
            <a:gdLst/>
            <a:ahLst/>
            <a:rect l="l" t="t" r="r" b="b"/>
            <a:pathLst>
              <a:path w="1248" h="206">
                <a:moveTo>
                  <a:pt x="0" y="88"/>
                </a:moveTo>
                <a:cubicBezTo>
                  <a:pt x="43" y="74"/>
                  <a:pt x="69" y="32"/>
                  <a:pt x="114" y="18"/>
                </a:cubicBezTo>
                <a:cubicBezTo>
                  <a:pt x="134" y="12"/>
                  <a:pt x="253" y="1"/>
                  <a:pt x="262" y="0"/>
                </a:cubicBezTo>
                <a:cubicBezTo>
                  <a:pt x="283" y="1"/>
                  <a:pt x="445" y="6"/>
                  <a:pt x="498" y="18"/>
                </a:cubicBezTo>
                <a:cubicBezTo>
                  <a:pt x="538" y="27"/>
                  <a:pt x="563" y="52"/>
                  <a:pt x="603" y="61"/>
                </a:cubicBezTo>
                <a:cubicBezTo>
                  <a:pt x="628" y="87"/>
                  <a:pt x="646" y="96"/>
                  <a:pt x="681" y="105"/>
                </a:cubicBezTo>
                <a:cubicBezTo>
                  <a:pt x="693" y="116"/>
                  <a:pt x="701" y="132"/>
                  <a:pt x="716" y="140"/>
                </a:cubicBezTo>
                <a:cubicBezTo>
                  <a:pt x="763" y="164"/>
                  <a:pt x="846" y="176"/>
                  <a:pt x="899" y="192"/>
                </a:cubicBezTo>
                <a:cubicBezTo>
                  <a:pt x="1044" y="186"/>
                  <a:pt x="1113" y="206"/>
                  <a:pt x="1205" y="114"/>
                </a:cubicBezTo>
                <a:cubicBezTo>
                  <a:pt x="1217" y="102"/>
                  <a:pt x="1248" y="92"/>
                  <a:pt x="1248" y="79"/>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7" name=""/>
          <p:cNvSpPr/>
          <p:nvPr/>
        </p:nvSpPr>
        <p:spPr>
          <a:xfrm>
            <a:off x="7010280" y="4876920"/>
            <a:ext cx="1903680" cy="288720"/>
          </a:xfrm>
          <a:custGeom>
            <a:avLst/>
            <a:gdLst/>
            <a:ahLst/>
            <a:rect l="l" t="t" r="r" b="b"/>
            <a:pathLst>
              <a:path w="1199" h="182">
                <a:moveTo>
                  <a:pt x="3" y="77"/>
                </a:moveTo>
                <a:cubicBezTo>
                  <a:pt x="6" y="54"/>
                  <a:pt x="0" y="28"/>
                  <a:pt x="12" y="8"/>
                </a:cubicBezTo>
                <a:cubicBezTo>
                  <a:pt x="17" y="0"/>
                  <a:pt x="32" y="10"/>
                  <a:pt x="38" y="16"/>
                </a:cubicBezTo>
                <a:cubicBezTo>
                  <a:pt x="53" y="31"/>
                  <a:pt x="58" y="54"/>
                  <a:pt x="73" y="69"/>
                </a:cubicBezTo>
                <a:cubicBezTo>
                  <a:pt x="104" y="100"/>
                  <a:pt x="137" y="126"/>
                  <a:pt x="169" y="156"/>
                </a:cubicBezTo>
                <a:cubicBezTo>
                  <a:pt x="178" y="127"/>
                  <a:pt x="182" y="108"/>
                  <a:pt x="204" y="86"/>
                </a:cubicBezTo>
                <a:cubicBezTo>
                  <a:pt x="219" y="37"/>
                  <a:pt x="211" y="32"/>
                  <a:pt x="308" y="69"/>
                </a:cubicBezTo>
                <a:cubicBezTo>
                  <a:pt x="320" y="74"/>
                  <a:pt x="318" y="93"/>
                  <a:pt x="326" y="104"/>
                </a:cubicBezTo>
                <a:cubicBezTo>
                  <a:pt x="340" y="123"/>
                  <a:pt x="382" y="154"/>
                  <a:pt x="396" y="165"/>
                </a:cubicBezTo>
                <a:cubicBezTo>
                  <a:pt x="407" y="153"/>
                  <a:pt x="422" y="144"/>
                  <a:pt x="431" y="130"/>
                </a:cubicBezTo>
                <a:cubicBezTo>
                  <a:pt x="436" y="122"/>
                  <a:pt x="435" y="112"/>
                  <a:pt x="439" y="104"/>
                </a:cubicBezTo>
                <a:cubicBezTo>
                  <a:pt x="444" y="94"/>
                  <a:pt x="451" y="86"/>
                  <a:pt x="457" y="77"/>
                </a:cubicBezTo>
                <a:cubicBezTo>
                  <a:pt x="467" y="43"/>
                  <a:pt x="476" y="37"/>
                  <a:pt x="509" y="25"/>
                </a:cubicBezTo>
                <a:cubicBezTo>
                  <a:pt x="526" y="31"/>
                  <a:pt x="545" y="33"/>
                  <a:pt x="561" y="43"/>
                </a:cubicBezTo>
                <a:cubicBezTo>
                  <a:pt x="588" y="60"/>
                  <a:pt x="600" y="130"/>
                  <a:pt x="614" y="156"/>
                </a:cubicBezTo>
                <a:cubicBezTo>
                  <a:pt x="701" y="143"/>
                  <a:pt x="664" y="147"/>
                  <a:pt x="719" y="95"/>
                </a:cubicBezTo>
                <a:cubicBezTo>
                  <a:pt x="733" y="49"/>
                  <a:pt x="754" y="29"/>
                  <a:pt x="797" y="8"/>
                </a:cubicBezTo>
                <a:cubicBezTo>
                  <a:pt x="841" y="11"/>
                  <a:pt x="886" y="5"/>
                  <a:pt x="928" y="16"/>
                </a:cubicBezTo>
                <a:cubicBezTo>
                  <a:pt x="937" y="18"/>
                  <a:pt x="936" y="34"/>
                  <a:pt x="937" y="43"/>
                </a:cubicBezTo>
                <a:cubicBezTo>
                  <a:pt x="942" y="80"/>
                  <a:pt x="938" y="119"/>
                  <a:pt x="945" y="156"/>
                </a:cubicBezTo>
                <a:cubicBezTo>
                  <a:pt x="950" y="181"/>
                  <a:pt x="1010" y="181"/>
                  <a:pt x="1015" y="182"/>
                </a:cubicBezTo>
                <a:cubicBezTo>
                  <a:pt x="1035" y="176"/>
                  <a:pt x="1057" y="174"/>
                  <a:pt x="1076" y="165"/>
                </a:cubicBezTo>
                <a:cubicBezTo>
                  <a:pt x="1108" y="151"/>
                  <a:pt x="1115" y="101"/>
                  <a:pt x="1137" y="77"/>
                </a:cubicBezTo>
                <a:cubicBezTo>
                  <a:pt x="1140" y="68"/>
                  <a:pt x="1138" y="55"/>
                  <a:pt x="1146" y="51"/>
                </a:cubicBezTo>
                <a:cubicBezTo>
                  <a:pt x="1162" y="42"/>
                  <a:pt x="1199" y="43"/>
                  <a:pt x="1199" y="43"/>
                </a:cubicBezTo>
              </a:path>
            </a:pathLst>
          </a:custGeom>
          <a:noFill/>
          <a:ln w="190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8" name=""/>
          <p:cNvSpPr/>
          <p:nvPr/>
        </p:nvSpPr>
        <p:spPr>
          <a:xfrm flipV="1">
            <a:off x="6934320" y="2819520"/>
            <a:ext cx="1981080" cy="326880"/>
          </a:xfrm>
          <a:custGeom>
            <a:avLst/>
            <a:gdLst/>
            <a:ahLst/>
            <a:rect l="l" t="t" r="r" b="b"/>
            <a:pathLst>
              <a:path w="1248" h="206">
                <a:moveTo>
                  <a:pt x="0" y="88"/>
                </a:moveTo>
                <a:cubicBezTo>
                  <a:pt x="43" y="74"/>
                  <a:pt x="69" y="32"/>
                  <a:pt x="114" y="18"/>
                </a:cubicBezTo>
                <a:cubicBezTo>
                  <a:pt x="134" y="12"/>
                  <a:pt x="253" y="1"/>
                  <a:pt x="262" y="0"/>
                </a:cubicBezTo>
                <a:cubicBezTo>
                  <a:pt x="283" y="1"/>
                  <a:pt x="445" y="6"/>
                  <a:pt x="498" y="18"/>
                </a:cubicBezTo>
                <a:cubicBezTo>
                  <a:pt x="538" y="27"/>
                  <a:pt x="563" y="52"/>
                  <a:pt x="603" y="61"/>
                </a:cubicBezTo>
                <a:cubicBezTo>
                  <a:pt x="628" y="87"/>
                  <a:pt x="646" y="96"/>
                  <a:pt x="681" y="105"/>
                </a:cubicBezTo>
                <a:cubicBezTo>
                  <a:pt x="693" y="116"/>
                  <a:pt x="701" y="132"/>
                  <a:pt x="716" y="140"/>
                </a:cubicBezTo>
                <a:cubicBezTo>
                  <a:pt x="763" y="164"/>
                  <a:pt x="846" y="176"/>
                  <a:pt x="899" y="192"/>
                </a:cubicBezTo>
                <a:cubicBezTo>
                  <a:pt x="1044" y="186"/>
                  <a:pt x="1113" y="206"/>
                  <a:pt x="1205" y="114"/>
                </a:cubicBezTo>
                <a:cubicBezTo>
                  <a:pt x="1217" y="102"/>
                  <a:pt x="1248" y="92"/>
                  <a:pt x="1248" y="79"/>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 name=""/>
          <p:cNvSpPr/>
          <p:nvPr/>
        </p:nvSpPr>
        <p:spPr>
          <a:xfrm rot="20566800">
            <a:off x="4421880" y="31237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210" name=""/>
          <p:cNvSpPr/>
          <p:nvPr/>
        </p:nvSpPr>
        <p:spPr>
          <a:xfrm rot="15000">
            <a:off x="5335920" y="320004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211" name=""/>
          <p:cNvSpPr/>
          <p:nvPr/>
        </p:nvSpPr>
        <p:spPr>
          <a:xfrm rot="1082400">
            <a:off x="5259960" y="365724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212" name=""/>
          <p:cNvSpPr/>
          <p:nvPr/>
        </p:nvSpPr>
        <p:spPr>
          <a:xfrm rot="1887600">
            <a:off x="5412240" y="41148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sp>
        <p:nvSpPr>
          <p:cNvPr id="213" name=""/>
          <p:cNvSpPr/>
          <p:nvPr/>
        </p:nvSpPr>
        <p:spPr>
          <a:xfrm>
            <a:off x="230400" y="6019920"/>
            <a:ext cx="163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Proto-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low</a:t>
            </a:r>
            <a:endParaRPr b="0" lang="en-US" sz="1800" spc="-1" strike="noStrike">
              <a:solidFill>
                <a:srgbClr val="000000"/>
              </a:solidFill>
              <a:latin typeface="Arial"/>
            </a:endParaRPr>
          </a:p>
        </p:txBody>
      </p:sp>
      <p:sp>
        <p:nvSpPr>
          <p:cNvPr id="214" name=""/>
          <p:cNvSpPr/>
          <p:nvPr/>
        </p:nvSpPr>
        <p:spPr>
          <a:xfrm flipH="1">
            <a:off x="4876200" y="2895480"/>
            <a:ext cx="406440" cy="1447920"/>
          </a:xfrm>
          <a:custGeom>
            <a:avLst/>
            <a:gdLst/>
            <a:ahLst/>
            <a:rect l="l" t="t" r="r" b="b"/>
            <a:pathLst>
              <a:path w="256" h="912">
                <a:moveTo>
                  <a:pt x="208" y="0"/>
                </a:moveTo>
                <a:cubicBezTo>
                  <a:pt x="176" y="24"/>
                  <a:pt x="144" y="48"/>
                  <a:pt x="112" y="96"/>
                </a:cubicBezTo>
                <a:cubicBezTo>
                  <a:pt x="80" y="144"/>
                  <a:pt x="32" y="224"/>
                  <a:pt x="16" y="288"/>
                </a:cubicBezTo>
                <a:cubicBezTo>
                  <a:pt x="0" y="352"/>
                  <a:pt x="8" y="424"/>
                  <a:pt x="16" y="480"/>
                </a:cubicBezTo>
                <a:cubicBezTo>
                  <a:pt x="24" y="536"/>
                  <a:pt x="48" y="576"/>
                  <a:pt x="64" y="624"/>
                </a:cubicBezTo>
                <a:cubicBezTo>
                  <a:pt x="80" y="672"/>
                  <a:pt x="80" y="720"/>
                  <a:pt x="112" y="768"/>
                </a:cubicBezTo>
                <a:cubicBezTo>
                  <a:pt x="144" y="816"/>
                  <a:pt x="232" y="888"/>
                  <a:pt x="256" y="912"/>
                </a:cubicBezTo>
              </a:path>
            </a:pathLst>
          </a:custGeom>
          <a:noFill/>
          <a:ln w="57240">
            <a:solidFill>
              <a:srgbClr val="000000"/>
            </a:solidFill>
            <a:prstDash val="sysDot"/>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4573440" y="2590920"/>
            <a:ext cx="473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a:t>
            </a:r>
            <a:endParaRPr b="0" lang="en-US" sz="1800" spc="-1" strike="noStrike">
              <a:solidFill>
                <a:srgbClr val="000000"/>
              </a:solidFill>
              <a:latin typeface="Arial"/>
            </a:endParaRPr>
          </a:p>
        </p:txBody>
      </p:sp>
      <p:sp>
        <p:nvSpPr>
          <p:cNvPr id="216" name=""/>
          <p:cNvSpPr/>
          <p:nvPr/>
        </p:nvSpPr>
        <p:spPr>
          <a:xfrm>
            <a:off x="6400800" y="2971800"/>
            <a:ext cx="5335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705720" y="3581280"/>
            <a:ext cx="3045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48520" y="4114800"/>
            <a:ext cx="6094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926840" y="1676520"/>
            <a:ext cx="700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a:t>
            </a:r>
            <a:endParaRPr b="0" lang="en-US" sz="1800" spc="-1" strike="noStrike">
              <a:solidFill>
                <a:srgbClr val="000000"/>
              </a:solidFill>
              <a:latin typeface="Arial"/>
            </a:endParaRPr>
          </a:p>
        </p:txBody>
      </p:sp>
      <p:sp>
        <p:nvSpPr>
          <p:cNvPr id="220" name=""/>
          <p:cNvSpPr/>
          <p:nvPr/>
        </p:nvSpPr>
        <p:spPr>
          <a:xfrm>
            <a:off x="8003160" y="5486400"/>
            <a:ext cx="700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a:t>
            </a:r>
            <a:endParaRPr b="0" lang="en-US" sz="1800" spc="-1" strike="noStrike">
              <a:solidFill>
                <a:srgbClr val="000000"/>
              </a:solidFill>
              <a:latin typeface="Arial"/>
            </a:endParaRPr>
          </a:p>
        </p:txBody>
      </p:sp>
      <p:sp>
        <p:nvSpPr>
          <p:cNvPr id="221" name=""/>
          <p:cNvSpPr/>
          <p:nvPr/>
        </p:nvSpPr>
        <p:spPr>
          <a:xfrm>
            <a:off x="6252120" y="6172200"/>
            <a:ext cx="172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Line</a:t>
            </a:r>
            <a:endParaRPr b="0" lang="en-US" sz="1800" spc="-1" strike="noStrike">
              <a:solidFill>
                <a:srgbClr val="000000"/>
              </a:solidFill>
              <a:latin typeface="Arial"/>
            </a:endParaRPr>
          </a:p>
        </p:txBody>
      </p:sp>
      <p:sp>
        <p:nvSpPr>
          <p:cNvPr id="222" name=""/>
          <p:cNvSpPr/>
          <p:nvPr/>
        </p:nvSpPr>
        <p:spPr>
          <a:xfrm>
            <a:off x="6324480" y="6477120"/>
            <a:ext cx="160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ergence and Complexity are Orthogonal</a:t>
            </a:r>
            <a:endParaRPr b="0" lang="en-US" sz="40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have both simplicity and Emergence, such as in ato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have both complexity and de-emergence which some call complic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ormally see dynamic complexity leading to emergent effects but this is not an intrinsic relation between the two prope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x systems do not capture the concept of the meta-system</a:t>
            </a:r>
            <a:endParaRPr b="0" lang="en-US" sz="3600" spc="-1" strike="noStrike">
              <a:solidFill>
                <a:srgbClr val="000000"/>
              </a:solidFill>
              <a:latin typeface="Arial"/>
            </a:endParaRPr>
          </a:p>
        </p:txBody>
      </p:sp>
      <p:sp>
        <p:nvSpPr>
          <p:cNvPr id="226" name=""/>
          <p:cNvSpPr/>
          <p:nvPr/>
        </p:nvSpPr>
        <p:spPr>
          <a:xfrm>
            <a:off x="685800" y="2286000"/>
            <a:ext cx="3276720" cy="3485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s Theo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Syste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Adaptive Syste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otic Systems</a:t>
            </a:r>
            <a:endParaRPr b="0" lang="en-US" sz="2000" spc="-1" strike="noStrike">
              <a:solidFill>
                <a:srgbClr val="000000"/>
              </a:solidFill>
              <a:latin typeface="Arial"/>
            </a:endParaRPr>
          </a:p>
        </p:txBody>
      </p:sp>
      <p:sp>
        <p:nvSpPr>
          <p:cNvPr id="227" name=""/>
          <p:cNvSpPr/>
          <p:nvPr/>
        </p:nvSpPr>
        <p:spPr>
          <a:xfrm>
            <a:off x="4267080" y="2286000"/>
            <a:ext cx="3810240" cy="3485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a-systems Theo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eta-syste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Adaptive Meta-syste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otic Meta-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ergence and Schemas are Orthogonal</a:t>
            </a:r>
            <a:endParaRPr b="0" lang="en-US" sz="40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chema (System or Meta-system) can either be seen as emergent or de-emerg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mergence or Emergence can be upward or downward in the self-nesting of a single sche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ition to another schema from a particular schema can either be emergent or superveni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enience means homeomorphic without new emergent properties appea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nience is mapping in the opposite direction, down instead of u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330800" y="604800"/>
            <a:ext cx="0" cy="259560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4416480" y="836640"/>
            <a:ext cx="1990800" cy="211284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4716000" y="3222720"/>
            <a:ext cx="2932200" cy="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930480" y="649440"/>
            <a:ext cx="0" cy="247464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16200000">
            <a:off x="3455640" y="1707840"/>
            <a:ext cx="1346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e</a:t>
            </a:r>
            <a:endParaRPr b="0" lang="en-US" sz="1800" spc="-1" strike="noStrike">
              <a:solidFill>
                <a:srgbClr val="000000"/>
              </a:solidFill>
              <a:latin typeface="Arial"/>
            </a:endParaRPr>
          </a:p>
        </p:txBody>
      </p:sp>
      <p:sp>
        <p:nvSpPr>
          <p:cNvPr id="235" name=""/>
          <p:cNvSpPr/>
          <p:nvPr/>
        </p:nvSpPr>
        <p:spPr>
          <a:xfrm rot="16200000">
            <a:off x="2846520" y="1740240"/>
            <a:ext cx="1713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mergence</a:t>
            </a:r>
            <a:endParaRPr b="0" lang="en-US" sz="1800" spc="-1" strike="noStrike">
              <a:solidFill>
                <a:srgbClr val="000000"/>
              </a:solidFill>
              <a:latin typeface="Arial"/>
            </a:endParaRPr>
          </a:p>
        </p:txBody>
      </p:sp>
      <p:sp>
        <p:nvSpPr>
          <p:cNvPr id="236" name=""/>
          <p:cNvSpPr/>
          <p:nvPr/>
        </p:nvSpPr>
        <p:spPr>
          <a:xfrm flipH="1">
            <a:off x="4815000" y="3697200"/>
            <a:ext cx="293184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532120" y="2824200"/>
            <a:ext cx="1308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a:t>
            </a:r>
            <a:endParaRPr b="0" lang="en-US" sz="1800" spc="-1" strike="noStrike">
              <a:solidFill>
                <a:srgbClr val="000000"/>
              </a:solidFill>
              <a:latin typeface="Arial"/>
            </a:endParaRPr>
          </a:p>
        </p:txBody>
      </p:sp>
      <p:sp>
        <p:nvSpPr>
          <p:cNvPr id="238" name=""/>
          <p:cNvSpPr/>
          <p:nvPr/>
        </p:nvSpPr>
        <p:spPr>
          <a:xfrm>
            <a:off x="5375520" y="3273480"/>
            <a:ext cx="1523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cation</a:t>
            </a:r>
            <a:endParaRPr b="0" lang="en-US" sz="1800" spc="-1" strike="noStrike">
              <a:solidFill>
                <a:srgbClr val="000000"/>
              </a:solidFill>
              <a:latin typeface="Arial"/>
            </a:endParaRPr>
          </a:p>
        </p:txBody>
      </p:sp>
      <p:sp>
        <p:nvSpPr>
          <p:cNvPr id="239" name=""/>
          <p:cNvSpPr/>
          <p:nvPr/>
        </p:nvSpPr>
        <p:spPr>
          <a:xfrm flipH="1">
            <a:off x="4797360" y="1042920"/>
            <a:ext cx="1990800" cy="211320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18565200">
            <a:off x="4899600" y="134460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a</a:t>
            </a:r>
            <a:endParaRPr b="0" lang="en-US" sz="1800" spc="-1" strike="noStrike">
              <a:solidFill>
                <a:srgbClr val="000000"/>
              </a:solidFill>
              <a:latin typeface="Arial"/>
            </a:endParaRPr>
          </a:p>
        </p:txBody>
      </p:sp>
      <p:sp>
        <p:nvSpPr>
          <p:cNvPr id="241" name=""/>
          <p:cNvSpPr/>
          <p:nvPr/>
        </p:nvSpPr>
        <p:spPr>
          <a:xfrm rot="18754200">
            <a:off x="4939560" y="1684800"/>
            <a:ext cx="1563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chema</a:t>
            </a:r>
            <a:endParaRPr b="0" lang="en-US" sz="1800" spc="-1" strike="noStrike">
              <a:solidFill>
                <a:srgbClr val="000000"/>
              </a:solidFill>
              <a:latin typeface="Arial"/>
            </a:endParaRPr>
          </a:p>
        </p:txBody>
      </p:sp>
      <p:sp>
        <p:nvSpPr>
          <p:cNvPr id="242" name=""/>
          <p:cNvSpPr/>
          <p:nvPr/>
        </p:nvSpPr>
        <p:spPr>
          <a:xfrm flipH="1">
            <a:off x="1272960" y="3973680"/>
            <a:ext cx="1990440" cy="211284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654200" y="4179960"/>
            <a:ext cx="1990800" cy="211284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18831600">
            <a:off x="997920" y="4831200"/>
            <a:ext cx="1701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Schema</a:t>
            </a:r>
            <a:endParaRPr b="0" lang="en-US" sz="1800" spc="-1" strike="noStrike">
              <a:solidFill>
                <a:srgbClr val="000000"/>
              </a:solidFill>
              <a:latin typeface="Arial"/>
            </a:endParaRPr>
          </a:p>
        </p:txBody>
      </p:sp>
      <p:sp>
        <p:nvSpPr>
          <p:cNvPr id="245" name=""/>
          <p:cNvSpPr/>
          <p:nvPr/>
        </p:nvSpPr>
        <p:spPr>
          <a:xfrm rot="18754200">
            <a:off x="1497960" y="514404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hema</a:t>
            </a:r>
            <a:endParaRPr b="0" lang="en-US" sz="1800" spc="-1" strike="noStrike">
              <a:solidFill>
                <a:srgbClr val="000000"/>
              </a:solidFill>
              <a:latin typeface="Arial"/>
            </a:endParaRPr>
          </a:p>
        </p:txBody>
      </p:sp>
      <p:sp>
        <p:nvSpPr>
          <p:cNvPr id="246" name=""/>
          <p:cNvSpPr/>
          <p:nvPr/>
        </p:nvSpPr>
        <p:spPr>
          <a:xfrm flipH="1">
            <a:off x="378000" y="3200400"/>
            <a:ext cx="2931840" cy="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475920" y="3675240"/>
            <a:ext cx="293220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244520" y="2801880"/>
            <a:ext cx="1206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a:t>
            </a:r>
            <a:endParaRPr b="0" lang="en-US" sz="1800" spc="-1" strike="noStrike">
              <a:solidFill>
                <a:srgbClr val="000000"/>
              </a:solidFill>
              <a:latin typeface="Arial"/>
            </a:endParaRPr>
          </a:p>
        </p:txBody>
      </p:sp>
      <p:sp>
        <p:nvSpPr>
          <p:cNvPr id="249" name=""/>
          <p:cNvSpPr/>
          <p:nvPr/>
        </p:nvSpPr>
        <p:spPr>
          <a:xfrm>
            <a:off x="1049760" y="3251160"/>
            <a:ext cx="1497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cation</a:t>
            </a:r>
            <a:endParaRPr b="0" lang="en-US" sz="1800" spc="-1" strike="noStrike">
              <a:solidFill>
                <a:srgbClr val="000000"/>
              </a:solidFill>
              <a:latin typeface="Arial"/>
            </a:endParaRPr>
          </a:p>
        </p:txBody>
      </p:sp>
      <p:sp>
        <p:nvSpPr>
          <p:cNvPr id="250" name=""/>
          <p:cNvSpPr/>
          <p:nvPr/>
        </p:nvSpPr>
        <p:spPr>
          <a:xfrm>
            <a:off x="4267080" y="3755880"/>
            <a:ext cx="12960" cy="242100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67120" y="3800520"/>
            <a:ext cx="0" cy="24192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16200000">
            <a:off x="3216960" y="4857480"/>
            <a:ext cx="1700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venience</a:t>
            </a:r>
            <a:endParaRPr b="0" lang="en-US" sz="1800" spc="-1" strike="noStrike">
              <a:solidFill>
                <a:srgbClr val="000000"/>
              </a:solidFill>
              <a:latin typeface="Arial"/>
            </a:endParaRPr>
          </a:p>
        </p:txBody>
      </p:sp>
      <p:sp>
        <p:nvSpPr>
          <p:cNvPr id="253" name=""/>
          <p:cNvSpPr/>
          <p:nvPr/>
        </p:nvSpPr>
        <p:spPr>
          <a:xfrm rot="16200000">
            <a:off x="2894400" y="4887720"/>
            <a:ext cx="1497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venience</a:t>
            </a:r>
            <a:endParaRPr b="0" lang="en-US" sz="1800" spc="-1" strike="noStrike">
              <a:solidFill>
                <a:srgbClr val="000000"/>
              </a:solidFill>
              <a:latin typeface="Arial"/>
            </a:endParaRPr>
          </a:p>
        </p:txBody>
      </p:sp>
      <p:sp>
        <p:nvSpPr>
          <p:cNvPr id="254" name=""/>
          <p:cNvSpPr/>
          <p:nvPr/>
        </p:nvSpPr>
        <p:spPr>
          <a:xfrm rot="18915000">
            <a:off x="1361520" y="5541120"/>
            <a:ext cx="2364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sting of Schemas</a:t>
            </a:r>
            <a:endParaRPr b="0" lang="en-US" sz="1800" spc="-1" strike="noStrike">
              <a:solidFill>
                <a:srgbClr val="000000"/>
              </a:solidFill>
              <a:latin typeface="Arial"/>
            </a:endParaRPr>
          </a:p>
        </p:txBody>
      </p:sp>
      <p:sp>
        <p:nvSpPr>
          <p:cNvPr id="255" name=""/>
          <p:cNvSpPr/>
          <p:nvPr/>
        </p:nvSpPr>
        <p:spPr>
          <a:xfrm rot="18879000">
            <a:off x="5061960" y="1293840"/>
            <a:ext cx="333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 between</a:t>
            </a:r>
            <a:r>
              <a:rPr b="0" lang="en-US" sz="1800" spc="-1" strike="noStrike">
                <a:solidFill>
                  <a:srgbClr val="000000"/>
                </a:solidFill>
                <a:latin typeface="Arial"/>
              </a:rPr>
              <a:t> </a:t>
            </a:r>
            <a:r>
              <a:rPr b="1" lang="en-US" sz="1800" spc="-1" strike="noStrike">
                <a:solidFill>
                  <a:srgbClr val="000000"/>
                </a:solidFill>
                <a:latin typeface="Arial"/>
              </a:rPr>
              <a:t>Schemas</a:t>
            </a:r>
            <a:endParaRPr b="0" lang="en-US" sz="1800" spc="-1" strike="noStrike">
              <a:solidFill>
                <a:srgbClr val="000000"/>
              </a:solidFill>
              <a:latin typeface="Arial"/>
            </a:endParaRPr>
          </a:p>
        </p:txBody>
      </p:sp>
      <p:sp>
        <p:nvSpPr>
          <p:cNvPr id="256" name=""/>
          <p:cNvSpPr/>
          <p:nvPr/>
        </p:nvSpPr>
        <p:spPr>
          <a:xfrm>
            <a:off x="3178440" y="6265800"/>
            <a:ext cx="205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omorphism</a:t>
            </a:r>
            <a:endParaRPr b="0" lang="en-US" sz="1800" spc="-1" strike="noStrike">
              <a:solidFill>
                <a:srgbClr val="000000"/>
              </a:solidFill>
              <a:latin typeface="Arial"/>
            </a:endParaRPr>
          </a:p>
        </p:txBody>
      </p:sp>
      <p:sp>
        <p:nvSpPr>
          <p:cNvPr id="257" name=""/>
          <p:cNvSpPr/>
          <p:nvPr/>
        </p:nvSpPr>
        <p:spPr>
          <a:xfrm>
            <a:off x="2401920" y="231840"/>
            <a:ext cx="3568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Difference as Novelty</a:t>
            </a:r>
            <a:endParaRPr b="0" lang="en-US" sz="1800" spc="-1" strike="noStrike">
              <a:solidFill>
                <a:srgbClr val="000000"/>
              </a:solidFill>
              <a:latin typeface="Arial"/>
            </a:endParaRPr>
          </a:p>
        </p:txBody>
      </p:sp>
      <p:sp>
        <p:nvSpPr>
          <p:cNvPr id="258" name=""/>
          <p:cNvSpPr/>
          <p:nvPr/>
        </p:nvSpPr>
        <p:spPr>
          <a:xfrm>
            <a:off x="5137920" y="3798720"/>
            <a:ext cx="262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to Mass Transition</a:t>
            </a:r>
            <a:endParaRPr b="0" lang="en-US" sz="1800" spc="-1" strike="noStrike">
              <a:solidFill>
                <a:srgbClr val="000000"/>
              </a:solidFill>
              <a:latin typeface="Arial"/>
            </a:endParaRPr>
          </a:p>
        </p:txBody>
      </p:sp>
      <p:sp>
        <p:nvSpPr>
          <p:cNvPr id="259" name=""/>
          <p:cNvSpPr/>
          <p:nvPr/>
        </p:nvSpPr>
        <p:spPr>
          <a:xfrm>
            <a:off x="1800" y="3749760"/>
            <a:ext cx="3076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to Set or Mass to M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a:t>
            </a:r>
            <a:endParaRPr b="0" lang="en-US" sz="1800" spc="-1" strike="noStrike">
              <a:solidFill>
                <a:srgbClr val="000000"/>
              </a:solidFill>
              <a:latin typeface="Arial"/>
            </a:endParaRPr>
          </a:p>
        </p:txBody>
      </p:sp>
      <p:sp>
        <p:nvSpPr>
          <p:cNvPr id="260" name=""/>
          <p:cNvSpPr/>
          <p:nvPr/>
        </p:nvSpPr>
        <p:spPr>
          <a:xfrm>
            <a:off x="3670200" y="322884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RT</a:t>
            </a:r>
            <a:endParaRPr b="0" lang="en-US" sz="1800" spc="-1" strike="noStrike">
              <a:solidFill>
                <a:srgbClr val="000000"/>
              </a:solidFill>
              <a:latin typeface="Arial"/>
            </a:endParaRPr>
          </a:p>
        </p:txBody>
      </p:sp>
      <p:sp>
        <p:nvSpPr>
          <p:cNvPr id="261" name=""/>
          <p:cNvSpPr/>
          <p:nvPr/>
        </p:nvSpPr>
        <p:spPr>
          <a:xfrm>
            <a:off x="4303800" y="3591000"/>
            <a:ext cx="2782800" cy="1531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598360" y="4975200"/>
            <a:ext cx="3541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 in Hierarchy of Schem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Complication rat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ness/Difference rat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457200"/>
          </a:xfrm>
          <a:prstGeom prst="rect">
            <a:avLst/>
          </a:prstGeom>
          <a:noFill/>
          <a:ln w="9360">
            <a:solidFill>
              <a:srgbClr val="c0c0c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Exploring the Design Landscape</a:t>
            </a:r>
            <a:endParaRPr b="0" lang="en-US" sz="3200" spc="-1" strike="noStrike">
              <a:solidFill>
                <a:srgbClr val="000000"/>
              </a:solidFill>
              <a:latin typeface="Arial"/>
            </a:endParaRPr>
          </a:p>
        </p:txBody>
      </p:sp>
      <p:sp>
        <p:nvSpPr>
          <p:cNvPr id="264" name=""/>
          <p:cNvSpPr/>
          <p:nvPr/>
        </p:nvSpPr>
        <p:spPr>
          <a:xfrm>
            <a:off x="4640400" y="779400"/>
            <a:ext cx="0" cy="2595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4726080" y="1011240"/>
            <a:ext cx="1990800" cy="211284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5025600" y="3397320"/>
            <a:ext cx="2932200" cy="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240080" y="824040"/>
            <a:ext cx="0" cy="2474640"/>
          </a:xfrm>
          <a:prstGeom prst="line">
            <a:avLst/>
          </a:prstGeom>
          <a:ln w="57240">
            <a:solidFill>
              <a:srgbClr val="c0c0c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5124600" y="3871800"/>
            <a:ext cx="2931840" cy="0"/>
          </a:xfrm>
          <a:prstGeom prst="line">
            <a:avLst/>
          </a:prstGeom>
          <a:ln w="57240">
            <a:solidFill>
              <a:srgbClr val="c0c0c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5106960" y="1217520"/>
            <a:ext cx="1990800" cy="2113200"/>
          </a:xfrm>
          <a:prstGeom prst="line">
            <a:avLst/>
          </a:prstGeom>
          <a:ln w="57240">
            <a:solidFill>
              <a:srgbClr val="c0c0c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1582560" y="4148280"/>
            <a:ext cx="1990800" cy="211284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1963800" y="4354560"/>
            <a:ext cx="1990800" cy="2112840"/>
          </a:xfrm>
          <a:prstGeom prst="line">
            <a:avLst/>
          </a:prstGeom>
          <a:ln w="57240">
            <a:solidFill>
              <a:srgbClr val="c0c0c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686880" y="3375000"/>
            <a:ext cx="2932200" cy="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785520" y="3849840"/>
            <a:ext cx="2932200" cy="0"/>
          </a:xfrm>
          <a:prstGeom prst="line">
            <a:avLst/>
          </a:prstGeom>
          <a:ln w="57240">
            <a:solidFill>
              <a:srgbClr val="c0c0c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576680" y="3930480"/>
            <a:ext cx="12960" cy="24210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176720" y="3975120"/>
            <a:ext cx="0" cy="2419200"/>
          </a:xfrm>
          <a:prstGeom prst="line">
            <a:avLst/>
          </a:prstGeom>
          <a:ln w="57240">
            <a:solidFill>
              <a:srgbClr val="c0c0c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18915000">
            <a:off x="1429560" y="5244840"/>
            <a:ext cx="2364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Nesting of Schemas</a:t>
            </a:r>
            <a:endParaRPr b="0" lang="en-US" sz="1800" spc="-1" strike="noStrike">
              <a:solidFill>
                <a:srgbClr val="000000"/>
              </a:solidFill>
              <a:latin typeface="Arial"/>
            </a:endParaRPr>
          </a:p>
        </p:txBody>
      </p:sp>
      <p:sp>
        <p:nvSpPr>
          <p:cNvPr id="277" name=""/>
          <p:cNvSpPr/>
          <p:nvPr/>
        </p:nvSpPr>
        <p:spPr>
          <a:xfrm rot="18819600">
            <a:off x="4242600" y="2019240"/>
            <a:ext cx="333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Transition between</a:t>
            </a:r>
            <a:r>
              <a:rPr b="0" lang="en-US" sz="1800" spc="-1" strike="noStrike">
                <a:solidFill>
                  <a:srgbClr val="c0c0c0"/>
                </a:solidFill>
                <a:latin typeface="Arial"/>
              </a:rPr>
              <a:t> </a:t>
            </a:r>
            <a:r>
              <a:rPr b="1" lang="en-US" sz="1800" spc="-1" strike="noStrike">
                <a:solidFill>
                  <a:srgbClr val="c0c0c0"/>
                </a:solidFill>
                <a:latin typeface="Arial"/>
              </a:rPr>
              <a:t>Schemas</a:t>
            </a:r>
            <a:endParaRPr b="0" lang="en-US" sz="1800" spc="-1" strike="noStrike">
              <a:solidFill>
                <a:srgbClr val="000000"/>
              </a:solidFill>
              <a:latin typeface="Arial"/>
            </a:endParaRPr>
          </a:p>
        </p:txBody>
      </p:sp>
      <p:sp>
        <p:nvSpPr>
          <p:cNvPr id="278" name=""/>
          <p:cNvSpPr/>
          <p:nvPr/>
        </p:nvSpPr>
        <p:spPr>
          <a:xfrm rot="16200000">
            <a:off x="3340080" y="4960800"/>
            <a:ext cx="205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Homeomorphism</a:t>
            </a:r>
            <a:endParaRPr b="0" lang="en-US" sz="1800" spc="-1" strike="noStrike">
              <a:solidFill>
                <a:srgbClr val="000000"/>
              </a:solidFill>
              <a:latin typeface="Arial"/>
            </a:endParaRPr>
          </a:p>
        </p:txBody>
      </p:sp>
      <p:sp>
        <p:nvSpPr>
          <p:cNvPr id="279" name=""/>
          <p:cNvSpPr/>
          <p:nvPr/>
        </p:nvSpPr>
        <p:spPr>
          <a:xfrm rot="16200000">
            <a:off x="3249000" y="1910880"/>
            <a:ext cx="2363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Essential Difference</a:t>
            </a:r>
            <a:endParaRPr b="0" lang="en-US" sz="1800" spc="-1" strike="noStrike">
              <a:solidFill>
                <a:srgbClr val="000000"/>
              </a:solidFill>
              <a:latin typeface="Arial"/>
            </a:endParaRPr>
          </a:p>
        </p:txBody>
      </p:sp>
      <p:sp>
        <p:nvSpPr>
          <p:cNvPr id="280" name=""/>
          <p:cNvSpPr/>
          <p:nvPr/>
        </p:nvSpPr>
        <p:spPr>
          <a:xfrm>
            <a:off x="5420520" y="3449520"/>
            <a:ext cx="262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t to Mass Transition</a:t>
            </a:r>
            <a:endParaRPr b="0" lang="en-US" sz="1800" spc="-1" strike="noStrike">
              <a:solidFill>
                <a:srgbClr val="000000"/>
              </a:solidFill>
              <a:latin typeface="Arial"/>
            </a:endParaRPr>
          </a:p>
        </p:txBody>
      </p:sp>
      <p:sp>
        <p:nvSpPr>
          <p:cNvPr id="281" name=""/>
          <p:cNvSpPr/>
          <p:nvPr/>
        </p:nvSpPr>
        <p:spPr>
          <a:xfrm>
            <a:off x="309600" y="3440160"/>
            <a:ext cx="422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Set to Set or Mass to Mass</a:t>
            </a:r>
            <a:endParaRPr b="0" lang="en-US" sz="1800" spc="-1" strike="noStrike">
              <a:solidFill>
                <a:srgbClr val="000000"/>
              </a:solidFill>
              <a:latin typeface="Arial"/>
            </a:endParaRPr>
          </a:p>
        </p:txBody>
      </p:sp>
      <p:sp>
        <p:nvSpPr>
          <p:cNvPr id="282" name=""/>
          <p:cNvSpPr/>
          <p:nvPr/>
        </p:nvSpPr>
        <p:spPr>
          <a:xfrm>
            <a:off x="3965400" y="333540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itial</a:t>
            </a:r>
            <a:r>
              <a:rPr b="1" i="1" lang="en-US" sz="1800" spc="-1" strike="noStrike">
                <a:solidFill>
                  <a:srgbClr val="c0c0c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ign</a:t>
            </a:r>
            <a:endParaRPr b="0" lang="en-US" sz="1800" spc="-1" strike="noStrike">
              <a:solidFill>
                <a:srgbClr val="000000"/>
              </a:solidFill>
              <a:latin typeface="Arial"/>
            </a:endParaRPr>
          </a:p>
        </p:txBody>
      </p:sp>
      <p:sp>
        <p:nvSpPr>
          <p:cNvPr id="283" name=""/>
          <p:cNvSpPr/>
          <p:nvPr/>
        </p:nvSpPr>
        <p:spPr>
          <a:xfrm>
            <a:off x="968400" y="2317680"/>
            <a:ext cx="4457520" cy="2200320"/>
          </a:xfrm>
          <a:custGeom>
            <a:avLst/>
            <a:gdLst/>
            <a:ahLst/>
            <a:rect l="l" t="t" r="r" b="b"/>
            <a:pathLst>
              <a:path w="2808" h="1386">
                <a:moveTo>
                  <a:pt x="2465" y="802"/>
                </a:moveTo>
                <a:cubicBezTo>
                  <a:pt x="2593" y="725"/>
                  <a:pt x="2722" y="649"/>
                  <a:pt x="2761" y="573"/>
                </a:cubicBezTo>
                <a:cubicBezTo>
                  <a:pt x="2800" y="497"/>
                  <a:pt x="2808" y="436"/>
                  <a:pt x="2702" y="344"/>
                </a:cubicBezTo>
                <a:cubicBezTo>
                  <a:pt x="2596" y="252"/>
                  <a:pt x="2366" y="44"/>
                  <a:pt x="2126" y="22"/>
                </a:cubicBezTo>
                <a:cubicBezTo>
                  <a:pt x="1886" y="0"/>
                  <a:pt x="1472" y="28"/>
                  <a:pt x="1262" y="209"/>
                </a:cubicBezTo>
                <a:cubicBezTo>
                  <a:pt x="1052" y="390"/>
                  <a:pt x="1074" y="911"/>
                  <a:pt x="864" y="1107"/>
                </a:cubicBezTo>
                <a:cubicBezTo>
                  <a:pt x="654" y="1303"/>
                  <a:pt x="144" y="1340"/>
                  <a:pt x="0" y="1386"/>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
          <p:cNvSpPr/>
          <p:nvPr/>
        </p:nvSpPr>
        <p:spPr>
          <a:xfrm>
            <a:off x="407880" y="46702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ign</a:t>
            </a:r>
            <a:endParaRPr b="0" lang="en-US" sz="1800" spc="-1" strike="noStrike">
              <a:solidFill>
                <a:srgbClr val="000000"/>
              </a:solidFill>
              <a:latin typeface="Arial"/>
            </a:endParaRPr>
          </a:p>
        </p:txBody>
      </p:sp>
      <p:sp>
        <p:nvSpPr>
          <p:cNvPr id="285" name=""/>
          <p:cNvSpPr/>
          <p:nvPr/>
        </p:nvSpPr>
        <p:spPr>
          <a:xfrm>
            <a:off x="833400" y="1855800"/>
            <a:ext cx="2246400" cy="792000"/>
          </a:xfrm>
          <a:custGeom>
            <a:avLst/>
            <a:gdLst/>
            <a:ahLst/>
            <a:rect l="l" t="t" r="r" b="b"/>
            <a:pathLst>
              <a:path w="1415" h="499">
                <a:moveTo>
                  <a:pt x="1415" y="440"/>
                </a:moveTo>
                <a:cubicBezTo>
                  <a:pt x="1375" y="440"/>
                  <a:pt x="1335" y="441"/>
                  <a:pt x="1262" y="449"/>
                </a:cubicBezTo>
                <a:cubicBezTo>
                  <a:pt x="1189" y="457"/>
                  <a:pt x="1102" y="499"/>
                  <a:pt x="974" y="491"/>
                </a:cubicBezTo>
                <a:cubicBezTo>
                  <a:pt x="846" y="483"/>
                  <a:pt x="653" y="480"/>
                  <a:pt x="491" y="398"/>
                </a:cubicBezTo>
                <a:cubicBezTo>
                  <a:pt x="329" y="316"/>
                  <a:pt x="82" y="66"/>
                  <a:pt x="0" y="0"/>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176760" y="1057320"/>
            <a:ext cx="136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tern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ign</a:t>
            </a:r>
            <a:endParaRPr b="0" lang="en-US" sz="1800" spc="-1" strike="noStrike">
              <a:solidFill>
                <a:srgbClr val="000000"/>
              </a:solidFill>
              <a:latin typeface="Arial"/>
            </a:endParaRPr>
          </a:p>
        </p:txBody>
      </p:sp>
      <p:sp>
        <p:nvSpPr>
          <p:cNvPr id="287" name=""/>
          <p:cNvSpPr/>
          <p:nvPr/>
        </p:nvSpPr>
        <p:spPr>
          <a:xfrm>
            <a:off x="5381640" y="1881360"/>
            <a:ext cx="1959120" cy="1239840"/>
          </a:xfrm>
          <a:custGeom>
            <a:avLst/>
            <a:gdLst/>
            <a:ahLst/>
            <a:rect l="l" t="t" r="r" b="b"/>
            <a:pathLst>
              <a:path w="1514" h="781">
                <a:moveTo>
                  <a:pt x="41" y="763"/>
                </a:moveTo>
                <a:cubicBezTo>
                  <a:pt x="20" y="772"/>
                  <a:pt x="0" y="781"/>
                  <a:pt x="66" y="695"/>
                </a:cubicBezTo>
                <a:cubicBezTo>
                  <a:pt x="132" y="609"/>
                  <a:pt x="261" y="357"/>
                  <a:pt x="439" y="247"/>
                </a:cubicBezTo>
                <a:cubicBezTo>
                  <a:pt x="617" y="137"/>
                  <a:pt x="954" y="70"/>
                  <a:pt x="1133" y="35"/>
                </a:cubicBezTo>
                <a:cubicBezTo>
                  <a:pt x="1312" y="0"/>
                  <a:pt x="1413" y="17"/>
                  <a:pt x="1514" y="35"/>
                </a:cubicBezTo>
              </a:path>
            </a:pathLst>
          </a:custGeom>
          <a:noFill/>
          <a:ln w="5724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8" name=""/>
          <p:cNvSpPr/>
          <p:nvPr/>
        </p:nvSpPr>
        <p:spPr>
          <a:xfrm>
            <a:off x="7349400" y="1585800"/>
            <a:ext cx="1360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tern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pers for CSER Conferenc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Failure of Systems Engineering as an approach toward Complex Adaptive Systems in our major Customer’s Ey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alysis of the Capstone Concept for Joint Operations and its relation to Meta-systems Theor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mergence and Complexity in relation to General Schemas Theo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int of discussion within the Systems Science Enabler Technical Working Group of INCOSE</a:t>
            </a:r>
            <a:r>
              <a:rPr b="0" lang="en-US"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should be grounded on Systems Theory</a:t>
            </a:r>
            <a:endParaRPr b="0" lang="en-US" sz="3200" spc="-1" strike="noStrike">
              <a:solidFill>
                <a:srgbClr val="000000"/>
              </a:solidFill>
              <a:latin typeface="Arial"/>
            </a:endParaRPr>
          </a:p>
        </p:txBody>
      </p:sp>
      <p:sp>
        <p:nvSpPr>
          <p:cNvPr id="290" name=""/>
          <p:cNvSpPr/>
          <p:nvPr/>
        </p:nvSpPr>
        <p:spPr>
          <a:xfrm>
            <a:off x="1726200" y="2009880"/>
            <a:ext cx="557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s Engineering</a:t>
            </a:r>
            <a:r>
              <a:rPr b="0" lang="en-US" sz="2800" spc="-1" strike="noStrike">
                <a:solidFill>
                  <a:srgbClr val="000000"/>
                </a:solidFill>
                <a:latin typeface="Arial"/>
              </a:rPr>
              <a:t> </a:t>
            </a:r>
            <a:r>
              <a:rPr b="1" lang="en-US" sz="2800" spc="-1" strike="noStrike">
                <a:solidFill>
                  <a:srgbClr val="000000"/>
                </a:solidFill>
                <a:latin typeface="Arial"/>
              </a:rPr>
              <a:t>Discipline</a:t>
            </a:r>
            <a:endParaRPr b="0" lang="en-US" sz="2800" spc="-1" strike="noStrike">
              <a:solidFill>
                <a:srgbClr val="000000"/>
              </a:solidFill>
              <a:latin typeface="Arial"/>
            </a:endParaRPr>
          </a:p>
        </p:txBody>
      </p:sp>
      <p:grpSp>
        <p:nvGrpSpPr>
          <p:cNvPr id="291" name=""/>
          <p:cNvGrpSpPr/>
          <p:nvPr/>
        </p:nvGrpSpPr>
        <p:grpSpPr>
          <a:xfrm>
            <a:off x="4016520" y="4191120"/>
            <a:ext cx="990360" cy="533160"/>
            <a:chOff x="4016520" y="4191120"/>
            <a:chExt cx="990360" cy="533160"/>
          </a:xfrm>
        </p:grpSpPr>
        <p:sp>
          <p:nvSpPr>
            <p:cNvPr id="292" name=""/>
            <p:cNvSpPr/>
            <p:nvPr/>
          </p:nvSpPr>
          <p:spPr>
            <a:xfrm>
              <a:off x="4016520" y="41911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06960" y="438480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359240" y="453024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435560" y="472428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 name=""/>
          <p:cNvSpPr/>
          <p:nvPr/>
        </p:nvSpPr>
        <p:spPr>
          <a:xfrm flipV="1">
            <a:off x="4511520" y="281952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050640" y="5029200"/>
            <a:ext cx="2926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s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mentary Disciplines</a:t>
            </a:r>
            <a:endParaRPr b="0" lang="en-US" sz="4400" spc="-1" strike="noStrike">
              <a:solidFill>
                <a:srgbClr val="000000"/>
              </a:solidFill>
              <a:latin typeface="Arial"/>
            </a:endParaRPr>
          </a:p>
        </p:txBody>
      </p:sp>
      <p:grpSp>
        <p:nvGrpSpPr>
          <p:cNvPr id="299" name=""/>
          <p:cNvGrpSpPr/>
          <p:nvPr/>
        </p:nvGrpSpPr>
        <p:grpSpPr>
          <a:xfrm>
            <a:off x="1069560" y="2638440"/>
            <a:ext cx="7248240" cy="3484440"/>
            <a:chOff x="1069560" y="2638440"/>
            <a:chExt cx="7248240" cy="3484440"/>
          </a:xfrm>
        </p:grpSpPr>
        <p:grpSp>
          <p:nvGrpSpPr>
            <p:cNvPr id="300" name=""/>
            <p:cNvGrpSpPr/>
            <p:nvPr/>
          </p:nvGrpSpPr>
          <p:grpSpPr>
            <a:xfrm>
              <a:off x="1069560" y="2638440"/>
              <a:ext cx="2926800" cy="3484440"/>
              <a:chOff x="1069560" y="2638440"/>
              <a:chExt cx="2926800" cy="3484440"/>
            </a:xfrm>
          </p:grpSpPr>
          <p:sp>
            <p:nvSpPr>
              <p:cNvPr id="301" name=""/>
              <p:cNvSpPr/>
              <p:nvPr/>
            </p:nvSpPr>
            <p:spPr>
              <a:xfrm>
                <a:off x="1367280" y="2638440"/>
                <a:ext cx="2331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ipline</a:t>
                </a:r>
                <a:endParaRPr b="0" lang="en-US" sz="2800" spc="-1" strike="noStrike">
                  <a:solidFill>
                    <a:srgbClr val="000000"/>
                  </a:solidFill>
                  <a:latin typeface="Arial"/>
                </a:endParaRPr>
              </a:p>
            </p:txBody>
          </p:sp>
          <p:grpSp>
            <p:nvGrpSpPr>
              <p:cNvPr id="302" name=""/>
              <p:cNvGrpSpPr/>
              <p:nvPr/>
            </p:nvGrpSpPr>
            <p:grpSpPr>
              <a:xfrm>
                <a:off x="2214720" y="5095800"/>
                <a:ext cx="636480" cy="322200"/>
                <a:chOff x="2214720" y="5095800"/>
                <a:chExt cx="636480" cy="322200"/>
              </a:xfrm>
            </p:grpSpPr>
            <p:sp>
              <p:nvSpPr>
                <p:cNvPr id="303" name=""/>
                <p:cNvSpPr/>
                <p:nvPr/>
              </p:nvSpPr>
              <p:spPr>
                <a:xfrm>
                  <a:off x="2214720" y="5095800"/>
                  <a:ext cx="636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337120" y="5212800"/>
                  <a:ext cx="39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434680" y="5300640"/>
                  <a:ext cx="195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484000" y="5418000"/>
                  <a:ext cx="9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
              <p:cNvSpPr/>
              <p:nvPr/>
            </p:nvSpPr>
            <p:spPr>
              <a:xfrm flipV="1">
                <a:off x="2532240" y="4268520"/>
                <a:ext cx="0" cy="78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69560" y="5602320"/>
                <a:ext cx="2926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s Theory</a:t>
                </a:r>
                <a:endParaRPr b="0" lang="en-US" sz="2800" spc="-1" strike="noStrike">
                  <a:solidFill>
                    <a:srgbClr val="000000"/>
                  </a:solidFill>
                  <a:latin typeface="Arial"/>
                </a:endParaRPr>
              </a:p>
            </p:txBody>
          </p:sp>
        </p:grpSp>
        <p:grpSp>
          <p:nvGrpSpPr>
            <p:cNvPr id="309" name=""/>
            <p:cNvGrpSpPr/>
            <p:nvPr/>
          </p:nvGrpSpPr>
          <p:grpSpPr>
            <a:xfrm>
              <a:off x="4499280" y="2638440"/>
              <a:ext cx="3818520" cy="3484440"/>
              <a:chOff x="4499280" y="2638440"/>
              <a:chExt cx="3818520" cy="3484440"/>
            </a:xfrm>
          </p:grpSpPr>
          <p:sp>
            <p:nvSpPr>
              <p:cNvPr id="310" name=""/>
              <p:cNvSpPr/>
              <p:nvPr/>
            </p:nvSpPr>
            <p:spPr>
              <a:xfrm>
                <a:off x="5088240" y="2638440"/>
                <a:ext cx="26344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system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ipline</a:t>
                </a:r>
                <a:endParaRPr b="0" lang="en-US" sz="2800" spc="-1" strike="noStrike">
                  <a:solidFill>
                    <a:srgbClr val="000000"/>
                  </a:solidFill>
                  <a:latin typeface="Arial"/>
                </a:endParaRPr>
              </a:p>
            </p:txBody>
          </p:sp>
          <p:grpSp>
            <p:nvGrpSpPr>
              <p:cNvPr id="311" name=""/>
              <p:cNvGrpSpPr/>
              <p:nvPr/>
            </p:nvGrpSpPr>
            <p:grpSpPr>
              <a:xfrm>
                <a:off x="6086520" y="5095800"/>
                <a:ext cx="636480" cy="322200"/>
                <a:chOff x="6086520" y="5095800"/>
                <a:chExt cx="636480" cy="322200"/>
              </a:xfrm>
            </p:grpSpPr>
            <p:sp>
              <p:nvSpPr>
                <p:cNvPr id="312" name=""/>
                <p:cNvSpPr/>
                <p:nvPr/>
              </p:nvSpPr>
              <p:spPr>
                <a:xfrm>
                  <a:off x="6086520" y="5095800"/>
                  <a:ext cx="636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208920" y="5212800"/>
                  <a:ext cx="391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306480" y="5300640"/>
                  <a:ext cx="195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55800" y="5418000"/>
                  <a:ext cx="9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6" name=""/>
              <p:cNvSpPr/>
              <p:nvPr/>
            </p:nvSpPr>
            <p:spPr>
              <a:xfrm flipV="1">
                <a:off x="6404040" y="4268520"/>
                <a:ext cx="0" cy="78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499280" y="5602320"/>
                <a:ext cx="38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systems Theory</a:t>
                </a:r>
                <a:endParaRPr b="0" lang="en-US" sz="2800" spc="-1" strike="noStrike">
                  <a:solidFill>
                    <a:srgbClr val="000000"/>
                  </a:solidFill>
                  <a:latin typeface="Arial"/>
                </a:endParaRPr>
              </a:p>
            </p:txBody>
          </p:sp>
        </p:grpSp>
      </p:grpSp>
      <p:sp>
        <p:nvSpPr>
          <p:cNvPr id="318" name=""/>
          <p:cNvSpPr/>
          <p:nvPr/>
        </p:nvSpPr>
        <p:spPr>
          <a:xfrm>
            <a:off x="2595960" y="1828800"/>
            <a:ext cx="396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t Engineering</a:t>
            </a:r>
            <a:endParaRPr b="0" lang="en-US" sz="2800" spc="-1" strike="noStrike">
              <a:solidFill>
                <a:srgbClr val="000000"/>
              </a:solidFill>
              <a:latin typeface="Arial"/>
            </a:endParaRPr>
          </a:p>
        </p:txBody>
      </p:sp>
      <p:sp>
        <p:nvSpPr>
          <p:cNvPr id="319" name=""/>
          <p:cNvSpPr/>
          <p:nvPr/>
        </p:nvSpPr>
        <p:spPr>
          <a:xfrm>
            <a:off x="1522440" y="2562120"/>
            <a:ext cx="6172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t Engineering</a:t>
            </a:r>
            <a:endParaRPr b="0" lang="en-US" sz="4400" spc="-1" strike="noStrike">
              <a:solidFill>
                <a:srgbClr val="000000"/>
              </a:solidFill>
              <a:latin typeface="Arial"/>
            </a:endParaRPr>
          </a:p>
        </p:txBody>
      </p:sp>
      <p:sp>
        <p:nvSpPr>
          <p:cNvPr id="321" name=""/>
          <p:cNvSpPr/>
          <p:nvPr/>
        </p:nvSpPr>
        <p:spPr>
          <a:xfrm>
            <a:off x="838080" y="2819520"/>
            <a:ext cx="3124440" cy="2971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066680" y="2971800"/>
            <a:ext cx="1143000" cy="106668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990720" y="4343400"/>
            <a:ext cx="2209680" cy="30492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990720" y="4800600"/>
            <a:ext cx="609480" cy="6858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828800" y="4800600"/>
            <a:ext cx="609480" cy="6858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590920" y="4800600"/>
            <a:ext cx="609480" cy="6858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2438280" y="2971800"/>
            <a:ext cx="1295640" cy="2286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362320" y="3276720"/>
            <a:ext cx="1295280" cy="2286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514600" y="3581280"/>
            <a:ext cx="1295280" cy="2286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438280" y="3886200"/>
            <a:ext cx="1295640" cy="228600"/>
          </a:xfrm>
          <a:prstGeom prst="rect">
            <a:avLst/>
          </a:prstGeom>
          <a:solidFill>
            <a:srgbClr val="c0c0c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352680" y="4267080"/>
            <a:ext cx="457200" cy="1295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85800" y="1371600"/>
            <a:ext cx="3087720" cy="1414440"/>
          </a:xfrm>
          <a:custGeom>
            <a:avLst/>
            <a:gdLst/>
            <a:ahLst/>
            <a:rect l="l" t="t" r="r" b="b"/>
            <a:pathLst>
              <a:path w="1945" h="891">
                <a:moveTo>
                  <a:pt x="230" y="606"/>
                </a:moveTo>
                <a:cubicBezTo>
                  <a:pt x="279" y="674"/>
                  <a:pt x="267" y="643"/>
                  <a:pt x="282" y="693"/>
                </a:cubicBezTo>
                <a:cubicBezTo>
                  <a:pt x="276" y="716"/>
                  <a:pt x="283" y="747"/>
                  <a:pt x="265" y="763"/>
                </a:cubicBezTo>
                <a:cubicBezTo>
                  <a:pt x="234" y="792"/>
                  <a:pt x="170" y="805"/>
                  <a:pt x="125" y="815"/>
                </a:cubicBezTo>
                <a:cubicBezTo>
                  <a:pt x="111" y="812"/>
                  <a:pt x="94" y="815"/>
                  <a:pt x="82" y="807"/>
                </a:cubicBezTo>
                <a:cubicBezTo>
                  <a:pt x="58" y="791"/>
                  <a:pt x="21" y="745"/>
                  <a:pt x="21" y="745"/>
                </a:cubicBezTo>
                <a:cubicBezTo>
                  <a:pt x="7" y="704"/>
                  <a:pt x="0" y="574"/>
                  <a:pt x="38" y="553"/>
                </a:cubicBezTo>
                <a:cubicBezTo>
                  <a:pt x="56" y="543"/>
                  <a:pt x="79" y="548"/>
                  <a:pt x="99" y="545"/>
                </a:cubicBezTo>
                <a:cubicBezTo>
                  <a:pt x="266" y="519"/>
                  <a:pt x="142" y="531"/>
                  <a:pt x="317" y="519"/>
                </a:cubicBezTo>
                <a:cubicBezTo>
                  <a:pt x="346" y="522"/>
                  <a:pt x="377" y="517"/>
                  <a:pt x="405" y="527"/>
                </a:cubicBezTo>
                <a:cubicBezTo>
                  <a:pt x="414" y="530"/>
                  <a:pt x="422" y="551"/>
                  <a:pt x="413" y="553"/>
                </a:cubicBezTo>
                <a:cubicBezTo>
                  <a:pt x="388" y="560"/>
                  <a:pt x="361" y="548"/>
                  <a:pt x="335" y="545"/>
                </a:cubicBezTo>
                <a:cubicBezTo>
                  <a:pt x="312" y="539"/>
                  <a:pt x="288" y="532"/>
                  <a:pt x="265" y="527"/>
                </a:cubicBezTo>
                <a:cubicBezTo>
                  <a:pt x="250" y="524"/>
                  <a:pt x="233" y="528"/>
                  <a:pt x="221" y="519"/>
                </a:cubicBezTo>
                <a:cubicBezTo>
                  <a:pt x="210" y="512"/>
                  <a:pt x="210" y="496"/>
                  <a:pt x="204" y="484"/>
                </a:cubicBezTo>
                <a:cubicBezTo>
                  <a:pt x="220" y="370"/>
                  <a:pt x="203" y="324"/>
                  <a:pt x="317" y="300"/>
                </a:cubicBezTo>
                <a:cubicBezTo>
                  <a:pt x="387" y="309"/>
                  <a:pt x="401" y="314"/>
                  <a:pt x="448" y="361"/>
                </a:cubicBezTo>
                <a:cubicBezTo>
                  <a:pt x="451" y="370"/>
                  <a:pt x="448" y="392"/>
                  <a:pt x="457" y="388"/>
                </a:cubicBezTo>
                <a:cubicBezTo>
                  <a:pt x="468" y="383"/>
                  <a:pt x="464" y="365"/>
                  <a:pt x="466" y="353"/>
                </a:cubicBezTo>
                <a:cubicBezTo>
                  <a:pt x="470" y="330"/>
                  <a:pt x="468" y="283"/>
                  <a:pt x="483" y="257"/>
                </a:cubicBezTo>
                <a:cubicBezTo>
                  <a:pt x="523" y="185"/>
                  <a:pt x="515" y="206"/>
                  <a:pt x="588" y="187"/>
                </a:cubicBezTo>
                <a:cubicBezTo>
                  <a:pt x="617" y="104"/>
                  <a:pt x="597" y="135"/>
                  <a:pt x="789" y="169"/>
                </a:cubicBezTo>
                <a:cubicBezTo>
                  <a:pt x="796" y="170"/>
                  <a:pt x="811" y="287"/>
                  <a:pt x="789" y="143"/>
                </a:cubicBezTo>
                <a:cubicBezTo>
                  <a:pt x="795" y="131"/>
                  <a:pt x="801" y="120"/>
                  <a:pt x="806" y="108"/>
                </a:cubicBezTo>
                <a:cubicBezTo>
                  <a:pt x="810" y="97"/>
                  <a:pt x="806" y="82"/>
                  <a:pt x="815" y="73"/>
                </a:cubicBezTo>
                <a:cubicBezTo>
                  <a:pt x="832" y="56"/>
                  <a:pt x="892" y="30"/>
                  <a:pt x="919" y="21"/>
                </a:cubicBezTo>
                <a:cubicBezTo>
                  <a:pt x="987" y="23"/>
                  <a:pt x="1174" y="0"/>
                  <a:pt x="1269" y="56"/>
                </a:cubicBezTo>
                <a:cubicBezTo>
                  <a:pt x="1285" y="66"/>
                  <a:pt x="1290" y="87"/>
                  <a:pt x="1303" y="100"/>
                </a:cubicBezTo>
                <a:cubicBezTo>
                  <a:pt x="1325" y="186"/>
                  <a:pt x="1299" y="210"/>
                  <a:pt x="1216" y="231"/>
                </a:cubicBezTo>
                <a:cubicBezTo>
                  <a:pt x="1176" y="200"/>
                  <a:pt x="1145" y="148"/>
                  <a:pt x="1199" y="100"/>
                </a:cubicBezTo>
                <a:cubicBezTo>
                  <a:pt x="1212" y="88"/>
                  <a:pt x="1234" y="94"/>
                  <a:pt x="1251" y="91"/>
                </a:cubicBezTo>
                <a:cubicBezTo>
                  <a:pt x="1358" y="17"/>
                  <a:pt x="1763" y="82"/>
                  <a:pt x="1766" y="82"/>
                </a:cubicBezTo>
                <a:cubicBezTo>
                  <a:pt x="1769" y="94"/>
                  <a:pt x="1775" y="105"/>
                  <a:pt x="1775" y="117"/>
                </a:cubicBezTo>
                <a:cubicBezTo>
                  <a:pt x="1775" y="141"/>
                  <a:pt x="1750" y="170"/>
                  <a:pt x="1766" y="187"/>
                </a:cubicBezTo>
                <a:cubicBezTo>
                  <a:pt x="1779" y="201"/>
                  <a:pt x="1781" y="151"/>
                  <a:pt x="1792" y="135"/>
                </a:cubicBezTo>
                <a:cubicBezTo>
                  <a:pt x="1799" y="125"/>
                  <a:pt x="1809" y="117"/>
                  <a:pt x="1818" y="108"/>
                </a:cubicBezTo>
                <a:cubicBezTo>
                  <a:pt x="1841" y="114"/>
                  <a:pt x="1867" y="114"/>
                  <a:pt x="1888" y="126"/>
                </a:cubicBezTo>
                <a:cubicBezTo>
                  <a:pt x="1920" y="144"/>
                  <a:pt x="1926" y="201"/>
                  <a:pt x="1932" y="231"/>
                </a:cubicBezTo>
                <a:cubicBezTo>
                  <a:pt x="1928" y="281"/>
                  <a:pt x="1942" y="338"/>
                  <a:pt x="1914" y="379"/>
                </a:cubicBezTo>
                <a:cubicBezTo>
                  <a:pt x="1859" y="460"/>
                  <a:pt x="1766" y="460"/>
                  <a:pt x="1687" y="492"/>
                </a:cubicBezTo>
                <a:cubicBezTo>
                  <a:pt x="1645" y="509"/>
                  <a:pt x="1606" y="533"/>
                  <a:pt x="1565" y="553"/>
                </a:cubicBezTo>
                <a:cubicBezTo>
                  <a:pt x="1545" y="563"/>
                  <a:pt x="1598" y="521"/>
                  <a:pt x="1618" y="510"/>
                </a:cubicBezTo>
                <a:cubicBezTo>
                  <a:pt x="1639" y="498"/>
                  <a:pt x="1663" y="491"/>
                  <a:pt x="1687" y="484"/>
                </a:cubicBezTo>
                <a:cubicBezTo>
                  <a:pt x="1748" y="467"/>
                  <a:pt x="1791" y="464"/>
                  <a:pt x="1853" y="457"/>
                </a:cubicBezTo>
                <a:cubicBezTo>
                  <a:pt x="1907" y="466"/>
                  <a:pt x="1915" y="462"/>
                  <a:pt x="1932" y="510"/>
                </a:cubicBezTo>
                <a:cubicBezTo>
                  <a:pt x="1929" y="533"/>
                  <a:pt x="1945" y="572"/>
                  <a:pt x="1923" y="580"/>
                </a:cubicBezTo>
                <a:cubicBezTo>
                  <a:pt x="1863" y="602"/>
                  <a:pt x="1688" y="586"/>
                  <a:pt x="1609" y="580"/>
                </a:cubicBezTo>
                <a:cubicBezTo>
                  <a:pt x="1658" y="648"/>
                  <a:pt x="1646" y="617"/>
                  <a:pt x="1661" y="667"/>
                </a:cubicBezTo>
                <a:cubicBezTo>
                  <a:pt x="1635" y="752"/>
                  <a:pt x="1576" y="738"/>
                  <a:pt x="1495" y="745"/>
                </a:cubicBezTo>
                <a:cubicBezTo>
                  <a:pt x="1408" y="739"/>
                  <a:pt x="1320" y="742"/>
                  <a:pt x="1234" y="728"/>
                </a:cubicBezTo>
                <a:cubicBezTo>
                  <a:pt x="1225" y="727"/>
                  <a:pt x="1216" y="702"/>
                  <a:pt x="1225" y="702"/>
                </a:cubicBezTo>
                <a:cubicBezTo>
                  <a:pt x="1242" y="702"/>
                  <a:pt x="1254" y="719"/>
                  <a:pt x="1269" y="728"/>
                </a:cubicBezTo>
                <a:cubicBezTo>
                  <a:pt x="1306" y="891"/>
                  <a:pt x="990" y="814"/>
                  <a:pt x="911" y="711"/>
                </a:cubicBezTo>
                <a:cubicBezTo>
                  <a:pt x="904" y="682"/>
                  <a:pt x="889" y="643"/>
                  <a:pt x="911" y="615"/>
                </a:cubicBezTo>
                <a:cubicBezTo>
                  <a:pt x="917" y="607"/>
                  <a:pt x="928" y="626"/>
                  <a:pt x="937" y="632"/>
                </a:cubicBezTo>
                <a:cubicBezTo>
                  <a:pt x="967" y="778"/>
                  <a:pt x="856" y="802"/>
                  <a:pt x="736" y="807"/>
                </a:cubicBezTo>
                <a:cubicBezTo>
                  <a:pt x="637" y="811"/>
                  <a:pt x="538" y="812"/>
                  <a:pt x="439" y="815"/>
                </a:cubicBezTo>
                <a:cubicBezTo>
                  <a:pt x="334" y="763"/>
                  <a:pt x="415" y="648"/>
                  <a:pt x="483" y="615"/>
                </a:cubicBezTo>
                <a:cubicBezTo>
                  <a:pt x="500" y="624"/>
                  <a:pt x="519" y="630"/>
                  <a:pt x="535" y="641"/>
                </a:cubicBezTo>
                <a:cubicBezTo>
                  <a:pt x="552" y="653"/>
                  <a:pt x="579" y="684"/>
                  <a:pt x="579" y="684"/>
                </a:cubicBezTo>
                <a:cubicBezTo>
                  <a:pt x="584" y="708"/>
                  <a:pt x="606" y="732"/>
                  <a:pt x="597" y="754"/>
                </a:cubicBezTo>
                <a:cubicBezTo>
                  <a:pt x="593" y="764"/>
                  <a:pt x="581" y="771"/>
                  <a:pt x="570" y="772"/>
                </a:cubicBezTo>
                <a:cubicBezTo>
                  <a:pt x="466" y="785"/>
                  <a:pt x="361" y="782"/>
                  <a:pt x="256" y="789"/>
                </a:cubicBezTo>
                <a:cubicBezTo>
                  <a:pt x="227" y="786"/>
                  <a:pt x="186" y="803"/>
                  <a:pt x="169" y="780"/>
                </a:cubicBezTo>
                <a:cubicBezTo>
                  <a:pt x="150" y="754"/>
                  <a:pt x="174" y="716"/>
                  <a:pt x="178" y="684"/>
                </a:cubicBezTo>
                <a:cubicBezTo>
                  <a:pt x="179" y="675"/>
                  <a:pt x="177" y="661"/>
                  <a:pt x="186" y="658"/>
                </a:cubicBezTo>
                <a:cubicBezTo>
                  <a:pt x="221" y="648"/>
                  <a:pt x="297" y="649"/>
                  <a:pt x="343" y="649"/>
                </a:cubicBezTo>
                <a:lnTo>
                  <a:pt x="278" y="632"/>
                </a:lnTo>
              </a:path>
            </a:pathLst>
          </a:custGeom>
          <a:noFill/>
          <a:ln cap="rnd" w="57240">
            <a:solidFill>
              <a:srgbClr val="00000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3" name=""/>
          <p:cNvSpPr/>
          <p:nvPr/>
        </p:nvSpPr>
        <p:spPr>
          <a:xfrm>
            <a:off x="4267080" y="144792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648320" y="1752480"/>
            <a:ext cx="1371600" cy="533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SS</a:t>
            </a:r>
            <a:endParaRPr b="0" lang="en-US" sz="1800" spc="-1" strike="noStrike">
              <a:solidFill>
                <a:srgbClr val="000000"/>
              </a:solidFill>
              <a:latin typeface="Arial"/>
            </a:endParaRPr>
          </a:p>
        </p:txBody>
      </p:sp>
      <p:sp>
        <p:nvSpPr>
          <p:cNvPr id="335" name=""/>
          <p:cNvSpPr/>
          <p:nvPr/>
        </p:nvSpPr>
        <p:spPr>
          <a:xfrm>
            <a:off x="3581280" y="4038480"/>
            <a:ext cx="1600200" cy="914400"/>
          </a:xfrm>
          <a:custGeom>
            <a:avLst/>
            <a:gdLst/>
            <a:ahLst/>
            <a:rect l="l" t="t" r="r" b="b"/>
            <a:pathLst>
              <a:path w="1008" h="576">
                <a:moveTo>
                  <a:pt x="0" y="576"/>
                </a:moveTo>
                <a:cubicBezTo>
                  <a:pt x="84" y="424"/>
                  <a:pt x="168" y="272"/>
                  <a:pt x="240" y="192"/>
                </a:cubicBezTo>
                <a:cubicBezTo>
                  <a:pt x="312" y="112"/>
                  <a:pt x="360" y="120"/>
                  <a:pt x="432" y="96"/>
                </a:cubicBezTo>
                <a:cubicBezTo>
                  <a:pt x="504" y="72"/>
                  <a:pt x="576" y="64"/>
                  <a:pt x="672" y="48"/>
                </a:cubicBezTo>
                <a:cubicBezTo>
                  <a:pt x="768" y="32"/>
                  <a:pt x="888" y="16"/>
                  <a:pt x="1008" y="0"/>
                </a:cubicBezTo>
              </a:path>
            </a:pathLst>
          </a:custGeom>
          <a:noFill/>
          <a:ln w="57240">
            <a:solidFill>
              <a:srgbClr val="80808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6" name=""/>
          <p:cNvSpPr/>
          <p:nvPr/>
        </p:nvSpPr>
        <p:spPr>
          <a:xfrm>
            <a:off x="5183640" y="3886200"/>
            <a:ext cx="814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K</a:t>
            </a:r>
            <a:endParaRPr b="0" lang="en-US" sz="1800" spc="-1" strike="noStrike">
              <a:solidFill>
                <a:srgbClr val="000000"/>
              </a:solidFill>
              <a:latin typeface="Arial"/>
            </a:endParaRPr>
          </a:p>
        </p:txBody>
      </p:sp>
      <p:sp>
        <p:nvSpPr>
          <p:cNvPr id="337" name=""/>
          <p:cNvSpPr/>
          <p:nvPr/>
        </p:nvSpPr>
        <p:spPr>
          <a:xfrm>
            <a:off x="5724000" y="1371600"/>
            <a:ext cx="26298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merge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emerg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gardless of Sch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Meta-system vs Emergence/De-emergence</a:t>
            </a:r>
            <a:endParaRPr b="0" lang="en-US" sz="4000" spc="-1" strike="noStrike">
              <a:solidFill>
                <a:srgbClr val="000000"/>
              </a:solidFill>
              <a:latin typeface="Arial"/>
            </a:endParaRPr>
          </a:p>
        </p:txBody>
      </p:sp>
      <p:sp>
        <p:nvSpPr>
          <p:cNvPr id="339" name=""/>
          <p:cNvSpPr/>
          <p:nvPr/>
        </p:nvSpPr>
        <p:spPr>
          <a:xfrm>
            <a:off x="1469880" y="2743200"/>
            <a:ext cx="2108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ent System</a:t>
            </a:r>
            <a:endParaRPr b="0" lang="en-US" sz="1800" spc="-1" strike="noStrike">
              <a:solidFill>
                <a:srgbClr val="000000"/>
              </a:solidFill>
              <a:latin typeface="Arial"/>
            </a:endParaRPr>
          </a:p>
        </p:txBody>
      </p:sp>
      <p:sp>
        <p:nvSpPr>
          <p:cNvPr id="340" name=""/>
          <p:cNvSpPr/>
          <p:nvPr/>
        </p:nvSpPr>
        <p:spPr>
          <a:xfrm>
            <a:off x="4369320" y="5164200"/>
            <a:ext cx="270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ent Meta-System</a:t>
            </a:r>
            <a:endParaRPr b="0" lang="en-US" sz="1800" spc="-1" strike="noStrike">
              <a:solidFill>
                <a:srgbClr val="000000"/>
              </a:solidFill>
              <a:latin typeface="Arial"/>
            </a:endParaRPr>
          </a:p>
        </p:txBody>
      </p:sp>
      <p:sp>
        <p:nvSpPr>
          <p:cNvPr id="341" name=""/>
          <p:cNvSpPr/>
          <p:nvPr/>
        </p:nvSpPr>
        <p:spPr>
          <a:xfrm>
            <a:off x="1384920" y="5164200"/>
            <a:ext cx="244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mergent System</a:t>
            </a:r>
            <a:endParaRPr b="0" lang="en-US" sz="1800" spc="-1" strike="noStrike">
              <a:solidFill>
                <a:srgbClr val="000000"/>
              </a:solidFill>
              <a:latin typeface="Arial"/>
            </a:endParaRPr>
          </a:p>
        </p:txBody>
      </p:sp>
      <p:sp>
        <p:nvSpPr>
          <p:cNvPr id="342" name=""/>
          <p:cNvSpPr/>
          <p:nvPr/>
        </p:nvSpPr>
        <p:spPr>
          <a:xfrm>
            <a:off x="4287240" y="2744640"/>
            <a:ext cx="3020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mergent Meta-system</a:t>
            </a:r>
            <a:endParaRPr b="0" lang="en-US" sz="1800" spc="-1" strike="noStrike">
              <a:solidFill>
                <a:srgbClr val="000000"/>
              </a:solidFill>
              <a:latin typeface="Arial"/>
            </a:endParaRPr>
          </a:p>
        </p:txBody>
      </p:sp>
      <p:sp>
        <p:nvSpPr>
          <p:cNvPr id="343" name=""/>
          <p:cNvSpPr/>
          <p:nvPr/>
        </p:nvSpPr>
        <p:spPr>
          <a:xfrm>
            <a:off x="2448000" y="3297240"/>
            <a:ext cx="0" cy="16765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591000" y="2916360"/>
            <a:ext cx="68580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495760" y="3220920"/>
            <a:ext cx="0" cy="18288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819600" y="5354640"/>
            <a:ext cx="60948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203720" y="244008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o the outer environment</a:t>
            </a:r>
            <a:endParaRPr b="0" lang="en-US" sz="1800" spc="-1" strike="noStrike">
              <a:solidFill>
                <a:srgbClr val="000000"/>
              </a:solidFill>
              <a:latin typeface="Arial"/>
            </a:endParaRPr>
          </a:p>
        </p:txBody>
      </p:sp>
      <p:sp>
        <p:nvSpPr>
          <p:cNvPr id="348" name=""/>
          <p:cNvSpPr/>
          <p:nvPr/>
        </p:nvSpPr>
        <p:spPr>
          <a:xfrm>
            <a:off x="857880" y="5487840"/>
            <a:ext cx="326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o the inner environment</a:t>
            </a:r>
            <a:endParaRPr b="0" lang="en-US" sz="1800" spc="-1" strike="noStrike">
              <a:solidFill>
                <a:srgbClr val="000000"/>
              </a:solidFill>
              <a:latin typeface="Arial"/>
            </a:endParaRPr>
          </a:p>
        </p:txBody>
      </p:sp>
      <p:sp>
        <p:nvSpPr>
          <p:cNvPr id="349" name=""/>
          <p:cNvSpPr/>
          <p:nvPr/>
        </p:nvSpPr>
        <p:spPr>
          <a:xfrm>
            <a:off x="4581360" y="5564160"/>
            <a:ext cx="36133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nvironment with emergent properties of its own without becoming a system</a:t>
            </a:r>
            <a:endParaRPr b="0" lang="en-US" sz="1800" spc="-1" strike="noStrike">
              <a:solidFill>
                <a:srgbClr val="000000"/>
              </a:solidFill>
              <a:latin typeface="Arial"/>
            </a:endParaRPr>
          </a:p>
        </p:txBody>
      </p:sp>
      <p:sp>
        <p:nvSpPr>
          <p:cNvPr id="350" name=""/>
          <p:cNvSpPr/>
          <p:nvPr/>
        </p:nvSpPr>
        <p:spPr>
          <a:xfrm>
            <a:off x="7086600" y="5410080"/>
            <a:ext cx="144792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8534520" y="1905120"/>
            <a:ext cx="0" cy="350496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2438280" y="1905120"/>
            <a:ext cx="609624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438280" y="1905120"/>
            <a:ext cx="0" cy="6094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80640" y="1523880"/>
            <a:ext cx="3795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higher or lower level of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y of Schemas</a:t>
            </a:r>
            <a:endParaRPr b="0" lang="en-US" sz="4400" spc="-1" strike="noStrike">
              <a:solidFill>
                <a:srgbClr val="000000"/>
              </a:solidFill>
              <a:latin typeface="Arial"/>
            </a:endParaRPr>
          </a:p>
        </p:txBody>
      </p:sp>
      <p:sp>
        <p:nvSpPr>
          <p:cNvPr id="356" name=""/>
          <p:cNvSpPr/>
          <p:nvPr/>
        </p:nvSpPr>
        <p:spPr>
          <a:xfrm>
            <a:off x="609480" y="1828800"/>
            <a:ext cx="80773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riv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osm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o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ta-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Reflexive so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utopoietic Symbio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Dissipative Ord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tter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n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et </a:t>
            </a:r>
            <a:endParaRPr b="0" lang="en-US" sz="1800" spc="-1" strike="noStrike">
              <a:solidFill>
                <a:srgbClr val="000000"/>
              </a:solidFill>
              <a:latin typeface="Arial"/>
            </a:endParaRPr>
          </a:p>
        </p:txBody>
      </p:sp>
      <p:sp>
        <p:nvSpPr>
          <p:cNvPr id="357" name=""/>
          <p:cNvSpPr/>
          <p:nvPr/>
        </p:nvSpPr>
        <p:spPr>
          <a:xfrm>
            <a:off x="238320" y="6172200"/>
            <a:ext cx="864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t Engineering deals with all the schematic levels within reach of experience</a:t>
            </a:r>
            <a:endParaRPr b="0" lang="en-US" sz="1800" spc="-1" strike="noStrike">
              <a:solidFill>
                <a:srgbClr val="000000"/>
              </a:solidFill>
              <a:latin typeface="Arial"/>
            </a:endParaRPr>
          </a:p>
        </p:txBody>
      </p:sp>
      <p:sp>
        <p:nvSpPr>
          <p:cNvPr id="358" name=""/>
          <p:cNvSpPr/>
          <p:nvPr/>
        </p:nvSpPr>
        <p:spPr>
          <a:xfrm>
            <a:off x="2540160" y="1295280"/>
            <a:ext cx="0" cy="46483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594160" y="137160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ential</a:t>
            </a:r>
            <a:endParaRPr b="0" lang="en-US" sz="1800" spc="-1" strike="noStrike">
              <a:solidFill>
                <a:srgbClr val="000000"/>
              </a:solidFill>
              <a:latin typeface="Arial"/>
            </a:endParaRPr>
          </a:p>
        </p:txBody>
      </p:sp>
      <p:sp>
        <p:nvSpPr>
          <p:cNvPr id="360" name=""/>
          <p:cNvSpPr/>
          <p:nvPr/>
        </p:nvSpPr>
        <p:spPr>
          <a:xfrm>
            <a:off x="1222200" y="1371600"/>
            <a:ext cx="1308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ffol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s and Dimensions</a:t>
            </a:r>
            <a:endParaRPr b="0" lang="en-US" sz="4400" spc="-1" strike="noStrike">
              <a:solidFill>
                <a:srgbClr val="000000"/>
              </a:solidFill>
              <a:latin typeface="Arial"/>
            </a:endParaRPr>
          </a:p>
        </p:txBody>
      </p:sp>
      <p:sp>
        <p:nvSpPr>
          <p:cNvPr id="362" name=""/>
          <p:cNvSpPr/>
          <p:nvPr/>
        </p:nvSpPr>
        <p:spPr>
          <a:xfrm>
            <a:off x="609480" y="2549520"/>
            <a:ext cx="8077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riverse                                                                         8 to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osmos                                                                   7 to 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orld                                                                 6 to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omain                                                       5 to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ta-system                                        4 to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ystem                                   3 to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m                              2 to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attern                   1 to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nad          0 to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acet  -1 to 0</a:t>
            </a:r>
            <a:endParaRPr b="0" lang="en-US" sz="1800" spc="-1" strike="noStrike">
              <a:solidFill>
                <a:srgbClr val="000000"/>
              </a:solidFill>
              <a:latin typeface="Arial"/>
            </a:endParaRPr>
          </a:p>
        </p:txBody>
      </p:sp>
      <p:sp>
        <p:nvSpPr>
          <p:cNvPr id="363" name=""/>
          <p:cNvSpPr/>
          <p:nvPr/>
        </p:nvSpPr>
        <p:spPr>
          <a:xfrm>
            <a:off x="552600" y="5484960"/>
            <a:ext cx="8041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Rule: Two dimensions per Schema and Two Schemas per dimension</a:t>
            </a:r>
            <a:endParaRPr b="0" lang="en-US" sz="1800" spc="-1" strike="noStrike">
              <a:solidFill>
                <a:srgbClr val="000000"/>
              </a:solidFill>
              <a:latin typeface="Arial"/>
            </a:endParaRPr>
          </a:p>
        </p:txBody>
      </p:sp>
      <p:sp>
        <p:nvSpPr>
          <p:cNvPr id="364" name=""/>
          <p:cNvSpPr/>
          <p:nvPr/>
        </p:nvSpPr>
        <p:spPr>
          <a:xfrm>
            <a:off x="214200" y="2341440"/>
            <a:ext cx="859788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688480" y="193500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 Theory</a:t>
            </a:r>
            <a:endParaRPr b="0" lang="en-US" sz="1800" spc="-1" strike="noStrike">
              <a:solidFill>
                <a:srgbClr val="000000"/>
              </a:solidFill>
              <a:latin typeface="Arial"/>
            </a:endParaRPr>
          </a:p>
        </p:txBody>
      </p:sp>
      <p:sp>
        <p:nvSpPr>
          <p:cNvPr id="366" name=""/>
          <p:cNvSpPr/>
          <p:nvPr/>
        </p:nvSpPr>
        <p:spPr>
          <a:xfrm>
            <a:off x="6296760" y="18651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11</a:t>
            </a:r>
            <a:endParaRPr b="0" lang="en-US" sz="1800" spc="-1" strike="noStrike">
              <a:solidFill>
                <a:srgbClr val="000000"/>
              </a:solidFill>
              <a:latin typeface="Arial"/>
            </a:endParaRPr>
          </a:p>
        </p:txBody>
      </p:sp>
      <p:sp>
        <p:nvSpPr>
          <p:cNvPr id="367" name=""/>
          <p:cNvSpPr/>
          <p:nvPr/>
        </p:nvSpPr>
        <p:spPr>
          <a:xfrm>
            <a:off x="2664000" y="1560600"/>
            <a:ext cx="159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chronic</a:t>
            </a:r>
            <a:endParaRPr b="0" lang="en-US" sz="1800" spc="-1" strike="noStrike">
              <a:solidFill>
                <a:srgbClr val="000000"/>
              </a:solidFill>
              <a:latin typeface="Arial"/>
            </a:endParaRPr>
          </a:p>
        </p:txBody>
      </p:sp>
      <p:sp>
        <p:nvSpPr>
          <p:cNvPr id="368" name=""/>
          <p:cNvSpPr/>
          <p:nvPr/>
        </p:nvSpPr>
        <p:spPr>
          <a:xfrm>
            <a:off x="6330240" y="151920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14</a:t>
            </a:r>
            <a:endParaRPr b="0" lang="en-US" sz="1800" spc="-1" strike="noStrike">
              <a:solidFill>
                <a:srgbClr val="000000"/>
              </a:solidFill>
              <a:latin typeface="Arial"/>
            </a:endParaRPr>
          </a:p>
        </p:txBody>
      </p:sp>
      <p:sp>
        <p:nvSpPr>
          <p:cNvPr id="369" name=""/>
          <p:cNvSpPr/>
          <p:nvPr/>
        </p:nvSpPr>
        <p:spPr>
          <a:xfrm>
            <a:off x="439560" y="2352600"/>
            <a:ext cx="4550040" cy="2071800"/>
          </a:xfrm>
          <a:custGeom>
            <a:avLst/>
            <a:gdLst/>
            <a:ahLst/>
            <a:rect l="l" t="t" r="r" b="b"/>
            <a:pathLst>
              <a:path w="2866" h="1305">
                <a:moveTo>
                  <a:pt x="2866" y="1305"/>
                </a:moveTo>
                <a:cubicBezTo>
                  <a:pt x="2811" y="1175"/>
                  <a:pt x="2757" y="1045"/>
                  <a:pt x="2688" y="949"/>
                </a:cubicBezTo>
                <a:cubicBezTo>
                  <a:pt x="2619" y="853"/>
                  <a:pt x="2575" y="802"/>
                  <a:pt x="2451" y="729"/>
                </a:cubicBezTo>
                <a:cubicBezTo>
                  <a:pt x="2327" y="656"/>
                  <a:pt x="2117" y="566"/>
                  <a:pt x="1942" y="509"/>
                </a:cubicBezTo>
                <a:cubicBezTo>
                  <a:pt x="1767" y="452"/>
                  <a:pt x="1572" y="422"/>
                  <a:pt x="1400" y="390"/>
                </a:cubicBezTo>
                <a:cubicBezTo>
                  <a:pt x="1228" y="358"/>
                  <a:pt x="1118" y="371"/>
                  <a:pt x="909" y="314"/>
                </a:cubicBezTo>
                <a:cubicBezTo>
                  <a:pt x="700" y="257"/>
                  <a:pt x="294" y="102"/>
                  <a:pt x="147" y="51"/>
                </a:cubicBezTo>
                <a:cubicBezTo>
                  <a:pt x="0" y="0"/>
                  <a:pt x="14" y="4"/>
                  <a:pt x="28" y="9"/>
                </a:cubicBezTo>
              </a:path>
            </a:pathLst>
          </a:custGeom>
          <a:noFill/>
          <a:ln cap="rnd" w="57240">
            <a:solidFill>
              <a:srgbClr val="000000"/>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0" name=""/>
          <p:cNvSpPr/>
          <p:nvPr/>
        </p:nvSpPr>
        <p:spPr>
          <a:xfrm>
            <a:off x="403200" y="2367000"/>
            <a:ext cx="4384800" cy="2570040"/>
          </a:xfrm>
          <a:custGeom>
            <a:avLst/>
            <a:gdLst/>
            <a:ahLst/>
            <a:rect l="l" t="t" r="r" b="b"/>
            <a:pathLst>
              <a:path w="2762" h="1619">
                <a:moveTo>
                  <a:pt x="2762" y="1575"/>
                </a:moveTo>
                <a:cubicBezTo>
                  <a:pt x="2652" y="1579"/>
                  <a:pt x="2542" y="1583"/>
                  <a:pt x="2397" y="1584"/>
                </a:cubicBezTo>
                <a:cubicBezTo>
                  <a:pt x="2252" y="1585"/>
                  <a:pt x="2050" y="1619"/>
                  <a:pt x="1889" y="1584"/>
                </a:cubicBezTo>
                <a:cubicBezTo>
                  <a:pt x="1728" y="1549"/>
                  <a:pt x="1606" y="1481"/>
                  <a:pt x="1432" y="1372"/>
                </a:cubicBezTo>
                <a:cubicBezTo>
                  <a:pt x="1258" y="1263"/>
                  <a:pt x="1086" y="1161"/>
                  <a:pt x="847" y="932"/>
                </a:cubicBezTo>
                <a:cubicBezTo>
                  <a:pt x="608" y="703"/>
                  <a:pt x="141" y="155"/>
                  <a:pt x="0" y="0"/>
                </a:cubicBezTo>
              </a:path>
            </a:pathLst>
          </a:custGeom>
          <a:noFill/>
          <a:ln w="5724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
          <p:cNvSpPr/>
          <p:nvPr/>
        </p:nvSpPr>
        <p:spPr>
          <a:xfrm>
            <a:off x="4786200" y="4449600"/>
            <a:ext cx="351000" cy="511200"/>
          </a:xfrm>
          <a:prstGeom prst="ellipse">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7165080" y="2905200"/>
            <a:ext cx="1131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area</a:t>
            </a:r>
            <a:endParaRPr b="0" lang="en-US" sz="1800" spc="-1" strike="noStrike">
              <a:solidFill>
                <a:srgbClr val="000000"/>
              </a:solidFill>
              <a:latin typeface="Arial"/>
            </a:endParaRPr>
          </a:p>
        </p:txBody>
      </p:sp>
      <p:sp>
        <p:nvSpPr>
          <p:cNvPr id="373" name=""/>
          <p:cNvSpPr/>
          <p:nvPr/>
        </p:nvSpPr>
        <p:spPr>
          <a:xfrm>
            <a:off x="7175160" y="3483000"/>
            <a:ext cx="141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volume</a:t>
            </a:r>
            <a:endParaRPr b="0" lang="en-US" sz="1800" spc="-1" strike="noStrike">
              <a:solidFill>
                <a:srgbClr val="000000"/>
              </a:solidFill>
              <a:latin typeface="Arial"/>
            </a:endParaRPr>
          </a:p>
        </p:txBody>
      </p:sp>
      <p:sp>
        <p:nvSpPr>
          <p:cNvPr id="374" name=""/>
          <p:cNvSpPr/>
          <p:nvPr/>
        </p:nvSpPr>
        <p:spPr>
          <a:xfrm flipH="1">
            <a:off x="1841040" y="4356000"/>
            <a:ext cx="498600" cy="29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50280" y="4680000"/>
            <a:ext cx="2474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sphere volu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reas</a:t>
            </a:r>
            <a:endParaRPr b="0" lang="en-US" sz="1800" spc="-1" strike="noStrike">
              <a:solidFill>
                <a:srgbClr val="000000"/>
              </a:solidFill>
              <a:latin typeface="Arial"/>
            </a:endParaRPr>
          </a:p>
        </p:txBody>
      </p:sp>
      <p:sp>
        <p:nvSpPr>
          <p:cNvPr id="376" name=""/>
          <p:cNvSpPr/>
          <p:nvPr/>
        </p:nvSpPr>
        <p:spPr>
          <a:xfrm>
            <a:off x="-360" y="1544760"/>
            <a:ext cx="68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nity</a:t>
            </a:r>
            <a:endParaRPr b="0" lang="en-US" sz="1400" spc="-1" strike="noStrike">
              <a:solidFill>
                <a:srgbClr val="000000"/>
              </a:solidFill>
              <a:latin typeface="Arial"/>
            </a:endParaRPr>
          </a:p>
        </p:txBody>
      </p:sp>
      <p:sp>
        <p:nvSpPr>
          <p:cNvPr id="377" name=""/>
          <p:cNvSpPr/>
          <p:nvPr/>
        </p:nvSpPr>
        <p:spPr>
          <a:xfrm>
            <a:off x="230040" y="1801800"/>
            <a:ext cx="160560" cy="523800"/>
          </a:xfrm>
          <a:custGeom>
            <a:avLst/>
            <a:gdLst/>
            <a:ahLst/>
            <a:rect l="l" t="t" r="r" b="b"/>
            <a:pathLst>
              <a:path w="101" h="330">
                <a:moveTo>
                  <a:pt x="101" y="330"/>
                </a:moveTo>
                <a:cubicBezTo>
                  <a:pt x="88" y="310"/>
                  <a:pt x="75" y="291"/>
                  <a:pt x="67" y="271"/>
                </a:cubicBezTo>
                <a:cubicBezTo>
                  <a:pt x="59" y="251"/>
                  <a:pt x="60" y="246"/>
                  <a:pt x="50" y="212"/>
                </a:cubicBezTo>
                <a:cubicBezTo>
                  <a:pt x="40" y="178"/>
                  <a:pt x="14" y="103"/>
                  <a:pt x="7" y="68"/>
                </a:cubicBezTo>
                <a:cubicBezTo>
                  <a:pt x="0" y="33"/>
                  <a:pt x="3" y="16"/>
                  <a:pt x="7" y="0"/>
                </a:cubicBezTo>
              </a:path>
            </a:pathLst>
          </a:custGeom>
          <a:noFill/>
          <a:ln w="5724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8" name=""/>
          <p:cNvSpPr/>
          <p:nvPr/>
        </p:nvSpPr>
        <p:spPr>
          <a:xfrm>
            <a:off x="5460840" y="5014800"/>
            <a:ext cx="88920" cy="88920"/>
          </a:xfrm>
          <a:prstGeom prst="ellipse">
            <a:avLst/>
          </a:prstGeom>
          <a:solidFill>
            <a:srgbClr val="000000"/>
          </a:solidFill>
          <a:ln w="572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lonomic Systems</a:t>
            </a:r>
            <a:endParaRPr b="0" lang="en-US" sz="4400" spc="-1" strike="noStrike">
              <a:solidFill>
                <a:srgbClr val="000000"/>
              </a:solidFill>
              <a:latin typeface="Arial"/>
            </a:endParaRPr>
          </a:p>
        </p:txBody>
      </p:sp>
      <p:sp>
        <p:nvSpPr>
          <p:cNvPr id="380" name=""/>
          <p:cNvSpPr/>
          <p:nvPr/>
        </p:nvSpPr>
        <p:spPr>
          <a:xfrm>
            <a:off x="838080" y="1828800"/>
            <a:ext cx="79250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system = Whole </a:t>
            </a:r>
            <a:r>
              <a:rPr b="1" lang="en-US" sz="2400" spc="-1" strike="noStrike" u="sng">
                <a:solidFill>
                  <a:srgbClr val="000000"/>
                </a:solidFill>
                <a:uFillTx/>
                <a:latin typeface="Arial"/>
              </a:rPr>
              <a:t>less</a:t>
            </a:r>
            <a:r>
              <a:rPr b="1" lang="en-US" sz="2400" spc="-1" strike="noStrike">
                <a:solidFill>
                  <a:srgbClr val="000000"/>
                </a:solidFill>
                <a:latin typeface="Arial"/>
              </a:rPr>
              <a:t> than the sum of its par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flexi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utopoieti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sipativ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 Whole </a:t>
            </a:r>
            <a:r>
              <a:rPr b="1" lang="en-US" sz="2400" spc="-1" strike="noStrike" u="sng">
                <a:solidFill>
                  <a:srgbClr val="000000"/>
                </a:solidFill>
                <a:uFillTx/>
                <a:latin typeface="Arial"/>
              </a:rPr>
              <a:t>greater</a:t>
            </a:r>
            <a:r>
              <a:rPr b="1" lang="en-US" sz="2400" spc="-1" strike="noStrike">
                <a:solidFill>
                  <a:srgbClr val="000000"/>
                </a:solidFill>
                <a:latin typeface="Arial"/>
              </a:rPr>
              <a:t> than sum of is parts</a:t>
            </a:r>
            <a:endParaRPr b="0" lang="en-US" sz="2400" spc="-1" strike="noStrike">
              <a:solidFill>
                <a:srgbClr val="000000"/>
              </a:solidFill>
              <a:latin typeface="Arial"/>
            </a:endParaRPr>
          </a:p>
        </p:txBody>
      </p:sp>
      <p:sp>
        <p:nvSpPr>
          <p:cNvPr id="381" name=""/>
          <p:cNvSpPr/>
          <p:nvPr/>
        </p:nvSpPr>
        <p:spPr>
          <a:xfrm>
            <a:off x="4495680" y="2971800"/>
            <a:ext cx="152640" cy="1600200"/>
          </a:xfrm>
          <a:custGeom>
            <a:avLst/>
            <a:gdLst>
              <a:gd name="textAreaLeft" fmla="*/ 0 w 152640"/>
              <a:gd name="textAreaRight" fmla="*/ 55080 w 15264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800600" y="3352680"/>
            <a:ext cx="443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Whole </a:t>
            </a:r>
            <a:r>
              <a:rPr b="1" lang="en-US" sz="1800" spc="-1" strike="noStrike" u="sng">
                <a:solidFill>
                  <a:srgbClr val="000000"/>
                </a:solidFill>
                <a:uFillTx/>
                <a:latin typeface="Arial"/>
              </a:rPr>
              <a:t>exactly equal</a:t>
            </a:r>
            <a:r>
              <a:rPr b="1" lang="en-US" sz="1800" spc="-1" strike="noStrike">
                <a:solidFill>
                  <a:srgbClr val="000000"/>
                </a:solidFill>
                <a:latin typeface="Arial"/>
              </a:rPr>
              <a:t> to sum of pa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ergent Meta-system</a:t>
            </a:r>
            <a:endParaRPr b="0" lang="en-US" sz="4400" spc="-1" strike="noStrike">
              <a:solidFill>
                <a:srgbClr val="000000"/>
              </a:solidFill>
              <a:latin typeface="Arial"/>
            </a:endParaRPr>
          </a:p>
        </p:txBody>
      </p:sp>
      <p:sp>
        <p:nvSpPr>
          <p:cNvPr id="384" name=""/>
          <p:cNvSpPr/>
          <p:nvPr/>
        </p:nvSpPr>
        <p:spPr>
          <a:xfrm>
            <a:off x="533520" y="1676520"/>
            <a:ext cx="2133360" cy="4114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666880" y="2019240"/>
            <a:ext cx="1676520" cy="3429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343400" y="2247840"/>
            <a:ext cx="1295280" cy="2971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txBox="1"/>
          <p:nvPr/>
        </p:nvSpPr>
        <p:spPr>
          <a:xfrm rot="16200000">
            <a:off x="2128680" y="3409920"/>
            <a:ext cx="233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flexive</a:t>
            </a:r>
            <a:endParaRPr b="0" lang="en-US" sz="1800" spc="1" strike="noStrike">
              <a:ln w="9360">
                <a:solidFill>
                  <a:srgbClr val="000000"/>
                </a:solidFill>
                <a:miter/>
              </a:ln>
              <a:solidFill>
                <a:srgbClr val="ffffff"/>
              </a:solidFill>
              <a:latin typeface="Arial Black"/>
              <a:ea typeface="Arial Black"/>
            </a:endParaRPr>
          </a:p>
        </p:txBody>
      </p:sp>
      <p:sp>
        <p:nvSpPr>
          <p:cNvPr id="388" name=""/>
          <p:cNvSpPr txBox="1"/>
          <p:nvPr/>
        </p:nvSpPr>
        <p:spPr>
          <a:xfrm rot="16200000">
            <a:off x="3728880" y="3409920"/>
            <a:ext cx="233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utopoietic</a:t>
            </a:r>
            <a:endParaRPr b="0" lang="en-US" sz="1800" spc="1" strike="noStrike">
              <a:ln w="9360">
                <a:solidFill>
                  <a:srgbClr val="000000"/>
                </a:solidFill>
                <a:miter/>
              </a:ln>
              <a:solidFill>
                <a:srgbClr val="ffffff"/>
              </a:solidFill>
              <a:latin typeface="Arial Black"/>
              <a:ea typeface="Arial Black"/>
            </a:endParaRPr>
          </a:p>
        </p:txBody>
      </p:sp>
      <p:sp>
        <p:nvSpPr>
          <p:cNvPr id="389" name=""/>
          <p:cNvSpPr/>
          <p:nvPr/>
        </p:nvSpPr>
        <p:spPr>
          <a:xfrm>
            <a:off x="5638680" y="2362320"/>
            <a:ext cx="1219320" cy="27432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txBox="1"/>
          <p:nvPr/>
        </p:nvSpPr>
        <p:spPr>
          <a:xfrm rot="16200000">
            <a:off x="4852800" y="3409920"/>
            <a:ext cx="233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ssipative</a:t>
            </a:r>
            <a:endParaRPr b="0" lang="en-US" sz="1800" spc="1" strike="noStrike">
              <a:ln w="9360">
                <a:solidFill>
                  <a:srgbClr val="000000"/>
                </a:solidFill>
                <a:miter/>
              </a:ln>
              <a:solidFill>
                <a:srgbClr val="ffffff"/>
              </a:solidFill>
              <a:latin typeface="Arial Black"/>
              <a:ea typeface="Arial Black"/>
            </a:endParaRPr>
          </a:p>
        </p:txBody>
      </p:sp>
      <p:sp>
        <p:nvSpPr>
          <p:cNvPr id="391" name=""/>
          <p:cNvSpPr txBox="1"/>
          <p:nvPr/>
        </p:nvSpPr>
        <p:spPr>
          <a:xfrm rot="16200000">
            <a:off x="299880" y="3409920"/>
            <a:ext cx="233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eta-system</a:t>
            </a:r>
            <a:endParaRPr b="0" lang="en-US" sz="1800" spc="1" strike="noStrike">
              <a:ln w="9360">
                <a:solidFill>
                  <a:srgbClr val="000000"/>
                </a:solidFill>
                <a:miter/>
              </a:ln>
              <a:solidFill>
                <a:srgbClr val="ffffff"/>
              </a:solidFill>
              <a:latin typeface="Arial Black"/>
              <a:ea typeface="Arial Black"/>
            </a:endParaRPr>
          </a:p>
        </p:txBody>
      </p:sp>
      <p:sp>
        <p:nvSpPr>
          <p:cNvPr id="392" name=""/>
          <p:cNvSpPr/>
          <p:nvPr/>
        </p:nvSpPr>
        <p:spPr>
          <a:xfrm>
            <a:off x="1447920" y="57913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447920" y="6172200"/>
            <a:ext cx="6019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V="1">
            <a:off x="7467480" y="54097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txBox="1"/>
          <p:nvPr/>
        </p:nvSpPr>
        <p:spPr>
          <a:xfrm rot="4200">
            <a:off x="3351240" y="5638680"/>
            <a:ext cx="3659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mergence</a:t>
            </a:r>
            <a:endParaRPr b="0" lang="en-US" sz="1800" spc="1" strike="noStrike">
              <a:ln w="9360">
                <a:solidFill>
                  <a:srgbClr val="000000"/>
                </a:solidFill>
                <a:miter/>
              </a:ln>
              <a:solidFill>
                <a:srgbClr val="ffffff"/>
              </a:solidFill>
              <a:latin typeface="Arial Black"/>
              <a:ea typeface="Arial Black"/>
            </a:endParaRPr>
          </a:p>
        </p:txBody>
      </p:sp>
      <p:sp>
        <p:nvSpPr>
          <p:cNvPr id="396" name=""/>
          <p:cNvSpPr/>
          <p:nvPr/>
        </p:nvSpPr>
        <p:spPr>
          <a:xfrm rot="16200000">
            <a:off x="1230840" y="3420720"/>
            <a:ext cx="199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denion Algeb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Divisors</a:t>
            </a:r>
            <a:endParaRPr b="0" lang="en-US" sz="1800" spc="-1" strike="noStrike">
              <a:solidFill>
                <a:srgbClr val="000000"/>
              </a:solidFill>
              <a:latin typeface="Arial"/>
            </a:endParaRPr>
          </a:p>
        </p:txBody>
      </p:sp>
      <p:sp>
        <p:nvSpPr>
          <p:cNvPr id="397" name=""/>
          <p:cNvSpPr/>
          <p:nvPr/>
        </p:nvSpPr>
        <p:spPr>
          <a:xfrm rot="16200000">
            <a:off x="2992320" y="35492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nion  Algebra</a:t>
            </a:r>
            <a:endParaRPr b="0" lang="en-US" sz="1800" spc="-1" strike="noStrike">
              <a:solidFill>
                <a:srgbClr val="000000"/>
              </a:solidFill>
              <a:latin typeface="Arial"/>
            </a:endParaRPr>
          </a:p>
        </p:txBody>
      </p:sp>
      <p:sp>
        <p:nvSpPr>
          <p:cNvPr id="398" name=""/>
          <p:cNvSpPr/>
          <p:nvPr/>
        </p:nvSpPr>
        <p:spPr>
          <a:xfrm rot="16200000">
            <a:off x="4254840" y="3549240"/>
            <a:ext cx="2221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ternion  Algebra</a:t>
            </a:r>
            <a:endParaRPr b="0" lang="en-US" sz="1800" spc="-1" strike="noStrike">
              <a:solidFill>
                <a:srgbClr val="000000"/>
              </a:solidFill>
              <a:latin typeface="Arial"/>
            </a:endParaRPr>
          </a:p>
        </p:txBody>
      </p:sp>
      <p:sp>
        <p:nvSpPr>
          <p:cNvPr id="399" name=""/>
          <p:cNvSpPr/>
          <p:nvPr/>
        </p:nvSpPr>
        <p:spPr>
          <a:xfrm rot="16200000">
            <a:off x="5588640" y="3549960"/>
            <a:ext cx="199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Algebra</a:t>
            </a:r>
            <a:endParaRPr b="0" lang="en-US" sz="1800" spc="-1" strike="noStrike">
              <a:solidFill>
                <a:srgbClr val="000000"/>
              </a:solidFill>
              <a:latin typeface="Arial"/>
            </a:endParaRPr>
          </a:p>
        </p:txBody>
      </p:sp>
      <p:sp>
        <p:nvSpPr>
          <p:cNvPr id="400" name=""/>
          <p:cNvSpPr/>
          <p:nvPr/>
        </p:nvSpPr>
        <p:spPr>
          <a:xfrm>
            <a:off x="6858000" y="2476440"/>
            <a:ext cx="1371600" cy="2514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txBox="1"/>
          <p:nvPr/>
        </p:nvSpPr>
        <p:spPr>
          <a:xfrm rot="16200000">
            <a:off x="6167520" y="3409920"/>
            <a:ext cx="2333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ystem</a:t>
            </a:r>
            <a:endParaRPr b="0" lang="en-US" sz="1800" spc="1" strike="noStrike">
              <a:ln w="9360">
                <a:solidFill>
                  <a:srgbClr val="000000"/>
                </a:solidFill>
                <a:miter/>
              </a:ln>
              <a:solidFill>
                <a:srgbClr val="ffffff"/>
              </a:solidFill>
              <a:latin typeface="Arial Black"/>
              <a:ea typeface="Arial Black"/>
            </a:endParaRPr>
          </a:p>
        </p:txBody>
      </p:sp>
      <p:sp>
        <p:nvSpPr>
          <p:cNvPr id="402" name=""/>
          <p:cNvSpPr/>
          <p:nvPr/>
        </p:nvSpPr>
        <p:spPr>
          <a:xfrm rot="16200000">
            <a:off x="7143840" y="3527640"/>
            <a:ext cx="162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Algebra</a:t>
            </a:r>
            <a:endParaRPr b="0" lang="en-US" sz="1800" spc="-1" strike="noStrike">
              <a:solidFill>
                <a:srgbClr val="000000"/>
              </a:solidFill>
              <a:latin typeface="Arial"/>
            </a:endParaRPr>
          </a:p>
        </p:txBody>
      </p:sp>
      <p:sp>
        <p:nvSpPr>
          <p:cNvPr id="403" name=""/>
          <p:cNvSpPr/>
          <p:nvPr/>
        </p:nvSpPr>
        <p:spPr>
          <a:xfrm>
            <a:off x="6860520" y="502920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lost conjugate</a:t>
            </a:r>
            <a:endParaRPr b="0" lang="en-US" sz="1800" spc="-1" strike="noStrike">
              <a:solidFill>
                <a:srgbClr val="000000"/>
              </a:solidFill>
              <a:latin typeface="Arial"/>
            </a:endParaRPr>
          </a:p>
        </p:txBody>
      </p:sp>
      <p:sp>
        <p:nvSpPr>
          <p:cNvPr id="404" name=""/>
          <p:cNvSpPr/>
          <p:nvPr/>
        </p:nvSpPr>
        <p:spPr>
          <a:xfrm>
            <a:off x="5640120" y="2057400"/>
            <a:ext cx="2225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lost commutative</a:t>
            </a:r>
            <a:endParaRPr b="0" lang="en-US" sz="1800" spc="-1" strike="noStrike">
              <a:solidFill>
                <a:srgbClr val="000000"/>
              </a:solidFill>
              <a:latin typeface="Arial"/>
            </a:endParaRPr>
          </a:p>
        </p:txBody>
      </p:sp>
      <p:sp>
        <p:nvSpPr>
          <p:cNvPr id="405" name=""/>
          <p:cNvSpPr/>
          <p:nvPr/>
        </p:nvSpPr>
        <p:spPr>
          <a:xfrm>
            <a:off x="4345200" y="1828800"/>
            <a:ext cx="2059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lost associative</a:t>
            </a:r>
            <a:endParaRPr b="0" lang="en-US" sz="1800" spc="-1" strike="noStrike">
              <a:solidFill>
                <a:srgbClr val="000000"/>
              </a:solidFill>
              <a:latin typeface="Arial"/>
            </a:endParaRPr>
          </a:p>
        </p:txBody>
      </p:sp>
      <p:sp>
        <p:nvSpPr>
          <p:cNvPr id="406" name=""/>
          <p:cNvSpPr/>
          <p:nvPr/>
        </p:nvSpPr>
        <p:spPr>
          <a:xfrm>
            <a:off x="2656440" y="1600200"/>
            <a:ext cx="169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lost division</a:t>
            </a:r>
            <a:endParaRPr b="0" lang="en-US" sz="1800" spc="-1" strike="noStrike">
              <a:solidFill>
                <a:srgbClr val="000000"/>
              </a:solidFill>
              <a:latin typeface="Arial"/>
            </a:endParaRPr>
          </a:p>
        </p:txBody>
      </p:sp>
      <p:sp>
        <p:nvSpPr>
          <p:cNvPr id="407" name=""/>
          <p:cNvSpPr/>
          <p:nvPr/>
        </p:nvSpPr>
        <p:spPr>
          <a:xfrm flipH="1">
            <a:off x="1599840" y="1447920"/>
            <a:ext cx="6172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51760" y="1081080"/>
            <a:ext cx="158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30200" y="112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a-system Primer</a:t>
            </a:r>
            <a:br>
              <a:rPr sz="4000"/>
            </a:br>
            <a:r>
              <a:rPr b="0" lang="en-US" sz="4000" spc="-1" strike="noStrike">
                <a:solidFill>
                  <a:srgbClr val="000000"/>
                </a:solidFill>
                <a:latin typeface="Arial"/>
              </a:rPr>
              <a:t>End</a:t>
            </a:r>
            <a:endParaRPr b="0" lang="en-US" sz="4000" spc="-1" strike="noStrike">
              <a:solidFill>
                <a:srgbClr val="000000"/>
              </a:solidFill>
              <a:latin typeface="Arial"/>
            </a:endParaRPr>
          </a:p>
        </p:txBody>
      </p:sp>
      <p:sp>
        <p:nvSpPr>
          <p:cNvPr id="410" name="Rectangle 3"/>
          <p:cNvSpPr/>
          <p:nvPr/>
        </p:nvSpPr>
        <p:spPr>
          <a:xfrm>
            <a:off x="1143000" y="2743200"/>
            <a:ext cx="7238880" cy="3048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 D. Palmer</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t@palmer.nam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archonic.ne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holonomic.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system Primer</a:t>
            </a:r>
            <a:endParaRPr b="0" lang="en-US" sz="4400" spc="-1" strike="noStrike">
              <a:solidFill>
                <a:srgbClr val="000000"/>
              </a:solidFill>
              <a:latin typeface="Arial"/>
            </a:endParaRPr>
          </a:p>
        </p:txBody>
      </p:sp>
      <p:sp>
        <p:nvSpPr>
          <p:cNvPr id="53" name=""/>
          <p:cNvSpPr txBox="1"/>
          <p:nvPr/>
        </p:nvSpPr>
        <p:spPr>
          <a:xfrm>
            <a:off x="457200" y="1295280"/>
            <a:ext cx="8229600" cy="518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brief primer will help readers to understand the papers associated with this con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understand the points of my paper it is necessary to explain Meta-systems in relation to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systems offer a different way to look at things tha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different Schemas</a:t>
            </a:r>
            <a:endParaRPr b="0" lang="en-US" sz="4400" spc="-1" strike="noStrike">
              <a:solidFill>
                <a:srgbClr val="000000"/>
              </a:solidFill>
              <a:latin typeface="Arial"/>
            </a:endParaRPr>
          </a:p>
        </p:txBody>
      </p:sp>
      <p:sp>
        <p:nvSpPr>
          <p:cNvPr id="55" name="TextBox 3"/>
          <p:cNvSpPr/>
          <p:nvPr/>
        </p:nvSpPr>
        <p:spPr>
          <a:xfrm>
            <a:off x="987840" y="2286000"/>
            <a:ext cx="656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System </a:t>
            </a:r>
            <a:r>
              <a:rPr b="1" lang="en-US" sz="4000" spc="-1" strike="noStrike">
                <a:solidFill>
                  <a:srgbClr val="000000"/>
                </a:solidFill>
                <a:latin typeface="Times New Roman"/>
                <a:ea typeface="Times New Roman"/>
              </a:rPr>
              <a:t>≠</a:t>
            </a:r>
            <a:r>
              <a:rPr b="0" lang="en-US" sz="3200" spc="-1" strike="noStrike">
                <a:solidFill>
                  <a:srgbClr val="000000"/>
                </a:solidFill>
                <a:latin typeface="Arial"/>
              </a:rPr>
              <a:t> System of Systems</a:t>
            </a:r>
            <a:endParaRPr b="0" lang="en-US" sz="3200" spc="-1" strike="noStrike">
              <a:solidFill>
                <a:srgbClr val="000000"/>
              </a:solidFill>
              <a:latin typeface="Arial"/>
            </a:endParaRPr>
          </a:p>
        </p:txBody>
      </p:sp>
      <p:sp>
        <p:nvSpPr>
          <p:cNvPr id="56" name=""/>
          <p:cNvSpPr/>
          <p:nvPr/>
        </p:nvSpPr>
        <p:spPr>
          <a:xfrm>
            <a:off x="4877280" y="4114800"/>
            <a:ext cx="153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a:t>
            </a:r>
            <a:endParaRPr b="0" lang="en-US" sz="3200" spc="-1" strike="noStrike">
              <a:solidFill>
                <a:srgbClr val="000000"/>
              </a:solidFill>
              <a:latin typeface="Arial"/>
            </a:endParaRPr>
          </a:p>
        </p:txBody>
      </p:sp>
      <p:sp>
        <p:nvSpPr>
          <p:cNvPr id="57" name=""/>
          <p:cNvSpPr/>
          <p:nvPr/>
        </p:nvSpPr>
        <p:spPr>
          <a:xfrm>
            <a:off x="4726800" y="289548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system)</a:t>
            </a:r>
            <a:endParaRPr b="0" lang="en-US" sz="1800" spc="-1" strike="noStrike">
              <a:solidFill>
                <a:srgbClr val="000000"/>
              </a:solidFill>
              <a:latin typeface="Arial"/>
            </a:endParaRPr>
          </a:p>
        </p:txBody>
      </p:sp>
      <p:sp>
        <p:nvSpPr>
          <p:cNvPr id="58" name=""/>
          <p:cNvSpPr/>
          <p:nvPr/>
        </p:nvSpPr>
        <p:spPr>
          <a:xfrm>
            <a:off x="5638680" y="4648320"/>
            <a:ext cx="0" cy="8380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571640" y="5486400"/>
            <a:ext cx="232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ystem</a:t>
            </a:r>
            <a:endParaRPr b="0" lang="en-US" sz="3200" spc="-1" strike="noStrike">
              <a:solidFill>
                <a:srgbClr val="000000"/>
              </a:solidFill>
              <a:latin typeface="Arial"/>
            </a:endParaRPr>
          </a:p>
        </p:txBody>
      </p:sp>
      <p:sp>
        <p:nvSpPr>
          <p:cNvPr id="60" name=""/>
          <p:cNvSpPr/>
          <p:nvPr/>
        </p:nvSpPr>
        <p:spPr>
          <a:xfrm>
            <a:off x="5638680" y="3352680"/>
            <a:ext cx="0" cy="8384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chem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ed organization of envelopes of spacetime which is a template for the pre-understanding of perceptual o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System” is over-used and has lost its meaning. To get that meaning back we must compare it with other similar concepts of the same type that have a family resemblance but at different sc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the term Schema is discussed by Umberto Eco in </a:t>
            </a:r>
            <a:r>
              <a:rPr b="0" lang="en-US" sz="2400" spc="-1" strike="noStrike" u="sng">
                <a:solidFill>
                  <a:srgbClr val="000000"/>
                </a:solidFill>
                <a:uFillTx/>
                <a:latin typeface="Arial"/>
              </a:rPr>
              <a:t>Kant and the Platyp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hema we mean what he calls the “Mathematical and Geometrical Schemas,” not the many other meanings of the term he mentions. This is the most basic type of schema, i.e. the type that allows us to reference an object in space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 and Meta-system Formalization</a:t>
            </a:r>
            <a:endParaRPr b="0" lang="en-US" sz="4000" spc="-1" strike="noStrike">
              <a:solidFill>
                <a:srgbClr val="000000"/>
              </a:solidFill>
              <a:latin typeface="Arial"/>
            </a:endParaRPr>
          </a:p>
        </p:txBody>
      </p:sp>
      <p:sp>
        <p:nvSpPr>
          <p:cNvPr id="64" name=""/>
          <p:cNvSpPr/>
          <p:nvPr/>
        </p:nvSpPr>
        <p:spPr>
          <a:xfrm>
            <a:off x="2736720" y="5065560"/>
            <a:ext cx="36705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ing Mach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revich Abstract State Machine)</a:t>
            </a:r>
            <a:endParaRPr b="0" lang="en-US" sz="1800" spc="-1" strike="noStrike">
              <a:solidFill>
                <a:srgbClr val="000000"/>
              </a:solidFill>
              <a:latin typeface="Arial"/>
            </a:endParaRPr>
          </a:p>
        </p:txBody>
      </p:sp>
      <p:sp>
        <p:nvSpPr>
          <p:cNvPr id="65" name=""/>
          <p:cNvSpPr/>
          <p:nvPr/>
        </p:nvSpPr>
        <p:spPr>
          <a:xfrm>
            <a:off x="1137240" y="2362320"/>
            <a:ext cx="27226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 Turing Mach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dynamic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negative feedb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392080" y="2362320"/>
            <a:ext cx="296352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perating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al Turing Mach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dynamic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positive feedb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flipV="1">
            <a:off x="4648320" y="3885840"/>
            <a:ext cx="190476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2743200" y="3809520"/>
            <a:ext cx="1905120" cy="1143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taille “Accursed Shar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Ec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wat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lessness of the high se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racy, reflaging ships, contraband and smuggling</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ed Ec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 states control what is within their borders, ide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ly the state is a meta-system inside = black and grey markets, barter and gi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1219320"/>
            <a:ext cx="6454800" cy="5268960"/>
          </a:xfrm>
          <a:custGeom>
            <a:avLst/>
            <a:gdLst/>
            <a:ahLst/>
            <a:rect l="l" t="t" r="r" b="b"/>
            <a:pathLst>
              <a:path w="4066" h="3319">
                <a:moveTo>
                  <a:pt x="224" y="724"/>
                </a:moveTo>
                <a:cubicBezTo>
                  <a:pt x="226" y="644"/>
                  <a:pt x="207" y="559"/>
                  <a:pt x="235" y="484"/>
                </a:cubicBezTo>
                <a:cubicBezTo>
                  <a:pt x="258" y="422"/>
                  <a:pt x="330" y="380"/>
                  <a:pt x="389" y="359"/>
                </a:cubicBezTo>
                <a:cubicBezTo>
                  <a:pt x="451" y="364"/>
                  <a:pt x="506" y="371"/>
                  <a:pt x="566" y="382"/>
                </a:cubicBezTo>
                <a:cubicBezTo>
                  <a:pt x="618" y="407"/>
                  <a:pt x="615" y="398"/>
                  <a:pt x="692" y="393"/>
                </a:cubicBezTo>
                <a:cubicBezTo>
                  <a:pt x="733" y="382"/>
                  <a:pt x="770" y="358"/>
                  <a:pt x="811" y="347"/>
                </a:cubicBezTo>
                <a:cubicBezTo>
                  <a:pt x="824" y="343"/>
                  <a:pt x="851" y="336"/>
                  <a:pt x="851" y="336"/>
                </a:cubicBezTo>
                <a:cubicBezTo>
                  <a:pt x="881" y="316"/>
                  <a:pt x="889" y="313"/>
                  <a:pt x="920" y="302"/>
                </a:cubicBezTo>
                <a:cubicBezTo>
                  <a:pt x="965" y="270"/>
                  <a:pt x="944" y="278"/>
                  <a:pt x="977" y="268"/>
                </a:cubicBezTo>
                <a:cubicBezTo>
                  <a:pt x="992" y="252"/>
                  <a:pt x="1008" y="246"/>
                  <a:pt x="1028" y="239"/>
                </a:cubicBezTo>
                <a:cubicBezTo>
                  <a:pt x="1086" y="196"/>
                  <a:pt x="1152" y="184"/>
                  <a:pt x="1222" y="171"/>
                </a:cubicBezTo>
                <a:cubicBezTo>
                  <a:pt x="1355" y="174"/>
                  <a:pt x="1473" y="184"/>
                  <a:pt x="1604" y="171"/>
                </a:cubicBezTo>
                <a:cubicBezTo>
                  <a:pt x="1646" y="160"/>
                  <a:pt x="1687" y="149"/>
                  <a:pt x="1730" y="142"/>
                </a:cubicBezTo>
                <a:cubicBezTo>
                  <a:pt x="1781" y="124"/>
                  <a:pt x="1836" y="109"/>
                  <a:pt x="1884" y="85"/>
                </a:cubicBezTo>
                <a:cubicBezTo>
                  <a:pt x="1932" y="61"/>
                  <a:pt x="1972" y="41"/>
                  <a:pt x="2026" y="34"/>
                </a:cubicBezTo>
                <a:cubicBezTo>
                  <a:pt x="2065" y="20"/>
                  <a:pt x="2105" y="9"/>
                  <a:pt x="2146" y="0"/>
                </a:cubicBezTo>
                <a:cubicBezTo>
                  <a:pt x="2199" y="2"/>
                  <a:pt x="2253" y="1"/>
                  <a:pt x="2306" y="5"/>
                </a:cubicBezTo>
                <a:cubicBezTo>
                  <a:pt x="2342" y="8"/>
                  <a:pt x="2379" y="29"/>
                  <a:pt x="2414" y="39"/>
                </a:cubicBezTo>
                <a:cubicBezTo>
                  <a:pt x="2445" y="48"/>
                  <a:pt x="2469" y="66"/>
                  <a:pt x="2500" y="74"/>
                </a:cubicBezTo>
                <a:cubicBezTo>
                  <a:pt x="2513" y="78"/>
                  <a:pt x="2539" y="85"/>
                  <a:pt x="2539" y="85"/>
                </a:cubicBezTo>
                <a:cubicBezTo>
                  <a:pt x="2547" y="91"/>
                  <a:pt x="2553" y="98"/>
                  <a:pt x="2562" y="102"/>
                </a:cubicBezTo>
                <a:cubicBezTo>
                  <a:pt x="2569" y="106"/>
                  <a:pt x="2579" y="103"/>
                  <a:pt x="2585" y="108"/>
                </a:cubicBezTo>
                <a:cubicBezTo>
                  <a:pt x="2590" y="112"/>
                  <a:pt x="2587" y="120"/>
                  <a:pt x="2591" y="125"/>
                </a:cubicBezTo>
                <a:cubicBezTo>
                  <a:pt x="2599" y="136"/>
                  <a:pt x="2619" y="154"/>
                  <a:pt x="2619" y="154"/>
                </a:cubicBezTo>
                <a:cubicBezTo>
                  <a:pt x="2947" y="138"/>
                  <a:pt x="3314" y="61"/>
                  <a:pt x="3623" y="182"/>
                </a:cubicBezTo>
                <a:cubicBezTo>
                  <a:pt x="3680" y="259"/>
                  <a:pt x="3593" y="147"/>
                  <a:pt x="3669" y="222"/>
                </a:cubicBezTo>
                <a:cubicBezTo>
                  <a:pt x="3693" y="245"/>
                  <a:pt x="3683" y="257"/>
                  <a:pt x="3714" y="268"/>
                </a:cubicBezTo>
                <a:cubicBezTo>
                  <a:pt x="3731" y="284"/>
                  <a:pt x="3743" y="303"/>
                  <a:pt x="3760" y="319"/>
                </a:cubicBezTo>
                <a:cubicBezTo>
                  <a:pt x="3766" y="335"/>
                  <a:pt x="3769" y="356"/>
                  <a:pt x="3777" y="370"/>
                </a:cubicBezTo>
                <a:cubicBezTo>
                  <a:pt x="3787" y="387"/>
                  <a:pt x="3789" y="378"/>
                  <a:pt x="3800" y="393"/>
                </a:cubicBezTo>
                <a:cubicBezTo>
                  <a:pt x="3816" y="416"/>
                  <a:pt x="3822" y="435"/>
                  <a:pt x="3828" y="461"/>
                </a:cubicBezTo>
                <a:cubicBezTo>
                  <a:pt x="3819" y="554"/>
                  <a:pt x="3789" y="607"/>
                  <a:pt x="3754" y="690"/>
                </a:cubicBezTo>
                <a:cubicBezTo>
                  <a:pt x="3761" y="801"/>
                  <a:pt x="3749" y="914"/>
                  <a:pt x="3851" y="980"/>
                </a:cubicBezTo>
                <a:cubicBezTo>
                  <a:pt x="3872" y="993"/>
                  <a:pt x="3884" y="1013"/>
                  <a:pt x="3908" y="1020"/>
                </a:cubicBezTo>
                <a:cubicBezTo>
                  <a:pt x="3917" y="1029"/>
                  <a:pt x="3921" y="1041"/>
                  <a:pt x="3931" y="1049"/>
                </a:cubicBezTo>
                <a:cubicBezTo>
                  <a:pt x="3938" y="1054"/>
                  <a:pt x="3947" y="1056"/>
                  <a:pt x="3954" y="1060"/>
                </a:cubicBezTo>
                <a:cubicBezTo>
                  <a:pt x="3960" y="1063"/>
                  <a:pt x="3966" y="1067"/>
                  <a:pt x="3971" y="1072"/>
                </a:cubicBezTo>
                <a:cubicBezTo>
                  <a:pt x="3989" y="1087"/>
                  <a:pt x="4000" y="1107"/>
                  <a:pt x="4017" y="1123"/>
                </a:cubicBezTo>
                <a:cubicBezTo>
                  <a:pt x="4066" y="1347"/>
                  <a:pt x="4027" y="1161"/>
                  <a:pt x="4017" y="1767"/>
                </a:cubicBezTo>
                <a:cubicBezTo>
                  <a:pt x="4016" y="1847"/>
                  <a:pt x="3986" y="1971"/>
                  <a:pt x="3959" y="2047"/>
                </a:cubicBezTo>
                <a:cubicBezTo>
                  <a:pt x="3916" y="2169"/>
                  <a:pt x="3950" y="2310"/>
                  <a:pt x="3845" y="2406"/>
                </a:cubicBezTo>
                <a:cubicBezTo>
                  <a:pt x="3839" y="2427"/>
                  <a:pt x="3804" y="2450"/>
                  <a:pt x="3783" y="2463"/>
                </a:cubicBezTo>
                <a:cubicBezTo>
                  <a:pt x="3766" y="2487"/>
                  <a:pt x="3749" y="2491"/>
                  <a:pt x="3726" y="2509"/>
                </a:cubicBezTo>
                <a:cubicBezTo>
                  <a:pt x="3691" y="2536"/>
                  <a:pt x="3660" y="2581"/>
                  <a:pt x="3617" y="2594"/>
                </a:cubicBezTo>
                <a:cubicBezTo>
                  <a:pt x="3602" y="2618"/>
                  <a:pt x="3590" y="2614"/>
                  <a:pt x="3566" y="2629"/>
                </a:cubicBezTo>
                <a:cubicBezTo>
                  <a:pt x="3545" y="2642"/>
                  <a:pt x="3526" y="2661"/>
                  <a:pt x="3503" y="2669"/>
                </a:cubicBezTo>
                <a:cubicBezTo>
                  <a:pt x="3495" y="2676"/>
                  <a:pt x="3488" y="2683"/>
                  <a:pt x="3480" y="2691"/>
                </a:cubicBezTo>
                <a:cubicBezTo>
                  <a:pt x="3470" y="2701"/>
                  <a:pt x="3452" y="2720"/>
                  <a:pt x="3452" y="2720"/>
                </a:cubicBezTo>
                <a:cubicBezTo>
                  <a:pt x="3429" y="2695"/>
                  <a:pt x="3407" y="2725"/>
                  <a:pt x="3383" y="2737"/>
                </a:cubicBezTo>
                <a:cubicBezTo>
                  <a:pt x="3355" y="2781"/>
                  <a:pt x="3337" y="2839"/>
                  <a:pt x="3292" y="2868"/>
                </a:cubicBezTo>
                <a:cubicBezTo>
                  <a:pt x="3277" y="2892"/>
                  <a:pt x="3260" y="2892"/>
                  <a:pt x="3235" y="2908"/>
                </a:cubicBezTo>
                <a:cubicBezTo>
                  <a:pt x="3215" y="2921"/>
                  <a:pt x="3207" y="2935"/>
                  <a:pt x="3184" y="2942"/>
                </a:cubicBezTo>
                <a:cubicBezTo>
                  <a:pt x="3150" y="2976"/>
                  <a:pt x="3105" y="2992"/>
                  <a:pt x="3064" y="3016"/>
                </a:cubicBezTo>
                <a:cubicBezTo>
                  <a:pt x="3052" y="3023"/>
                  <a:pt x="3043" y="3036"/>
                  <a:pt x="3030" y="3039"/>
                </a:cubicBezTo>
                <a:cubicBezTo>
                  <a:pt x="2986" y="3048"/>
                  <a:pt x="3011" y="3044"/>
                  <a:pt x="2956" y="3051"/>
                </a:cubicBezTo>
                <a:cubicBezTo>
                  <a:pt x="2846" y="3093"/>
                  <a:pt x="2949" y="3072"/>
                  <a:pt x="2705" y="3079"/>
                </a:cubicBezTo>
                <a:cubicBezTo>
                  <a:pt x="2701" y="3083"/>
                  <a:pt x="2696" y="3086"/>
                  <a:pt x="2693" y="3091"/>
                </a:cubicBezTo>
                <a:cubicBezTo>
                  <a:pt x="2690" y="3096"/>
                  <a:pt x="2692" y="3103"/>
                  <a:pt x="2688" y="3108"/>
                </a:cubicBezTo>
                <a:cubicBezTo>
                  <a:pt x="2679" y="3119"/>
                  <a:pt x="2654" y="3134"/>
                  <a:pt x="2642" y="3142"/>
                </a:cubicBezTo>
                <a:cubicBezTo>
                  <a:pt x="2625" y="3177"/>
                  <a:pt x="2595" y="3243"/>
                  <a:pt x="2557" y="3256"/>
                </a:cubicBezTo>
                <a:cubicBezTo>
                  <a:pt x="2553" y="3260"/>
                  <a:pt x="2550" y="3268"/>
                  <a:pt x="2545" y="3267"/>
                </a:cubicBezTo>
                <a:cubicBezTo>
                  <a:pt x="2519" y="3262"/>
                  <a:pt x="2497" y="3244"/>
                  <a:pt x="2471" y="3239"/>
                </a:cubicBezTo>
                <a:cubicBezTo>
                  <a:pt x="2412" y="3210"/>
                  <a:pt x="2449" y="3226"/>
                  <a:pt x="2357" y="3199"/>
                </a:cubicBezTo>
                <a:cubicBezTo>
                  <a:pt x="2340" y="3194"/>
                  <a:pt x="2323" y="3188"/>
                  <a:pt x="2306" y="3182"/>
                </a:cubicBezTo>
                <a:cubicBezTo>
                  <a:pt x="2294" y="3178"/>
                  <a:pt x="2271" y="3170"/>
                  <a:pt x="2271" y="3170"/>
                </a:cubicBezTo>
                <a:cubicBezTo>
                  <a:pt x="2255" y="3117"/>
                  <a:pt x="2190" y="3121"/>
                  <a:pt x="2146" y="3108"/>
                </a:cubicBezTo>
                <a:cubicBezTo>
                  <a:pt x="2148" y="3096"/>
                  <a:pt x="2158" y="3083"/>
                  <a:pt x="2152" y="3073"/>
                </a:cubicBezTo>
                <a:cubicBezTo>
                  <a:pt x="2148" y="3066"/>
                  <a:pt x="2137" y="3079"/>
                  <a:pt x="2129" y="3079"/>
                </a:cubicBezTo>
                <a:cubicBezTo>
                  <a:pt x="2101" y="3079"/>
                  <a:pt x="2099" y="3068"/>
                  <a:pt x="2072" y="3062"/>
                </a:cubicBezTo>
                <a:cubicBezTo>
                  <a:pt x="2051" y="3057"/>
                  <a:pt x="2009" y="3051"/>
                  <a:pt x="2009" y="3051"/>
                </a:cubicBezTo>
                <a:cubicBezTo>
                  <a:pt x="1984" y="3056"/>
                  <a:pt x="1957" y="3055"/>
                  <a:pt x="1935" y="3068"/>
                </a:cubicBezTo>
                <a:cubicBezTo>
                  <a:pt x="1909" y="3083"/>
                  <a:pt x="1885" y="3117"/>
                  <a:pt x="1861" y="3130"/>
                </a:cubicBezTo>
                <a:cubicBezTo>
                  <a:pt x="1827" y="3148"/>
                  <a:pt x="1789" y="3166"/>
                  <a:pt x="1752" y="3176"/>
                </a:cubicBezTo>
                <a:cubicBezTo>
                  <a:pt x="1731" y="3188"/>
                  <a:pt x="1714" y="3193"/>
                  <a:pt x="1690" y="3199"/>
                </a:cubicBezTo>
                <a:cubicBezTo>
                  <a:pt x="1675" y="3208"/>
                  <a:pt x="1661" y="3221"/>
                  <a:pt x="1644" y="3227"/>
                </a:cubicBezTo>
                <a:cubicBezTo>
                  <a:pt x="1638" y="3229"/>
                  <a:pt x="1632" y="3230"/>
                  <a:pt x="1627" y="3233"/>
                </a:cubicBezTo>
                <a:cubicBezTo>
                  <a:pt x="1610" y="3242"/>
                  <a:pt x="1598" y="3258"/>
                  <a:pt x="1581" y="3267"/>
                </a:cubicBezTo>
                <a:cubicBezTo>
                  <a:pt x="1548" y="3283"/>
                  <a:pt x="1553" y="3275"/>
                  <a:pt x="1524" y="3284"/>
                </a:cubicBezTo>
                <a:cubicBezTo>
                  <a:pt x="1484" y="3296"/>
                  <a:pt x="1446" y="3310"/>
                  <a:pt x="1405" y="3319"/>
                </a:cubicBezTo>
                <a:cubicBezTo>
                  <a:pt x="1304" y="3317"/>
                  <a:pt x="1203" y="3317"/>
                  <a:pt x="1102" y="3313"/>
                </a:cubicBezTo>
                <a:cubicBezTo>
                  <a:pt x="1031" y="3310"/>
                  <a:pt x="962" y="3286"/>
                  <a:pt x="891" y="3279"/>
                </a:cubicBezTo>
                <a:cubicBezTo>
                  <a:pt x="811" y="3251"/>
                  <a:pt x="911" y="3283"/>
                  <a:pt x="806" y="3262"/>
                </a:cubicBezTo>
                <a:cubicBezTo>
                  <a:pt x="787" y="3258"/>
                  <a:pt x="768" y="3249"/>
                  <a:pt x="749" y="3245"/>
                </a:cubicBezTo>
                <a:cubicBezTo>
                  <a:pt x="723" y="3232"/>
                  <a:pt x="697" y="3217"/>
                  <a:pt x="669" y="3210"/>
                </a:cubicBezTo>
                <a:cubicBezTo>
                  <a:pt x="645" y="3188"/>
                  <a:pt x="610" y="3173"/>
                  <a:pt x="583" y="3153"/>
                </a:cubicBezTo>
                <a:cubicBezTo>
                  <a:pt x="553" y="3131"/>
                  <a:pt x="539" y="3104"/>
                  <a:pt x="509" y="3085"/>
                </a:cubicBezTo>
                <a:cubicBezTo>
                  <a:pt x="490" y="3054"/>
                  <a:pt x="471" y="3025"/>
                  <a:pt x="452" y="2994"/>
                </a:cubicBezTo>
                <a:cubicBezTo>
                  <a:pt x="435" y="2914"/>
                  <a:pt x="448" y="2819"/>
                  <a:pt x="481" y="2743"/>
                </a:cubicBezTo>
                <a:cubicBezTo>
                  <a:pt x="496" y="2626"/>
                  <a:pt x="508" y="2509"/>
                  <a:pt x="538" y="2395"/>
                </a:cubicBezTo>
                <a:cubicBezTo>
                  <a:pt x="542" y="2341"/>
                  <a:pt x="569" y="2276"/>
                  <a:pt x="509" y="2247"/>
                </a:cubicBezTo>
                <a:cubicBezTo>
                  <a:pt x="472" y="2207"/>
                  <a:pt x="414" y="2179"/>
                  <a:pt x="361" y="2167"/>
                </a:cubicBezTo>
                <a:cubicBezTo>
                  <a:pt x="301" y="2125"/>
                  <a:pt x="392" y="2185"/>
                  <a:pt x="321" y="2150"/>
                </a:cubicBezTo>
                <a:cubicBezTo>
                  <a:pt x="297" y="2138"/>
                  <a:pt x="276" y="2118"/>
                  <a:pt x="253" y="2104"/>
                </a:cubicBezTo>
                <a:cubicBezTo>
                  <a:pt x="209" y="2077"/>
                  <a:pt x="185" y="2027"/>
                  <a:pt x="144" y="1996"/>
                </a:cubicBezTo>
                <a:cubicBezTo>
                  <a:pt x="119" y="1956"/>
                  <a:pt x="150" y="2001"/>
                  <a:pt x="110" y="1961"/>
                </a:cubicBezTo>
                <a:cubicBezTo>
                  <a:pt x="87" y="1938"/>
                  <a:pt x="72" y="1905"/>
                  <a:pt x="47" y="1882"/>
                </a:cubicBezTo>
                <a:cubicBezTo>
                  <a:pt x="32" y="1843"/>
                  <a:pt x="11" y="1816"/>
                  <a:pt x="2" y="1773"/>
                </a:cubicBezTo>
                <a:cubicBezTo>
                  <a:pt x="5" y="1718"/>
                  <a:pt x="0" y="1669"/>
                  <a:pt x="42" y="1631"/>
                </a:cubicBezTo>
                <a:cubicBezTo>
                  <a:pt x="53" y="1593"/>
                  <a:pt x="75" y="1574"/>
                  <a:pt x="99" y="1545"/>
                </a:cubicBezTo>
                <a:cubicBezTo>
                  <a:pt x="115" y="1526"/>
                  <a:pt x="126" y="1506"/>
                  <a:pt x="144" y="1488"/>
                </a:cubicBezTo>
                <a:cubicBezTo>
                  <a:pt x="165" y="1439"/>
                  <a:pt x="146" y="1476"/>
                  <a:pt x="167" y="1448"/>
                </a:cubicBezTo>
                <a:cubicBezTo>
                  <a:pt x="177" y="1435"/>
                  <a:pt x="196" y="1408"/>
                  <a:pt x="196" y="1408"/>
                </a:cubicBezTo>
                <a:cubicBezTo>
                  <a:pt x="202" y="1373"/>
                  <a:pt x="218" y="1344"/>
                  <a:pt x="230" y="1311"/>
                </a:cubicBezTo>
                <a:cubicBezTo>
                  <a:pt x="250" y="1255"/>
                  <a:pt x="261" y="1199"/>
                  <a:pt x="270" y="1140"/>
                </a:cubicBezTo>
                <a:cubicBezTo>
                  <a:pt x="275" y="1029"/>
                  <a:pt x="323" y="857"/>
                  <a:pt x="235" y="769"/>
                </a:cubicBezTo>
                <a:cubicBezTo>
                  <a:pt x="227" y="741"/>
                  <a:pt x="214" y="752"/>
                  <a:pt x="224" y="724"/>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Systems and Meta-systems</a:t>
            </a:r>
            <a:endParaRPr b="0" lang="en-US" sz="4000" spc="-1" strike="noStrike">
              <a:solidFill>
                <a:srgbClr val="000000"/>
              </a:solidFill>
              <a:latin typeface="Arial"/>
            </a:endParaRPr>
          </a:p>
        </p:txBody>
      </p:sp>
      <p:sp>
        <p:nvSpPr>
          <p:cNvPr id="74" name=""/>
          <p:cNvSpPr/>
          <p:nvPr/>
        </p:nvSpPr>
        <p:spPr>
          <a:xfrm>
            <a:off x="1181160" y="1828800"/>
            <a:ext cx="4267080" cy="3962520"/>
          </a:xfrm>
          <a:prstGeom prst="ellipse">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828800" y="2362320"/>
            <a:ext cx="2971800" cy="2895480"/>
          </a:xfrm>
          <a:prstGeom prst="ellipse">
            <a:avLst/>
          </a:prstGeom>
          <a:blipFill rotWithShape="0">
            <a:blip r:embed="rId3"/>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362320" y="2819520"/>
            <a:ext cx="1904760" cy="1981080"/>
          </a:xfrm>
          <a:prstGeom prst="ellipse">
            <a:avLst/>
          </a:prstGeom>
          <a:blipFill rotWithShape="0">
            <a:blip r:embed="rId4"/>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666880" y="3162240"/>
            <a:ext cx="1295640" cy="1295640"/>
          </a:xfrm>
          <a:prstGeom prst="ellipse">
            <a:avLst/>
          </a:prstGeom>
          <a:blipFill rotWithShape="0">
            <a:blip r:embed="rId5"/>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174720" y="5562720"/>
            <a:ext cx="2820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Do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ls are syst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s are meta-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system Characteristics</a:t>
            </a:r>
            <a:endParaRPr b="0" lang="en-US" sz="4400" spc="-1" strike="noStrike">
              <a:solidFill>
                <a:srgbClr val="000000"/>
              </a:solidFill>
              <a:latin typeface="Arial"/>
            </a:endParaRPr>
          </a:p>
        </p:txBody>
      </p:sp>
      <p:sp>
        <p:nvSpPr>
          <p:cNvPr id="80" name=""/>
          <p:cNvSpPr/>
          <p:nvPr/>
        </p:nvSpPr>
        <p:spPr>
          <a:xfrm>
            <a:off x="609480" y="1434960"/>
            <a:ext cx="8136000" cy="4783320"/>
          </a:xfrm>
          <a:custGeom>
            <a:avLst/>
            <a:gdLst/>
            <a:ahLst/>
            <a:rect l="l" t="t" r="r" b="b"/>
            <a:pathLst>
              <a:path w="5125" h="3013">
                <a:moveTo>
                  <a:pt x="0" y="1775"/>
                </a:moveTo>
                <a:cubicBezTo>
                  <a:pt x="160" y="1682"/>
                  <a:pt x="320" y="1589"/>
                  <a:pt x="432" y="1450"/>
                </a:cubicBezTo>
                <a:cubicBezTo>
                  <a:pt x="544" y="1310"/>
                  <a:pt x="600" y="1171"/>
                  <a:pt x="672" y="938"/>
                </a:cubicBezTo>
                <a:cubicBezTo>
                  <a:pt x="744" y="705"/>
                  <a:pt x="784" y="0"/>
                  <a:pt x="864" y="54"/>
                </a:cubicBezTo>
                <a:cubicBezTo>
                  <a:pt x="944" y="109"/>
                  <a:pt x="941" y="977"/>
                  <a:pt x="1152" y="1264"/>
                </a:cubicBezTo>
                <a:cubicBezTo>
                  <a:pt x="1363" y="1550"/>
                  <a:pt x="1888" y="1612"/>
                  <a:pt x="2130" y="1777"/>
                </a:cubicBezTo>
                <a:cubicBezTo>
                  <a:pt x="2372" y="1942"/>
                  <a:pt x="2465" y="2052"/>
                  <a:pt x="2604" y="2250"/>
                </a:cubicBezTo>
                <a:cubicBezTo>
                  <a:pt x="2743" y="2448"/>
                  <a:pt x="2830" y="3013"/>
                  <a:pt x="2964" y="2965"/>
                </a:cubicBezTo>
                <a:cubicBezTo>
                  <a:pt x="3098" y="2917"/>
                  <a:pt x="3190" y="2193"/>
                  <a:pt x="3408" y="1961"/>
                </a:cubicBezTo>
                <a:cubicBezTo>
                  <a:pt x="3626" y="1729"/>
                  <a:pt x="3985" y="1649"/>
                  <a:pt x="4271" y="1574"/>
                </a:cubicBezTo>
                <a:cubicBezTo>
                  <a:pt x="4557" y="1498"/>
                  <a:pt x="4947" y="1521"/>
                  <a:pt x="5125" y="15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39880" y="1219320"/>
            <a:ext cx="24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ositive Feedback +</a:t>
            </a:r>
            <a:endParaRPr b="0" lang="en-US" sz="1800" spc="-1" strike="noStrike">
              <a:solidFill>
                <a:srgbClr val="000000"/>
              </a:solidFill>
              <a:latin typeface="Arial"/>
            </a:endParaRPr>
          </a:p>
        </p:txBody>
      </p:sp>
      <p:sp>
        <p:nvSpPr>
          <p:cNvPr id="82" name=""/>
          <p:cNvSpPr/>
          <p:nvPr/>
        </p:nvSpPr>
        <p:spPr>
          <a:xfrm>
            <a:off x="4193640" y="617220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ositive Feedback -</a:t>
            </a:r>
            <a:endParaRPr b="0" lang="en-US" sz="1800" spc="-1" strike="noStrike">
              <a:solidFill>
                <a:srgbClr val="000000"/>
              </a:solidFill>
              <a:latin typeface="Arial"/>
            </a:endParaRPr>
          </a:p>
        </p:txBody>
      </p:sp>
      <p:sp>
        <p:nvSpPr>
          <p:cNvPr id="83" name=""/>
          <p:cNvSpPr/>
          <p:nvPr/>
        </p:nvSpPr>
        <p:spPr>
          <a:xfrm>
            <a:off x="3276720" y="3809880"/>
            <a:ext cx="685800" cy="609840"/>
          </a:xfrm>
          <a:prstGeom prst="ellipse">
            <a:avLst/>
          </a:prstGeom>
          <a:noFill/>
          <a:ln w="5724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25520" y="441972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a:t>
            </a:r>
            <a:endParaRPr b="0" lang="en-US" sz="1800" spc="-1" strike="noStrike">
              <a:solidFill>
                <a:srgbClr val="000000"/>
              </a:solidFill>
              <a:latin typeface="Arial"/>
            </a:endParaRPr>
          </a:p>
        </p:txBody>
      </p:sp>
      <p:sp>
        <p:nvSpPr>
          <p:cNvPr id="85" name=""/>
          <p:cNvSpPr/>
          <p:nvPr/>
        </p:nvSpPr>
        <p:spPr>
          <a:xfrm>
            <a:off x="4038480" y="3276720"/>
            <a:ext cx="2971800" cy="380880"/>
          </a:xfr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3966840" y="320040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feedback loop</a:t>
            </a:r>
            <a:endParaRPr b="0" lang="en-US" sz="1800" spc="-1" strike="noStrike">
              <a:solidFill>
                <a:srgbClr val="000000"/>
              </a:solidFill>
              <a:latin typeface="Arial"/>
            </a:endParaRPr>
          </a:p>
        </p:txBody>
      </p:sp>
      <p:sp>
        <p:nvSpPr>
          <p:cNvPr id="87" name=""/>
          <p:cNvSpPr/>
          <p:nvPr/>
        </p:nvSpPr>
        <p:spPr>
          <a:xfrm>
            <a:off x="17524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1905120" y="434304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057400" y="4800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981080" y="4952880"/>
            <a:ext cx="381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752480" y="49528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1371240" y="4876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1294920" y="4571640"/>
            <a:ext cx="381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1599840" y="4191120"/>
            <a:ext cx="152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31120" y="4648320"/>
            <a:ext cx="144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ularity &gt;</a:t>
            </a:r>
            <a:endParaRPr b="0" lang="en-US" sz="1800" spc="-1" strike="noStrike">
              <a:solidFill>
                <a:srgbClr val="000000"/>
              </a:solidFill>
              <a:latin typeface="Arial"/>
            </a:endParaRPr>
          </a:p>
        </p:txBody>
      </p:sp>
      <p:sp>
        <p:nvSpPr>
          <p:cNvPr id="96" name=""/>
          <p:cNvSpPr/>
          <p:nvPr/>
        </p:nvSpPr>
        <p:spPr>
          <a:xfrm>
            <a:off x="3962520" y="1447920"/>
            <a:ext cx="3047760" cy="903240"/>
          </a:xfrm>
          <a:custGeom>
            <a:avLst/>
            <a:gdLst/>
            <a:ahLst/>
            <a:rect l="l" t="t" r="r" b="b"/>
            <a:pathLst>
              <a:path w="1920" h="569">
                <a:moveTo>
                  <a:pt x="1354" y="0"/>
                </a:moveTo>
                <a:cubicBezTo>
                  <a:pt x="1285" y="50"/>
                  <a:pt x="1127" y="206"/>
                  <a:pt x="941" y="298"/>
                </a:cubicBezTo>
                <a:cubicBezTo>
                  <a:pt x="755" y="390"/>
                  <a:pt x="397" y="533"/>
                  <a:pt x="240" y="551"/>
                </a:cubicBezTo>
                <a:cubicBezTo>
                  <a:pt x="83" y="569"/>
                  <a:pt x="0" y="455"/>
                  <a:pt x="0" y="407"/>
                </a:cubicBezTo>
                <a:cubicBezTo>
                  <a:pt x="0" y="359"/>
                  <a:pt x="120" y="279"/>
                  <a:pt x="240" y="263"/>
                </a:cubicBezTo>
                <a:cubicBezTo>
                  <a:pt x="360" y="247"/>
                  <a:pt x="568" y="296"/>
                  <a:pt x="720" y="311"/>
                </a:cubicBezTo>
                <a:cubicBezTo>
                  <a:pt x="872" y="326"/>
                  <a:pt x="1047" y="344"/>
                  <a:pt x="1151" y="352"/>
                </a:cubicBezTo>
                <a:cubicBezTo>
                  <a:pt x="1255" y="360"/>
                  <a:pt x="1256" y="358"/>
                  <a:pt x="1344" y="359"/>
                </a:cubicBezTo>
                <a:cubicBezTo>
                  <a:pt x="1432" y="360"/>
                  <a:pt x="1584" y="375"/>
                  <a:pt x="1680" y="359"/>
                </a:cubicBezTo>
                <a:cubicBezTo>
                  <a:pt x="1776" y="343"/>
                  <a:pt x="1848" y="303"/>
                  <a:pt x="1920" y="2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114800" y="1600200"/>
            <a:ext cx="3048120" cy="903240"/>
          </a:xfrm>
          <a:custGeom>
            <a:avLst/>
            <a:gdLst/>
            <a:ahLst/>
            <a:rect l="l" t="t" r="r" b="b"/>
            <a:pathLst>
              <a:path w="1920" h="569">
                <a:moveTo>
                  <a:pt x="1354" y="0"/>
                </a:moveTo>
                <a:cubicBezTo>
                  <a:pt x="1285" y="50"/>
                  <a:pt x="1127" y="206"/>
                  <a:pt x="941" y="298"/>
                </a:cubicBezTo>
                <a:cubicBezTo>
                  <a:pt x="755" y="390"/>
                  <a:pt x="397" y="533"/>
                  <a:pt x="240" y="551"/>
                </a:cubicBezTo>
                <a:cubicBezTo>
                  <a:pt x="83" y="569"/>
                  <a:pt x="0" y="455"/>
                  <a:pt x="0" y="407"/>
                </a:cubicBezTo>
                <a:cubicBezTo>
                  <a:pt x="0" y="359"/>
                  <a:pt x="120" y="279"/>
                  <a:pt x="240" y="263"/>
                </a:cubicBezTo>
                <a:cubicBezTo>
                  <a:pt x="360" y="247"/>
                  <a:pt x="568" y="296"/>
                  <a:pt x="720" y="311"/>
                </a:cubicBezTo>
                <a:cubicBezTo>
                  <a:pt x="872" y="326"/>
                  <a:pt x="1047" y="344"/>
                  <a:pt x="1151" y="352"/>
                </a:cubicBezTo>
                <a:cubicBezTo>
                  <a:pt x="1255" y="360"/>
                  <a:pt x="1256" y="358"/>
                  <a:pt x="1344" y="359"/>
                </a:cubicBezTo>
                <a:cubicBezTo>
                  <a:pt x="1432" y="360"/>
                  <a:pt x="1584" y="375"/>
                  <a:pt x="1680" y="359"/>
                </a:cubicBezTo>
                <a:cubicBezTo>
                  <a:pt x="1776" y="343"/>
                  <a:pt x="1848" y="303"/>
                  <a:pt x="1920" y="2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95880" y="1447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10280" y="18288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48320" y="2362320"/>
            <a:ext cx="411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s continuity and discontinu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 Thom Catastrophe The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22:59:49Z</dcterms:created>
  <dc:creator>Kent Palmer</dc:creator>
  <dc:description/>
  <dc:language>en-US</dc:language>
  <cp:lastModifiedBy>Kent</cp:lastModifiedBy>
  <dcterms:modified xsi:type="dcterms:W3CDTF">2008-04-08T03:29:40Z</dcterms:modified>
  <cp:revision>34</cp:revision>
  <dc:subject/>
  <dc:title>Exploring Intelligent Enterprise System Limitations</dc:title>
</cp:coreProperties>
</file>